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FA51A-4FA8-49E7-95A6-EF551E71C5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E0FD2-3B61-487A-B1C6-2D46D1C8FC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31CBA-3292-4BF2-96BE-B52643B60E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167E0-D9D2-45F8-A71F-8486A4C7CE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3B306-C53C-46B8-8287-ACBBEA2C2E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F9159-377E-4936-A481-F04DEF4160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E4673-C36C-41A4-AEB9-49AC470007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FE474-ED35-4B14-895D-5CDDB2A274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BA9EF-08B5-46E4-BAD3-46DE89CCCD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21268-2462-4E01-A4FA-DB8CFE66A3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464-5636-460D-8371-C253E10F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6C1-4147-4A74-8BD7-CA5FBA2B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C22-4402-48F5-89EB-E6C13843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D39-932A-416A-95B6-D0E8209D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364-BAE5-4B36-B3FD-00F98B98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C96-9181-4966-8735-823E1B33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C6B2-646A-4402-8315-69D4B568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D37-3006-4FB2-898E-9C4F7738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27A-8D7B-4688-A27D-E828E62E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A82-9989-41C6-A4B7-ED9186E4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403-66B3-4159-A805-1840D89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CED-5729-4B8C-AD67-26A5AC08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4A4E4-268F-438F-AAB5-29952CB79A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08320" y="4055040"/>
            <a:ext cx="5052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在历史上，人类曾经创造出举世闻名的奇迹，然而随着时间的流逝，多数已消失在岁月的沙滩中，而埃及金字塔却依然屹立着。本文作者是怎样介绍金字塔的呢？这节课就让我们一起走进非洲沙漠，到古代的埃及去看一看那神秘的金字塔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7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匚”略长，“斤”大小与外框相协调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矩形 3"/>
          <p:cNvSpPr/>
          <p:nvPr/>
        </p:nvSpPr>
        <p:spPr>
          <a:xfrm>
            <a:off x="1998720" y="1868400"/>
            <a:ext cx="142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à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57"/>
          <p:cNvSpPr/>
          <p:nvPr/>
        </p:nvSpPr>
        <p:spPr>
          <a:xfrm>
            <a:off x="6886440" y="3770280"/>
            <a:ext cx="176400" cy="963720"/>
          </a:xfrm>
          <a:custGeom>
            <a:avLst/>
            <a:gdLst/>
            <a:ahLst/>
            <a:rect l="l" t="t" r="r" b="b"/>
            <a:pathLst>
              <a:path w="223" h="1213">
                <a:moveTo>
                  <a:pt x="94" y="1213"/>
                </a:moveTo>
                <a:lnTo>
                  <a:pt x="92" y="1213"/>
                </a:lnTo>
                <a:lnTo>
                  <a:pt x="88" y="1211"/>
                </a:lnTo>
                <a:lnTo>
                  <a:pt x="86" y="1211"/>
                </a:lnTo>
                <a:lnTo>
                  <a:pt x="83" y="1210"/>
                </a:lnTo>
                <a:lnTo>
                  <a:pt x="81" y="1208"/>
                </a:lnTo>
                <a:lnTo>
                  <a:pt x="79" y="1204"/>
                </a:lnTo>
                <a:lnTo>
                  <a:pt x="77" y="1202"/>
                </a:lnTo>
                <a:lnTo>
                  <a:pt x="73" y="1198"/>
                </a:lnTo>
                <a:lnTo>
                  <a:pt x="71" y="1192"/>
                </a:lnTo>
                <a:lnTo>
                  <a:pt x="69" y="1188"/>
                </a:lnTo>
                <a:lnTo>
                  <a:pt x="67" y="1183"/>
                </a:lnTo>
                <a:lnTo>
                  <a:pt x="65" y="1177"/>
                </a:lnTo>
                <a:lnTo>
                  <a:pt x="63" y="1171"/>
                </a:lnTo>
                <a:lnTo>
                  <a:pt x="61" y="1164"/>
                </a:lnTo>
                <a:lnTo>
                  <a:pt x="60" y="1156"/>
                </a:lnTo>
                <a:lnTo>
                  <a:pt x="58" y="1148"/>
                </a:lnTo>
                <a:lnTo>
                  <a:pt x="56" y="1140"/>
                </a:lnTo>
                <a:lnTo>
                  <a:pt x="54" y="1131"/>
                </a:lnTo>
                <a:lnTo>
                  <a:pt x="52" y="1121"/>
                </a:lnTo>
                <a:lnTo>
                  <a:pt x="50" y="1112"/>
                </a:lnTo>
                <a:lnTo>
                  <a:pt x="48" y="1102"/>
                </a:lnTo>
                <a:lnTo>
                  <a:pt x="46" y="1091"/>
                </a:lnTo>
                <a:lnTo>
                  <a:pt x="44" y="1079"/>
                </a:lnTo>
                <a:lnTo>
                  <a:pt x="42" y="1068"/>
                </a:lnTo>
                <a:lnTo>
                  <a:pt x="42" y="1054"/>
                </a:lnTo>
                <a:lnTo>
                  <a:pt x="40" y="1043"/>
                </a:lnTo>
                <a:lnTo>
                  <a:pt x="38" y="1029"/>
                </a:lnTo>
                <a:lnTo>
                  <a:pt x="37" y="1014"/>
                </a:lnTo>
                <a:lnTo>
                  <a:pt x="37" y="1000"/>
                </a:lnTo>
                <a:lnTo>
                  <a:pt x="35" y="985"/>
                </a:lnTo>
                <a:lnTo>
                  <a:pt x="33" y="970"/>
                </a:lnTo>
                <a:lnTo>
                  <a:pt x="31" y="954"/>
                </a:lnTo>
                <a:lnTo>
                  <a:pt x="31" y="937"/>
                </a:lnTo>
                <a:lnTo>
                  <a:pt x="29" y="920"/>
                </a:lnTo>
                <a:lnTo>
                  <a:pt x="27" y="901"/>
                </a:lnTo>
                <a:lnTo>
                  <a:pt x="27" y="881"/>
                </a:lnTo>
                <a:lnTo>
                  <a:pt x="25" y="862"/>
                </a:lnTo>
                <a:lnTo>
                  <a:pt x="23" y="841"/>
                </a:lnTo>
                <a:lnTo>
                  <a:pt x="23" y="818"/>
                </a:lnTo>
                <a:lnTo>
                  <a:pt x="21" y="797"/>
                </a:lnTo>
                <a:lnTo>
                  <a:pt x="21" y="774"/>
                </a:lnTo>
                <a:lnTo>
                  <a:pt x="21" y="749"/>
                </a:lnTo>
                <a:lnTo>
                  <a:pt x="19" y="724"/>
                </a:lnTo>
                <a:lnTo>
                  <a:pt x="19" y="697"/>
                </a:lnTo>
                <a:lnTo>
                  <a:pt x="17" y="670"/>
                </a:lnTo>
                <a:lnTo>
                  <a:pt x="17" y="643"/>
                </a:lnTo>
                <a:lnTo>
                  <a:pt x="15" y="615"/>
                </a:lnTo>
                <a:lnTo>
                  <a:pt x="15" y="586"/>
                </a:lnTo>
                <a:lnTo>
                  <a:pt x="15" y="555"/>
                </a:lnTo>
                <a:lnTo>
                  <a:pt x="13" y="524"/>
                </a:lnTo>
                <a:lnTo>
                  <a:pt x="13" y="492"/>
                </a:lnTo>
                <a:lnTo>
                  <a:pt x="12" y="459"/>
                </a:lnTo>
                <a:lnTo>
                  <a:pt x="12" y="426"/>
                </a:lnTo>
                <a:lnTo>
                  <a:pt x="12" y="392"/>
                </a:lnTo>
                <a:lnTo>
                  <a:pt x="10" y="355"/>
                </a:lnTo>
                <a:lnTo>
                  <a:pt x="10" y="319"/>
                </a:lnTo>
                <a:lnTo>
                  <a:pt x="8" y="283"/>
                </a:lnTo>
                <a:lnTo>
                  <a:pt x="8" y="246"/>
                </a:lnTo>
                <a:lnTo>
                  <a:pt x="6" y="206"/>
                </a:lnTo>
                <a:lnTo>
                  <a:pt x="4" y="167"/>
                </a:lnTo>
                <a:lnTo>
                  <a:pt x="4" y="127"/>
                </a:lnTo>
                <a:lnTo>
                  <a:pt x="2" y="85"/>
                </a:lnTo>
                <a:lnTo>
                  <a:pt x="0" y="43"/>
                </a:lnTo>
                <a:lnTo>
                  <a:pt x="0" y="0"/>
                </a:lnTo>
                <a:lnTo>
                  <a:pt x="29" y="8"/>
                </a:lnTo>
                <a:lnTo>
                  <a:pt x="56" y="18"/>
                </a:lnTo>
                <a:lnTo>
                  <a:pt x="67" y="21"/>
                </a:lnTo>
                <a:lnTo>
                  <a:pt x="81" y="27"/>
                </a:lnTo>
                <a:lnTo>
                  <a:pt x="92" y="31"/>
                </a:lnTo>
                <a:lnTo>
                  <a:pt x="104" y="35"/>
                </a:lnTo>
                <a:lnTo>
                  <a:pt x="113" y="41"/>
                </a:lnTo>
                <a:lnTo>
                  <a:pt x="125" y="45"/>
                </a:lnTo>
                <a:lnTo>
                  <a:pt x="134" y="50"/>
                </a:lnTo>
                <a:lnTo>
                  <a:pt x="144" y="54"/>
                </a:lnTo>
                <a:lnTo>
                  <a:pt x="152" y="60"/>
                </a:lnTo>
                <a:lnTo>
                  <a:pt x="161" y="64"/>
                </a:lnTo>
                <a:lnTo>
                  <a:pt x="169" y="69"/>
                </a:lnTo>
                <a:lnTo>
                  <a:pt x="177" y="75"/>
                </a:lnTo>
                <a:lnTo>
                  <a:pt x="182" y="79"/>
                </a:lnTo>
                <a:lnTo>
                  <a:pt x="188" y="85"/>
                </a:lnTo>
                <a:lnTo>
                  <a:pt x="194" y="91"/>
                </a:lnTo>
                <a:lnTo>
                  <a:pt x="200" y="94"/>
                </a:lnTo>
                <a:lnTo>
                  <a:pt x="205" y="100"/>
                </a:lnTo>
                <a:lnTo>
                  <a:pt x="209" y="106"/>
                </a:lnTo>
                <a:lnTo>
                  <a:pt x="213" y="112"/>
                </a:lnTo>
                <a:lnTo>
                  <a:pt x="215" y="116"/>
                </a:lnTo>
                <a:lnTo>
                  <a:pt x="219" y="121"/>
                </a:lnTo>
                <a:lnTo>
                  <a:pt x="221" y="127"/>
                </a:lnTo>
                <a:lnTo>
                  <a:pt x="223" y="133"/>
                </a:lnTo>
                <a:lnTo>
                  <a:pt x="223" y="137"/>
                </a:lnTo>
                <a:lnTo>
                  <a:pt x="223" y="142"/>
                </a:lnTo>
                <a:lnTo>
                  <a:pt x="223" y="148"/>
                </a:lnTo>
                <a:lnTo>
                  <a:pt x="223" y="154"/>
                </a:lnTo>
                <a:lnTo>
                  <a:pt x="223" y="160"/>
                </a:lnTo>
                <a:lnTo>
                  <a:pt x="219" y="171"/>
                </a:lnTo>
                <a:lnTo>
                  <a:pt x="217" y="183"/>
                </a:lnTo>
                <a:lnTo>
                  <a:pt x="215" y="196"/>
                </a:lnTo>
                <a:lnTo>
                  <a:pt x="213" y="212"/>
                </a:lnTo>
                <a:lnTo>
                  <a:pt x="211" y="227"/>
                </a:lnTo>
                <a:lnTo>
                  <a:pt x="209" y="242"/>
                </a:lnTo>
                <a:lnTo>
                  <a:pt x="209" y="259"/>
                </a:lnTo>
                <a:lnTo>
                  <a:pt x="207" y="279"/>
                </a:lnTo>
                <a:lnTo>
                  <a:pt x="207" y="298"/>
                </a:lnTo>
                <a:lnTo>
                  <a:pt x="207" y="319"/>
                </a:lnTo>
                <a:lnTo>
                  <a:pt x="207" y="340"/>
                </a:lnTo>
                <a:lnTo>
                  <a:pt x="205" y="363"/>
                </a:lnTo>
                <a:lnTo>
                  <a:pt x="205" y="386"/>
                </a:lnTo>
                <a:lnTo>
                  <a:pt x="205" y="411"/>
                </a:lnTo>
                <a:lnTo>
                  <a:pt x="205" y="436"/>
                </a:lnTo>
                <a:lnTo>
                  <a:pt x="205" y="463"/>
                </a:lnTo>
                <a:lnTo>
                  <a:pt x="205" y="522"/>
                </a:lnTo>
                <a:lnTo>
                  <a:pt x="204" y="582"/>
                </a:lnTo>
                <a:lnTo>
                  <a:pt x="200" y="641"/>
                </a:lnTo>
                <a:lnTo>
                  <a:pt x="196" y="703"/>
                </a:lnTo>
                <a:lnTo>
                  <a:pt x="192" y="764"/>
                </a:lnTo>
                <a:lnTo>
                  <a:pt x="186" y="826"/>
                </a:lnTo>
                <a:lnTo>
                  <a:pt x="180" y="889"/>
                </a:lnTo>
                <a:lnTo>
                  <a:pt x="175" y="954"/>
                </a:lnTo>
                <a:lnTo>
                  <a:pt x="173" y="970"/>
                </a:lnTo>
                <a:lnTo>
                  <a:pt x="171" y="985"/>
                </a:lnTo>
                <a:lnTo>
                  <a:pt x="169" y="1000"/>
                </a:lnTo>
                <a:lnTo>
                  <a:pt x="167" y="1014"/>
                </a:lnTo>
                <a:lnTo>
                  <a:pt x="165" y="1029"/>
                </a:lnTo>
                <a:lnTo>
                  <a:pt x="163" y="1043"/>
                </a:lnTo>
                <a:lnTo>
                  <a:pt x="161" y="1054"/>
                </a:lnTo>
                <a:lnTo>
                  <a:pt x="159" y="1068"/>
                </a:lnTo>
                <a:lnTo>
                  <a:pt x="157" y="1079"/>
                </a:lnTo>
                <a:lnTo>
                  <a:pt x="156" y="1091"/>
                </a:lnTo>
                <a:lnTo>
                  <a:pt x="154" y="1102"/>
                </a:lnTo>
                <a:lnTo>
                  <a:pt x="150" y="1112"/>
                </a:lnTo>
                <a:lnTo>
                  <a:pt x="148" y="1121"/>
                </a:lnTo>
                <a:lnTo>
                  <a:pt x="146" y="1131"/>
                </a:lnTo>
                <a:lnTo>
                  <a:pt x="142" y="1140"/>
                </a:lnTo>
                <a:lnTo>
                  <a:pt x="140" y="1148"/>
                </a:lnTo>
                <a:lnTo>
                  <a:pt x="138" y="1156"/>
                </a:lnTo>
                <a:lnTo>
                  <a:pt x="134" y="1164"/>
                </a:lnTo>
                <a:lnTo>
                  <a:pt x="132" y="1171"/>
                </a:lnTo>
                <a:lnTo>
                  <a:pt x="129" y="1177"/>
                </a:lnTo>
                <a:lnTo>
                  <a:pt x="127" y="1183"/>
                </a:lnTo>
                <a:lnTo>
                  <a:pt x="125" y="1188"/>
                </a:lnTo>
                <a:lnTo>
                  <a:pt x="121" y="1192"/>
                </a:lnTo>
                <a:lnTo>
                  <a:pt x="119" y="1198"/>
                </a:lnTo>
                <a:lnTo>
                  <a:pt x="115" y="1202"/>
                </a:lnTo>
                <a:lnTo>
                  <a:pt x="113" y="1204"/>
                </a:lnTo>
                <a:lnTo>
                  <a:pt x="109" y="1208"/>
                </a:lnTo>
                <a:lnTo>
                  <a:pt x="106" y="1210"/>
                </a:lnTo>
                <a:lnTo>
                  <a:pt x="104" y="1211"/>
                </a:lnTo>
                <a:lnTo>
                  <a:pt x="100" y="1211"/>
                </a:lnTo>
                <a:lnTo>
                  <a:pt x="98" y="1213"/>
                </a:lnTo>
                <a:lnTo>
                  <a:pt x="94" y="12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58"/>
          <p:cNvSpPr/>
          <p:nvPr/>
        </p:nvSpPr>
        <p:spPr>
          <a:xfrm>
            <a:off x="6319800" y="3621240"/>
            <a:ext cx="1236600" cy="207720"/>
          </a:xfrm>
          <a:custGeom>
            <a:avLst/>
            <a:gdLst/>
            <a:ahLst/>
            <a:rect l="l" t="t" r="r" b="b"/>
            <a:pathLst>
              <a:path w="1559" h="261">
                <a:moveTo>
                  <a:pt x="0" y="160"/>
                </a:moveTo>
                <a:lnTo>
                  <a:pt x="38" y="156"/>
                </a:lnTo>
                <a:lnTo>
                  <a:pt x="79" y="154"/>
                </a:lnTo>
                <a:lnTo>
                  <a:pt x="119" y="150"/>
                </a:lnTo>
                <a:lnTo>
                  <a:pt x="159" y="146"/>
                </a:lnTo>
                <a:lnTo>
                  <a:pt x="202" y="142"/>
                </a:lnTo>
                <a:lnTo>
                  <a:pt x="244" y="137"/>
                </a:lnTo>
                <a:lnTo>
                  <a:pt x="286" y="133"/>
                </a:lnTo>
                <a:lnTo>
                  <a:pt x="330" y="127"/>
                </a:lnTo>
                <a:lnTo>
                  <a:pt x="374" y="121"/>
                </a:lnTo>
                <a:lnTo>
                  <a:pt x="420" y="115"/>
                </a:lnTo>
                <a:lnTo>
                  <a:pt x="465" y="110"/>
                </a:lnTo>
                <a:lnTo>
                  <a:pt x="511" y="102"/>
                </a:lnTo>
                <a:lnTo>
                  <a:pt x="603" y="89"/>
                </a:lnTo>
                <a:lnTo>
                  <a:pt x="699" y="73"/>
                </a:lnTo>
                <a:lnTo>
                  <a:pt x="745" y="66"/>
                </a:lnTo>
                <a:lnTo>
                  <a:pt x="789" y="58"/>
                </a:lnTo>
                <a:lnTo>
                  <a:pt x="810" y="54"/>
                </a:lnTo>
                <a:lnTo>
                  <a:pt x="833" y="50"/>
                </a:lnTo>
                <a:lnTo>
                  <a:pt x="852" y="46"/>
                </a:lnTo>
                <a:lnTo>
                  <a:pt x="873" y="43"/>
                </a:lnTo>
                <a:lnTo>
                  <a:pt x="893" y="39"/>
                </a:lnTo>
                <a:lnTo>
                  <a:pt x="912" y="37"/>
                </a:lnTo>
                <a:lnTo>
                  <a:pt x="931" y="33"/>
                </a:lnTo>
                <a:lnTo>
                  <a:pt x="948" y="31"/>
                </a:lnTo>
                <a:lnTo>
                  <a:pt x="967" y="27"/>
                </a:lnTo>
                <a:lnTo>
                  <a:pt x="985" y="25"/>
                </a:lnTo>
                <a:lnTo>
                  <a:pt x="1000" y="23"/>
                </a:lnTo>
                <a:lnTo>
                  <a:pt x="1017" y="19"/>
                </a:lnTo>
                <a:lnTo>
                  <a:pt x="1033" y="18"/>
                </a:lnTo>
                <a:lnTo>
                  <a:pt x="1048" y="16"/>
                </a:lnTo>
                <a:lnTo>
                  <a:pt x="1063" y="14"/>
                </a:lnTo>
                <a:lnTo>
                  <a:pt x="1077" y="12"/>
                </a:lnTo>
                <a:lnTo>
                  <a:pt x="1090" y="10"/>
                </a:lnTo>
                <a:lnTo>
                  <a:pt x="1104" y="8"/>
                </a:lnTo>
                <a:lnTo>
                  <a:pt x="1117" y="6"/>
                </a:lnTo>
                <a:lnTo>
                  <a:pt x="1129" y="6"/>
                </a:lnTo>
                <a:lnTo>
                  <a:pt x="1140" y="4"/>
                </a:lnTo>
                <a:lnTo>
                  <a:pt x="1152" y="4"/>
                </a:lnTo>
                <a:lnTo>
                  <a:pt x="1161" y="2"/>
                </a:lnTo>
                <a:lnTo>
                  <a:pt x="1171" y="2"/>
                </a:lnTo>
                <a:lnTo>
                  <a:pt x="1180" y="0"/>
                </a:lnTo>
                <a:lnTo>
                  <a:pt x="1190" y="0"/>
                </a:lnTo>
                <a:lnTo>
                  <a:pt x="1198" y="0"/>
                </a:lnTo>
                <a:lnTo>
                  <a:pt x="1205" y="0"/>
                </a:lnTo>
                <a:lnTo>
                  <a:pt x="1236" y="0"/>
                </a:lnTo>
                <a:lnTo>
                  <a:pt x="1265" y="2"/>
                </a:lnTo>
                <a:lnTo>
                  <a:pt x="1294" y="6"/>
                </a:lnTo>
                <a:lnTo>
                  <a:pt x="1323" y="10"/>
                </a:lnTo>
                <a:lnTo>
                  <a:pt x="1351" y="14"/>
                </a:lnTo>
                <a:lnTo>
                  <a:pt x="1378" y="19"/>
                </a:lnTo>
                <a:lnTo>
                  <a:pt x="1403" y="23"/>
                </a:lnTo>
                <a:lnTo>
                  <a:pt x="1428" y="29"/>
                </a:lnTo>
                <a:lnTo>
                  <a:pt x="1451" y="35"/>
                </a:lnTo>
                <a:lnTo>
                  <a:pt x="1472" y="43"/>
                </a:lnTo>
                <a:lnTo>
                  <a:pt x="1482" y="46"/>
                </a:lnTo>
                <a:lnTo>
                  <a:pt x="1491" y="50"/>
                </a:lnTo>
                <a:lnTo>
                  <a:pt x="1501" y="56"/>
                </a:lnTo>
                <a:lnTo>
                  <a:pt x="1509" y="60"/>
                </a:lnTo>
                <a:lnTo>
                  <a:pt x="1518" y="66"/>
                </a:lnTo>
                <a:lnTo>
                  <a:pt x="1524" y="69"/>
                </a:lnTo>
                <a:lnTo>
                  <a:pt x="1532" y="75"/>
                </a:lnTo>
                <a:lnTo>
                  <a:pt x="1537" y="81"/>
                </a:lnTo>
                <a:lnTo>
                  <a:pt x="1543" y="85"/>
                </a:lnTo>
                <a:lnTo>
                  <a:pt x="1547" y="90"/>
                </a:lnTo>
                <a:lnTo>
                  <a:pt x="1551" y="96"/>
                </a:lnTo>
                <a:lnTo>
                  <a:pt x="1555" y="102"/>
                </a:lnTo>
                <a:lnTo>
                  <a:pt x="1557" y="106"/>
                </a:lnTo>
                <a:lnTo>
                  <a:pt x="1559" y="112"/>
                </a:lnTo>
                <a:lnTo>
                  <a:pt x="1559" y="115"/>
                </a:lnTo>
                <a:lnTo>
                  <a:pt x="1559" y="121"/>
                </a:lnTo>
                <a:lnTo>
                  <a:pt x="1557" y="125"/>
                </a:lnTo>
                <a:lnTo>
                  <a:pt x="1553" y="129"/>
                </a:lnTo>
                <a:lnTo>
                  <a:pt x="1549" y="133"/>
                </a:lnTo>
                <a:lnTo>
                  <a:pt x="1543" y="137"/>
                </a:lnTo>
                <a:lnTo>
                  <a:pt x="1536" y="138"/>
                </a:lnTo>
                <a:lnTo>
                  <a:pt x="1528" y="142"/>
                </a:lnTo>
                <a:lnTo>
                  <a:pt x="1520" y="146"/>
                </a:lnTo>
                <a:lnTo>
                  <a:pt x="1511" y="148"/>
                </a:lnTo>
                <a:lnTo>
                  <a:pt x="1499" y="152"/>
                </a:lnTo>
                <a:lnTo>
                  <a:pt x="1488" y="154"/>
                </a:lnTo>
                <a:lnTo>
                  <a:pt x="1474" y="156"/>
                </a:lnTo>
                <a:lnTo>
                  <a:pt x="1461" y="160"/>
                </a:lnTo>
                <a:lnTo>
                  <a:pt x="1451" y="160"/>
                </a:lnTo>
                <a:lnTo>
                  <a:pt x="1443" y="162"/>
                </a:lnTo>
                <a:lnTo>
                  <a:pt x="1434" y="163"/>
                </a:lnTo>
                <a:lnTo>
                  <a:pt x="1424" y="165"/>
                </a:lnTo>
                <a:lnTo>
                  <a:pt x="1413" y="165"/>
                </a:lnTo>
                <a:lnTo>
                  <a:pt x="1401" y="167"/>
                </a:lnTo>
                <a:lnTo>
                  <a:pt x="1390" y="169"/>
                </a:lnTo>
                <a:lnTo>
                  <a:pt x="1376" y="171"/>
                </a:lnTo>
                <a:lnTo>
                  <a:pt x="1363" y="171"/>
                </a:lnTo>
                <a:lnTo>
                  <a:pt x="1347" y="173"/>
                </a:lnTo>
                <a:lnTo>
                  <a:pt x="1332" y="175"/>
                </a:lnTo>
                <a:lnTo>
                  <a:pt x="1317" y="177"/>
                </a:lnTo>
                <a:lnTo>
                  <a:pt x="1299" y="177"/>
                </a:lnTo>
                <a:lnTo>
                  <a:pt x="1282" y="179"/>
                </a:lnTo>
                <a:lnTo>
                  <a:pt x="1265" y="181"/>
                </a:lnTo>
                <a:lnTo>
                  <a:pt x="1246" y="183"/>
                </a:lnTo>
                <a:lnTo>
                  <a:pt x="1225" y="185"/>
                </a:lnTo>
                <a:lnTo>
                  <a:pt x="1205" y="186"/>
                </a:lnTo>
                <a:lnTo>
                  <a:pt x="1184" y="188"/>
                </a:lnTo>
                <a:lnTo>
                  <a:pt x="1161" y="190"/>
                </a:lnTo>
                <a:lnTo>
                  <a:pt x="1138" y="192"/>
                </a:lnTo>
                <a:lnTo>
                  <a:pt x="1115" y="194"/>
                </a:lnTo>
                <a:lnTo>
                  <a:pt x="1092" y="196"/>
                </a:lnTo>
                <a:lnTo>
                  <a:pt x="1067" y="198"/>
                </a:lnTo>
                <a:lnTo>
                  <a:pt x="1040" y="200"/>
                </a:lnTo>
                <a:lnTo>
                  <a:pt x="1015" y="202"/>
                </a:lnTo>
                <a:lnTo>
                  <a:pt x="987" y="204"/>
                </a:lnTo>
                <a:lnTo>
                  <a:pt x="960" y="208"/>
                </a:lnTo>
                <a:lnTo>
                  <a:pt x="931" y="209"/>
                </a:lnTo>
                <a:lnTo>
                  <a:pt x="902" y="211"/>
                </a:lnTo>
                <a:lnTo>
                  <a:pt x="871" y="215"/>
                </a:lnTo>
                <a:lnTo>
                  <a:pt x="841" y="217"/>
                </a:lnTo>
                <a:lnTo>
                  <a:pt x="779" y="223"/>
                </a:lnTo>
                <a:lnTo>
                  <a:pt x="718" y="227"/>
                </a:lnTo>
                <a:lnTo>
                  <a:pt x="658" y="233"/>
                </a:lnTo>
                <a:lnTo>
                  <a:pt x="599" y="236"/>
                </a:lnTo>
                <a:lnTo>
                  <a:pt x="543" y="240"/>
                </a:lnTo>
                <a:lnTo>
                  <a:pt x="486" y="244"/>
                </a:lnTo>
                <a:lnTo>
                  <a:pt x="432" y="248"/>
                </a:lnTo>
                <a:lnTo>
                  <a:pt x="378" y="250"/>
                </a:lnTo>
                <a:lnTo>
                  <a:pt x="326" y="252"/>
                </a:lnTo>
                <a:lnTo>
                  <a:pt x="274" y="254"/>
                </a:lnTo>
                <a:lnTo>
                  <a:pt x="227" y="256"/>
                </a:lnTo>
                <a:lnTo>
                  <a:pt x="177" y="257"/>
                </a:lnTo>
                <a:lnTo>
                  <a:pt x="131" y="259"/>
                </a:lnTo>
                <a:lnTo>
                  <a:pt x="84" y="259"/>
                </a:lnTo>
                <a:lnTo>
                  <a:pt x="42" y="259"/>
                </a:lnTo>
                <a:lnTo>
                  <a:pt x="0" y="261"/>
                </a:lnTo>
                <a:lnTo>
                  <a:pt x="0" y="209"/>
                </a:lnTo>
                <a:lnTo>
                  <a:pt x="0" y="1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59"/>
          <p:cNvSpPr/>
          <p:nvPr/>
        </p:nvSpPr>
        <p:spPr>
          <a:xfrm>
            <a:off x="5837400" y="3330720"/>
            <a:ext cx="582480" cy="1358640"/>
          </a:xfrm>
          <a:custGeom>
            <a:avLst/>
            <a:gdLst/>
            <a:ahLst/>
            <a:rect l="l" t="t" r="r" b="b"/>
            <a:pathLst>
              <a:path w="734" h="1712">
                <a:moveTo>
                  <a:pt x="478" y="5"/>
                </a:moveTo>
                <a:lnTo>
                  <a:pt x="488" y="4"/>
                </a:lnTo>
                <a:lnTo>
                  <a:pt x="498" y="2"/>
                </a:lnTo>
                <a:lnTo>
                  <a:pt x="509" y="0"/>
                </a:lnTo>
                <a:lnTo>
                  <a:pt x="521" y="0"/>
                </a:lnTo>
                <a:lnTo>
                  <a:pt x="534" y="0"/>
                </a:lnTo>
                <a:lnTo>
                  <a:pt x="548" y="2"/>
                </a:lnTo>
                <a:lnTo>
                  <a:pt x="561" y="4"/>
                </a:lnTo>
                <a:lnTo>
                  <a:pt x="576" y="5"/>
                </a:lnTo>
                <a:lnTo>
                  <a:pt x="594" y="7"/>
                </a:lnTo>
                <a:lnTo>
                  <a:pt x="609" y="11"/>
                </a:lnTo>
                <a:lnTo>
                  <a:pt x="628" y="17"/>
                </a:lnTo>
                <a:lnTo>
                  <a:pt x="647" y="21"/>
                </a:lnTo>
                <a:lnTo>
                  <a:pt x="667" y="27"/>
                </a:lnTo>
                <a:lnTo>
                  <a:pt x="688" y="34"/>
                </a:lnTo>
                <a:lnTo>
                  <a:pt x="711" y="40"/>
                </a:lnTo>
                <a:lnTo>
                  <a:pt x="734" y="50"/>
                </a:lnTo>
                <a:lnTo>
                  <a:pt x="734" y="82"/>
                </a:lnTo>
                <a:lnTo>
                  <a:pt x="734" y="115"/>
                </a:lnTo>
                <a:lnTo>
                  <a:pt x="734" y="146"/>
                </a:lnTo>
                <a:lnTo>
                  <a:pt x="734" y="178"/>
                </a:lnTo>
                <a:lnTo>
                  <a:pt x="734" y="207"/>
                </a:lnTo>
                <a:lnTo>
                  <a:pt x="734" y="236"/>
                </a:lnTo>
                <a:lnTo>
                  <a:pt x="734" y="265"/>
                </a:lnTo>
                <a:lnTo>
                  <a:pt x="734" y="293"/>
                </a:lnTo>
                <a:lnTo>
                  <a:pt x="734" y="318"/>
                </a:lnTo>
                <a:lnTo>
                  <a:pt x="732" y="345"/>
                </a:lnTo>
                <a:lnTo>
                  <a:pt x="732" y="370"/>
                </a:lnTo>
                <a:lnTo>
                  <a:pt x="732" y="393"/>
                </a:lnTo>
                <a:lnTo>
                  <a:pt x="732" y="418"/>
                </a:lnTo>
                <a:lnTo>
                  <a:pt x="732" y="439"/>
                </a:lnTo>
                <a:lnTo>
                  <a:pt x="732" y="462"/>
                </a:lnTo>
                <a:lnTo>
                  <a:pt x="732" y="481"/>
                </a:lnTo>
                <a:lnTo>
                  <a:pt x="730" y="503"/>
                </a:lnTo>
                <a:lnTo>
                  <a:pt x="730" y="522"/>
                </a:lnTo>
                <a:lnTo>
                  <a:pt x="730" y="539"/>
                </a:lnTo>
                <a:lnTo>
                  <a:pt x="730" y="556"/>
                </a:lnTo>
                <a:lnTo>
                  <a:pt x="728" y="574"/>
                </a:lnTo>
                <a:lnTo>
                  <a:pt x="728" y="589"/>
                </a:lnTo>
                <a:lnTo>
                  <a:pt x="728" y="604"/>
                </a:lnTo>
                <a:lnTo>
                  <a:pt x="726" y="618"/>
                </a:lnTo>
                <a:lnTo>
                  <a:pt x="726" y="631"/>
                </a:lnTo>
                <a:lnTo>
                  <a:pt x="724" y="643"/>
                </a:lnTo>
                <a:lnTo>
                  <a:pt x="724" y="654"/>
                </a:lnTo>
                <a:lnTo>
                  <a:pt x="722" y="666"/>
                </a:lnTo>
                <a:lnTo>
                  <a:pt x="722" y="675"/>
                </a:lnTo>
                <a:lnTo>
                  <a:pt x="720" y="683"/>
                </a:lnTo>
                <a:lnTo>
                  <a:pt x="718" y="693"/>
                </a:lnTo>
                <a:lnTo>
                  <a:pt x="718" y="698"/>
                </a:lnTo>
                <a:lnTo>
                  <a:pt x="715" y="714"/>
                </a:lnTo>
                <a:lnTo>
                  <a:pt x="711" y="729"/>
                </a:lnTo>
                <a:lnTo>
                  <a:pt x="705" y="744"/>
                </a:lnTo>
                <a:lnTo>
                  <a:pt x="699" y="764"/>
                </a:lnTo>
                <a:lnTo>
                  <a:pt x="693" y="783"/>
                </a:lnTo>
                <a:lnTo>
                  <a:pt x="688" y="802"/>
                </a:lnTo>
                <a:lnTo>
                  <a:pt x="680" y="825"/>
                </a:lnTo>
                <a:lnTo>
                  <a:pt x="670" y="846"/>
                </a:lnTo>
                <a:lnTo>
                  <a:pt x="663" y="869"/>
                </a:lnTo>
                <a:lnTo>
                  <a:pt x="653" y="894"/>
                </a:lnTo>
                <a:lnTo>
                  <a:pt x="643" y="919"/>
                </a:lnTo>
                <a:lnTo>
                  <a:pt x="634" y="946"/>
                </a:lnTo>
                <a:lnTo>
                  <a:pt x="624" y="973"/>
                </a:lnTo>
                <a:lnTo>
                  <a:pt x="613" y="1002"/>
                </a:lnTo>
                <a:lnTo>
                  <a:pt x="601" y="1030"/>
                </a:lnTo>
                <a:lnTo>
                  <a:pt x="590" y="1059"/>
                </a:lnTo>
                <a:lnTo>
                  <a:pt x="574" y="1092"/>
                </a:lnTo>
                <a:lnTo>
                  <a:pt x="559" y="1124"/>
                </a:lnTo>
                <a:lnTo>
                  <a:pt x="542" y="1155"/>
                </a:lnTo>
                <a:lnTo>
                  <a:pt x="524" y="1188"/>
                </a:lnTo>
                <a:lnTo>
                  <a:pt x="507" y="1218"/>
                </a:lnTo>
                <a:lnTo>
                  <a:pt x="488" y="1247"/>
                </a:lnTo>
                <a:lnTo>
                  <a:pt x="467" y="1278"/>
                </a:lnTo>
                <a:lnTo>
                  <a:pt x="448" y="1307"/>
                </a:lnTo>
                <a:lnTo>
                  <a:pt x="427" y="1336"/>
                </a:lnTo>
                <a:lnTo>
                  <a:pt x="404" y="1364"/>
                </a:lnTo>
                <a:lnTo>
                  <a:pt x="381" y="1391"/>
                </a:lnTo>
                <a:lnTo>
                  <a:pt x="357" y="1418"/>
                </a:lnTo>
                <a:lnTo>
                  <a:pt x="333" y="1445"/>
                </a:lnTo>
                <a:lnTo>
                  <a:pt x="308" y="1472"/>
                </a:lnTo>
                <a:lnTo>
                  <a:pt x="283" y="1497"/>
                </a:lnTo>
                <a:lnTo>
                  <a:pt x="258" y="1522"/>
                </a:lnTo>
                <a:lnTo>
                  <a:pt x="229" y="1547"/>
                </a:lnTo>
                <a:lnTo>
                  <a:pt x="202" y="1568"/>
                </a:lnTo>
                <a:lnTo>
                  <a:pt x="177" y="1589"/>
                </a:lnTo>
                <a:lnTo>
                  <a:pt x="152" y="1608"/>
                </a:lnTo>
                <a:lnTo>
                  <a:pt x="131" y="1627"/>
                </a:lnTo>
                <a:lnTo>
                  <a:pt x="112" y="1643"/>
                </a:lnTo>
                <a:lnTo>
                  <a:pt x="93" y="1658"/>
                </a:lnTo>
                <a:lnTo>
                  <a:pt x="77" y="1671"/>
                </a:lnTo>
                <a:lnTo>
                  <a:pt x="62" y="1683"/>
                </a:lnTo>
                <a:lnTo>
                  <a:pt x="48" y="1691"/>
                </a:lnTo>
                <a:lnTo>
                  <a:pt x="37" y="1698"/>
                </a:lnTo>
                <a:lnTo>
                  <a:pt x="27" y="1706"/>
                </a:lnTo>
                <a:lnTo>
                  <a:pt x="20" y="1710"/>
                </a:lnTo>
                <a:lnTo>
                  <a:pt x="16" y="1710"/>
                </a:lnTo>
                <a:lnTo>
                  <a:pt x="12" y="1712"/>
                </a:lnTo>
                <a:lnTo>
                  <a:pt x="8" y="1712"/>
                </a:lnTo>
                <a:lnTo>
                  <a:pt x="6" y="1712"/>
                </a:lnTo>
                <a:lnTo>
                  <a:pt x="4" y="1712"/>
                </a:lnTo>
                <a:lnTo>
                  <a:pt x="2" y="1710"/>
                </a:lnTo>
                <a:lnTo>
                  <a:pt x="0" y="1706"/>
                </a:lnTo>
                <a:lnTo>
                  <a:pt x="0" y="1702"/>
                </a:lnTo>
                <a:lnTo>
                  <a:pt x="0" y="1694"/>
                </a:lnTo>
                <a:lnTo>
                  <a:pt x="4" y="1687"/>
                </a:lnTo>
                <a:lnTo>
                  <a:pt x="8" y="1679"/>
                </a:lnTo>
                <a:lnTo>
                  <a:pt x="14" y="1668"/>
                </a:lnTo>
                <a:lnTo>
                  <a:pt x="20" y="1656"/>
                </a:lnTo>
                <a:lnTo>
                  <a:pt x="29" y="1641"/>
                </a:lnTo>
                <a:lnTo>
                  <a:pt x="39" y="1625"/>
                </a:lnTo>
                <a:lnTo>
                  <a:pt x="52" y="1608"/>
                </a:lnTo>
                <a:lnTo>
                  <a:pt x="66" y="1589"/>
                </a:lnTo>
                <a:lnTo>
                  <a:pt x="81" y="1568"/>
                </a:lnTo>
                <a:lnTo>
                  <a:pt x="91" y="1556"/>
                </a:lnTo>
                <a:lnTo>
                  <a:pt x="98" y="1545"/>
                </a:lnTo>
                <a:lnTo>
                  <a:pt x="108" y="1533"/>
                </a:lnTo>
                <a:lnTo>
                  <a:pt x="118" y="1520"/>
                </a:lnTo>
                <a:lnTo>
                  <a:pt x="129" y="1506"/>
                </a:lnTo>
                <a:lnTo>
                  <a:pt x="139" y="1493"/>
                </a:lnTo>
                <a:lnTo>
                  <a:pt x="150" y="1480"/>
                </a:lnTo>
                <a:lnTo>
                  <a:pt x="162" y="1464"/>
                </a:lnTo>
                <a:lnTo>
                  <a:pt x="185" y="1433"/>
                </a:lnTo>
                <a:lnTo>
                  <a:pt x="208" y="1403"/>
                </a:lnTo>
                <a:lnTo>
                  <a:pt x="229" y="1372"/>
                </a:lnTo>
                <a:lnTo>
                  <a:pt x="250" y="1339"/>
                </a:lnTo>
                <a:lnTo>
                  <a:pt x="271" y="1307"/>
                </a:lnTo>
                <a:lnTo>
                  <a:pt x="292" y="1272"/>
                </a:lnTo>
                <a:lnTo>
                  <a:pt x="311" y="1238"/>
                </a:lnTo>
                <a:lnTo>
                  <a:pt x="331" y="1201"/>
                </a:lnTo>
                <a:lnTo>
                  <a:pt x="348" y="1167"/>
                </a:lnTo>
                <a:lnTo>
                  <a:pt x="367" y="1128"/>
                </a:lnTo>
                <a:lnTo>
                  <a:pt x="384" y="1092"/>
                </a:lnTo>
                <a:lnTo>
                  <a:pt x="402" y="1051"/>
                </a:lnTo>
                <a:lnTo>
                  <a:pt x="417" y="1011"/>
                </a:lnTo>
                <a:lnTo>
                  <a:pt x="432" y="971"/>
                </a:lnTo>
                <a:lnTo>
                  <a:pt x="448" y="929"/>
                </a:lnTo>
                <a:lnTo>
                  <a:pt x="463" y="886"/>
                </a:lnTo>
                <a:lnTo>
                  <a:pt x="475" y="844"/>
                </a:lnTo>
                <a:lnTo>
                  <a:pt x="484" y="802"/>
                </a:lnTo>
                <a:lnTo>
                  <a:pt x="496" y="762"/>
                </a:lnTo>
                <a:lnTo>
                  <a:pt x="503" y="723"/>
                </a:lnTo>
                <a:lnTo>
                  <a:pt x="513" y="687"/>
                </a:lnTo>
                <a:lnTo>
                  <a:pt x="521" y="650"/>
                </a:lnTo>
                <a:lnTo>
                  <a:pt x="526" y="616"/>
                </a:lnTo>
                <a:lnTo>
                  <a:pt x="532" y="581"/>
                </a:lnTo>
                <a:lnTo>
                  <a:pt x="536" y="549"/>
                </a:lnTo>
                <a:lnTo>
                  <a:pt x="540" y="518"/>
                </a:lnTo>
                <a:lnTo>
                  <a:pt x="544" y="487"/>
                </a:lnTo>
                <a:lnTo>
                  <a:pt x="546" y="458"/>
                </a:lnTo>
                <a:lnTo>
                  <a:pt x="546" y="430"/>
                </a:lnTo>
                <a:lnTo>
                  <a:pt x="546" y="403"/>
                </a:lnTo>
                <a:lnTo>
                  <a:pt x="546" y="376"/>
                </a:lnTo>
                <a:lnTo>
                  <a:pt x="544" y="353"/>
                </a:lnTo>
                <a:lnTo>
                  <a:pt x="540" y="328"/>
                </a:lnTo>
                <a:lnTo>
                  <a:pt x="536" y="305"/>
                </a:lnTo>
                <a:lnTo>
                  <a:pt x="534" y="284"/>
                </a:lnTo>
                <a:lnTo>
                  <a:pt x="530" y="263"/>
                </a:lnTo>
                <a:lnTo>
                  <a:pt x="526" y="243"/>
                </a:lnTo>
                <a:lnTo>
                  <a:pt x="524" y="224"/>
                </a:lnTo>
                <a:lnTo>
                  <a:pt x="521" y="207"/>
                </a:lnTo>
                <a:lnTo>
                  <a:pt x="517" y="190"/>
                </a:lnTo>
                <a:lnTo>
                  <a:pt x="513" y="174"/>
                </a:lnTo>
                <a:lnTo>
                  <a:pt x="509" y="159"/>
                </a:lnTo>
                <a:lnTo>
                  <a:pt x="505" y="146"/>
                </a:lnTo>
                <a:lnTo>
                  <a:pt x="500" y="132"/>
                </a:lnTo>
                <a:lnTo>
                  <a:pt x="496" y="121"/>
                </a:lnTo>
                <a:lnTo>
                  <a:pt x="490" y="111"/>
                </a:lnTo>
                <a:lnTo>
                  <a:pt x="484" y="101"/>
                </a:lnTo>
                <a:lnTo>
                  <a:pt x="478" y="92"/>
                </a:lnTo>
                <a:lnTo>
                  <a:pt x="471" y="84"/>
                </a:lnTo>
                <a:lnTo>
                  <a:pt x="463" y="76"/>
                </a:lnTo>
                <a:lnTo>
                  <a:pt x="457" y="69"/>
                </a:lnTo>
                <a:lnTo>
                  <a:pt x="452" y="61"/>
                </a:lnTo>
                <a:lnTo>
                  <a:pt x="448" y="55"/>
                </a:lnTo>
                <a:lnTo>
                  <a:pt x="446" y="50"/>
                </a:lnTo>
                <a:lnTo>
                  <a:pt x="444" y="44"/>
                </a:lnTo>
                <a:lnTo>
                  <a:pt x="444" y="38"/>
                </a:lnTo>
                <a:lnTo>
                  <a:pt x="444" y="32"/>
                </a:lnTo>
                <a:lnTo>
                  <a:pt x="446" y="28"/>
                </a:lnTo>
                <a:lnTo>
                  <a:pt x="448" y="23"/>
                </a:lnTo>
                <a:lnTo>
                  <a:pt x="452" y="19"/>
                </a:lnTo>
                <a:lnTo>
                  <a:pt x="457" y="15"/>
                </a:lnTo>
                <a:lnTo>
                  <a:pt x="463" y="11"/>
                </a:lnTo>
                <a:lnTo>
                  <a:pt x="471" y="9"/>
                </a:lnTo>
                <a:lnTo>
                  <a:pt x="478" y="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60"/>
          <p:cNvSpPr/>
          <p:nvPr/>
        </p:nvSpPr>
        <p:spPr>
          <a:xfrm>
            <a:off x="6319800" y="3081240"/>
            <a:ext cx="858960" cy="368280"/>
          </a:xfrm>
          <a:custGeom>
            <a:avLst/>
            <a:gdLst/>
            <a:ahLst/>
            <a:rect l="l" t="t" r="r" b="b"/>
            <a:pathLst>
              <a:path w="1083" h="462">
                <a:moveTo>
                  <a:pt x="745" y="363"/>
                </a:moveTo>
                <a:lnTo>
                  <a:pt x="710" y="366"/>
                </a:lnTo>
                <a:lnTo>
                  <a:pt x="676" y="372"/>
                </a:lnTo>
                <a:lnTo>
                  <a:pt x="643" y="376"/>
                </a:lnTo>
                <a:lnTo>
                  <a:pt x="610" y="382"/>
                </a:lnTo>
                <a:lnTo>
                  <a:pt x="580" y="386"/>
                </a:lnTo>
                <a:lnTo>
                  <a:pt x="551" y="389"/>
                </a:lnTo>
                <a:lnTo>
                  <a:pt x="522" y="393"/>
                </a:lnTo>
                <a:lnTo>
                  <a:pt x="493" y="395"/>
                </a:lnTo>
                <a:lnTo>
                  <a:pt x="466" y="399"/>
                </a:lnTo>
                <a:lnTo>
                  <a:pt x="440" y="403"/>
                </a:lnTo>
                <a:lnTo>
                  <a:pt x="415" y="405"/>
                </a:lnTo>
                <a:lnTo>
                  <a:pt x="390" y="409"/>
                </a:lnTo>
                <a:lnTo>
                  <a:pt x="367" y="411"/>
                </a:lnTo>
                <a:lnTo>
                  <a:pt x="344" y="414"/>
                </a:lnTo>
                <a:lnTo>
                  <a:pt x="322" y="416"/>
                </a:lnTo>
                <a:lnTo>
                  <a:pt x="301" y="420"/>
                </a:lnTo>
                <a:lnTo>
                  <a:pt x="259" y="424"/>
                </a:lnTo>
                <a:lnTo>
                  <a:pt x="221" y="430"/>
                </a:lnTo>
                <a:lnTo>
                  <a:pt x="182" y="436"/>
                </a:lnTo>
                <a:lnTo>
                  <a:pt x="146" y="441"/>
                </a:lnTo>
                <a:lnTo>
                  <a:pt x="111" y="447"/>
                </a:lnTo>
                <a:lnTo>
                  <a:pt x="77" y="453"/>
                </a:lnTo>
                <a:lnTo>
                  <a:pt x="46" y="457"/>
                </a:lnTo>
                <a:lnTo>
                  <a:pt x="15" y="462"/>
                </a:lnTo>
                <a:lnTo>
                  <a:pt x="8" y="426"/>
                </a:lnTo>
                <a:lnTo>
                  <a:pt x="0" y="391"/>
                </a:lnTo>
                <a:lnTo>
                  <a:pt x="33" y="382"/>
                </a:lnTo>
                <a:lnTo>
                  <a:pt x="65" y="374"/>
                </a:lnTo>
                <a:lnTo>
                  <a:pt x="98" y="366"/>
                </a:lnTo>
                <a:lnTo>
                  <a:pt x="131" y="359"/>
                </a:lnTo>
                <a:lnTo>
                  <a:pt x="161" y="351"/>
                </a:lnTo>
                <a:lnTo>
                  <a:pt x="190" y="343"/>
                </a:lnTo>
                <a:lnTo>
                  <a:pt x="221" y="336"/>
                </a:lnTo>
                <a:lnTo>
                  <a:pt x="250" y="328"/>
                </a:lnTo>
                <a:lnTo>
                  <a:pt x="276" y="320"/>
                </a:lnTo>
                <a:lnTo>
                  <a:pt x="303" y="313"/>
                </a:lnTo>
                <a:lnTo>
                  <a:pt x="330" y="305"/>
                </a:lnTo>
                <a:lnTo>
                  <a:pt x="355" y="299"/>
                </a:lnTo>
                <a:lnTo>
                  <a:pt x="380" y="292"/>
                </a:lnTo>
                <a:lnTo>
                  <a:pt x="403" y="284"/>
                </a:lnTo>
                <a:lnTo>
                  <a:pt x="428" y="278"/>
                </a:lnTo>
                <a:lnTo>
                  <a:pt x="449" y="270"/>
                </a:lnTo>
                <a:lnTo>
                  <a:pt x="470" y="265"/>
                </a:lnTo>
                <a:lnTo>
                  <a:pt x="491" y="257"/>
                </a:lnTo>
                <a:lnTo>
                  <a:pt x="513" y="251"/>
                </a:lnTo>
                <a:lnTo>
                  <a:pt x="532" y="246"/>
                </a:lnTo>
                <a:lnTo>
                  <a:pt x="549" y="238"/>
                </a:lnTo>
                <a:lnTo>
                  <a:pt x="566" y="232"/>
                </a:lnTo>
                <a:lnTo>
                  <a:pt x="584" y="226"/>
                </a:lnTo>
                <a:lnTo>
                  <a:pt x="599" y="221"/>
                </a:lnTo>
                <a:lnTo>
                  <a:pt x="614" y="215"/>
                </a:lnTo>
                <a:lnTo>
                  <a:pt x="630" y="209"/>
                </a:lnTo>
                <a:lnTo>
                  <a:pt x="643" y="203"/>
                </a:lnTo>
                <a:lnTo>
                  <a:pt x="655" y="196"/>
                </a:lnTo>
                <a:lnTo>
                  <a:pt x="668" y="192"/>
                </a:lnTo>
                <a:lnTo>
                  <a:pt x="678" y="186"/>
                </a:lnTo>
                <a:lnTo>
                  <a:pt x="689" y="180"/>
                </a:lnTo>
                <a:lnTo>
                  <a:pt x="699" y="174"/>
                </a:lnTo>
                <a:lnTo>
                  <a:pt x="714" y="165"/>
                </a:lnTo>
                <a:lnTo>
                  <a:pt x="729" y="157"/>
                </a:lnTo>
                <a:lnTo>
                  <a:pt x="745" y="150"/>
                </a:lnTo>
                <a:lnTo>
                  <a:pt x="756" y="142"/>
                </a:lnTo>
                <a:lnTo>
                  <a:pt x="768" y="134"/>
                </a:lnTo>
                <a:lnTo>
                  <a:pt x="779" y="127"/>
                </a:lnTo>
                <a:lnTo>
                  <a:pt x="787" y="119"/>
                </a:lnTo>
                <a:lnTo>
                  <a:pt x="795" y="111"/>
                </a:lnTo>
                <a:lnTo>
                  <a:pt x="800" y="103"/>
                </a:lnTo>
                <a:lnTo>
                  <a:pt x="806" y="96"/>
                </a:lnTo>
                <a:lnTo>
                  <a:pt x="808" y="90"/>
                </a:lnTo>
                <a:lnTo>
                  <a:pt x="812" y="82"/>
                </a:lnTo>
                <a:lnTo>
                  <a:pt x="812" y="77"/>
                </a:lnTo>
                <a:lnTo>
                  <a:pt x="812" y="69"/>
                </a:lnTo>
                <a:lnTo>
                  <a:pt x="812" y="63"/>
                </a:lnTo>
                <a:lnTo>
                  <a:pt x="808" y="59"/>
                </a:lnTo>
                <a:lnTo>
                  <a:pt x="802" y="54"/>
                </a:lnTo>
                <a:lnTo>
                  <a:pt x="798" y="48"/>
                </a:lnTo>
                <a:lnTo>
                  <a:pt x="795" y="44"/>
                </a:lnTo>
                <a:lnTo>
                  <a:pt x="791" y="38"/>
                </a:lnTo>
                <a:lnTo>
                  <a:pt x="789" y="34"/>
                </a:lnTo>
                <a:lnTo>
                  <a:pt x="787" y="31"/>
                </a:lnTo>
                <a:lnTo>
                  <a:pt x="785" y="27"/>
                </a:lnTo>
                <a:lnTo>
                  <a:pt x="785" y="25"/>
                </a:lnTo>
                <a:lnTo>
                  <a:pt x="785" y="21"/>
                </a:lnTo>
                <a:lnTo>
                  <a:pt x="787" y="17"/>
                </a:lnTo>
                <a:lnTo>
                  <a:pt x="789" y="15"/>
                </a:lnTo>
                <a:lnTo>
                  <a:pt x="791" y="11"/>
                </a:lnTo>
                <a:lnTo>
                  <a:pt x="795" y="9"/>
                </a:lnTo>
                <a:lnTo>
                  <a:pt x="798" y="6"/>
                </a:lnTo>
                <a:lnTo>
                  <a:pt x="802" y="4"/>
                </a:lnTo>
                <a:lnTo>
                  <a:pt x="808" y="0"/>
                </a:lnTo>
                <a:lnTo>
                  <a:pt x="816" y="0"/>
                </a:lnTo>
                <a:lnTo>
                  <a:pt x="822" y="2"/>
                </a:lnTo>
                <a:lnTo>
                  <a:pt x="829" y="4"/>
                </a:lnTo>
                <a:lnTo>
                  <a:pt x="839" y="6"/>
                </a:lnTo>
                <a:lnTo>
                  <a:pt x="846" y="8"/>
                </a:lnTo>
                <a:lnTo>
                  <a:pt x="858" y="11"/>
                </a:lnTo>
                <a:lnTo>
                  <a:pt x="868" y="15"/>
                </a:lnTo>
                <a:lnTo>
                  <a:pt x="879" y="21"/>
                </a:lnTo>
                <a:lnTo>
                  <a:pt x="891" y="25"/>
                </a:lnTo>
                <a:lnTo>
                  <a:pt x="902" y="31"/>
                </a:lnTo>
                <a:lnTo>
                  <a:pt x="914" y="36"/>
                </a:lnTo>
                <a:lnTo>
                  <a:pt x="927" y="42"/>
                </a:lnTo>
                <a:lnTo>
                  <a:pt x="954" y="57"/>
                </a:lnTo>
                <a:lnTo>
                  <a:pt x="983" y="73"/>
                </a:lnTo>
                <a:lnTo>
                  <a:pt x="998" y="84"/>
                </a:lnTo>
                <a:lnTo>
                  <a:pt x="1012" y="94"/>
                </a:lnTo>
                <a:lnTo>
                  <a:pt x="1023" y="105"/>
                </a:lnTo>
                <a:lnTo>
                  <a:pt x="1033" y="117"/>
                </a:lnTo>
                <a:lnTo>
                  <a:pt x="1044" y="127"/>
                </a:lnTo>
                <a:lnTo>
                  <a:pt x="1052" y="138"/>
                </a:lnTo>
                <a:lnTo>
                  <a:pt x="1060" y="148"/>
                </a:lnTo>
                <a:lnTo>
                  <a:pt x="1067" y="157"/>
                </a:lnTo>
                <a:lnTo>
                  <a:pt x="1071" y="169"/>
                </a:lnTo>
                <a:lnTo>
                  <a:pt x="1077" y="178"/>
                </a:lnTo>
                <a:lnTo>
                  <a:pt x="1079" y="188"/>
                </a:lnTo>
                <a:lnTo>
                  <a:pt x="1081" y="198"/>
                </a:lnTo>
                <a:lnTo>
                  <a:pt x="1083" y="205"/>
                </a:lnTo>
                <a:lnTo>
                  <a:pt x="1083" y="215"/>
                </a:lnTo>
                <a:lnTo>
                  <a:pt x="1081" y="222"/>
                </a:lnTo>
                <a:lnTo>
                  <a:pt x="1079" y="232"/>
                </a:lnTo>
                <a:lnTo>
                  <a:pt x="1071" y="240"/>
                </a:lnTo>
                <a:lnTo>
                  <a:pt x="1063" y="247"/>
                </a:lnTo>
                <a:lnTo>
                  <a:pt x="1052" y="257"/>
                </a:lnTo>
                <a:lnTo>
                  <a:pt x="1040" y="265"/>
                </a:lnTo>
                <a:lnTo>
                  <a:pt x="1025" y="272"/>
                </a:lnTo>
                <a:lnTo>
                  <a:pt x="1010" y="280"/>
                </a:lnTo>
                <a:lnTo>
                  <a:pt x="990" y="288"/>
                </a:lnTo>
                <a:lnTo>
                  <a:pt x="971" y="297"/>
                </a:lnTo>
                <a:lnTo>
                  <a:pt x="950" y="305"/>
                </a:lnTo>
                <a:lnTo>
                  <a:pt x="925" y="313"/>
                </a:lnTo>
                <a:lnTo>
                  <a:pt x="900" y="320"/>
                </a:lnTo>
                <a:lnTo>
                  <a:pt x="873" y="328"/>
                </a:lnTo>
                <a:lnTo>
                  <a:pt x="845" y="338"/>
                </a:lnTo>
                <a:lnTo>
                  <a:pt x="812" y="345"/>
                </a:lnTo>
                <a:lnTo>
                  <a:pt x="779" y="353"/>
                </a:lnTo>
                <a:lnTo>
                  <a:pt x="745" y="3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61"/>
          <p:cNvSpPr/>
          <p:nvPr/>
        </p:nvSpPr>
        <p:spPr>
          <a:xfrm>
            <a:off x="5437080" y="2852640"/>
            <a:ext cx="2281320" cy="2190960"/>
          </a:xfrm>
          <a:custGeom>
            <a:avLst/>
            <a:gdLst/>
            <a:ahLst/>
            <a:rect l="l" t="t" r="r" b="b"/>
            <a:pathLst>
              <a:path w="2873" h="2758">
                <a:moveTo>
                  <a:pt x="286" y="2700"/>
                </a:moveTo>
                <a:lnTo>
                  <a:pt x="272" y="2708"/>
                </a:lnTo>
                <a:lnTo>
                  <a:pt x="263" y="2716"/>
                </a:lnTo>
                <a:lnTo>
                  <a:pt x="251" y="2722"/>
                </a:lnTo>
                <a:lnTo>
                  <a:pt x="240" y="2729"/>
                </a:lnTo>
                <a:lnTo>
                  <a:pt x="230" y="2733"/>
                </a:lnTo>
                <a:lnTo>
                  <a:pt x="220" y="2739"/>
                </a:lnTo>
                <a:lnTo>
                  <a:pt x="211" y="2743"/>
                </a:lnTo>
                <a:lnTo>
                  <a:pt x="201" y="2747"/>
                </a:lnTo>
                <a:lnTo>
                  <a:pt x="194" y="2748"/>
                </a:lnTo>
                <a:lnTo>
                  <a:pt x="184" y="2752"/>
                </a:lnTo>
                <a:lnTo>
                  <a:pt x="169" y="2756"/>
                </a:lnTo>
                <a:lnTo>
                  <a:pt x="155" y="2758"/>
                </a:lnTo>
                <a:lnTo>
                  <a:pt x="142" y="2758"/>
                </a:lnTo>
                <a:lnTo>
                  <a:pt x="136" y="2758"/>
                </a:lnTo>
                <a:lnTo>
                  <a:pt x="130" y="2758"/>
                </a:lnTo>
                <a:lnTo>
                  <a:pt x="124" y="2756"/>
                </a:lnTo>
                <a:lnTo>
                  <a:pt x="119" y="2754"/>
                </a:lnTo>
                <a:lnTo>
                  <a:pt x="113" y="2750"/>
                </a:lnTo>
                <a:lnTo>
                  <a:pt x="105" y="2747"/>
                </a:lnTo>
                <a:lnTo>
                  <a:pt x="99" y="2743"/>
                </a:lnTo>
                <a:lnTo>
                  <a:pt x="94" y="2739"/>
                </a:lnTo>
                <a:lnTo>
                  <a:pt x="88" y="2733"/>
                </a:lnTo>
                <a:lnTo>
                  <a:pt x="82" y="2729"/>
                </a:lnTo>
                <a:lnTo>
                  <a:pt x="71" y="2716"/>
                </a:lnTo>
                <a:lnTo>
                  <a:pt x="59" y="2702"/>
                </a:lnTo>
                <a:lnTo>
                  <a:pt x="48" y="2687"/>
                </a:lnTo>
                <a:lnTo>
                  <a:pt x="36" y="2666"/>
                </a:lnTo>
                <a:lnTo>
                  <a:pt x="27" y="2645"/>
                </a:lnTo>
                <a:lnTo>
                  <a:pt x="17" y="2628"/>
                </a:lnTo>
                <a:lnTo>
                  <a:pt x="11" y="2608"/>
                </a:lnTo>
                <a:lnTo>
                  <a:pt x="5" y="2591"/>
                </a:lnTo>
                <a:lnTo>
                  <a:pt x="2" y="2576"/>
                </a:lnTo>
                <a:lnTo>
                  <a:pt x="0" y="2558"/>
                </a:lnTo>
                <a:lnTo>
                  <a:pt x="0" y="2543"/>
                </a:lnTo>
                <a:lnTo>
                  <a:pt x="0" y="2537"/>
                </a:lnTo>
                <a:lnTo>
                  <a:pt x="0" y="2532"/>
                </a:lnTo>
                <a:lnTo>
                  <a:pt x="2" y="2526"/>
                </a:lnTo>
                <a:lnTo>
                  <a:pt x="5" y="2520"/>
                </a:lnTo>
                <a:lnTo>
                  <a:pt x="7" y="2514"/>
                </a:lnTo>
                <a:lnTo>
                  <a:pt x="13" y="2509"/>
                </a:lnTo>
                <a:lnTo>
                  <a:pt x="17" y="2503"/>
                </a:lnTo>
                <a:lnTo>
                  <a:pt x="23" y="2497"/>
                </a:lnTo>
                <a:lnTo>
                  <a:pt x="28" y="2491"/>
                </a:lnTo>
                <a:lnTo>
                  <a:pt x="36" y="2484"/>
                </a:lnTo>
                <a:lnTo>
                  <a:pt x="44" y="2478"/>
                </a:lnTo>
                <a:lnTo>
                  <a:pt x="53" y="2470"/>
                </a:lnTo>
                <a:lnTo>
                  <a:pt x="61" y="2464"/>
                </a:lnTo>
                <a:lnTo>
                  <a:pt x="73" y="2457"/>
                </a:lnTo>
                <a:lnTo>
                  <a:pt x="82" y="2449"/>
                </a:lnTo>
                <a:lnTo>
                  <a:pt x="94" y="2441"/>
                </a:lnTo>
                <a:lnTo>
                  <a:pt x="99" y="2438"/>
                </a:lnTo>
                <a:lnTo>
                  <a:pt x="103" y="2434"/>
                </a:lnTo>
                <a:lnTo>
                  <a:pt x="107" y="2428"/>
                </a:lnTo>
                <a:lnTo>
                  <a:pt x="113" y="2420"/>
                </a:lnTo>
                <a:lnTo>
                  <a:pt x="117" y="2413"/>
                </a:lnTo>
                <a:lnTo>
                  <a:pt x="121" y="2405"/>
                </a:lnTo>
                <a:lnTo>
                  <a:pt x="124" y="2395"/>
                </a:lnTo>
                <a:lnTo>
                  <a:pt x="130" y="2384"/>
                </a:lnTo>
                <a:lnTo>
                  <a:pt x="134" y="2372"/>
                </a:lnTo>
                <a:lnTo>
                  <a:pt x="138" y="2359"/>
                </a:lnTo>
                <a:lnTo>
                  <a:pt x="144" y="2343"/>
                </a:lnTo>
                <a:lnTo>
                  <a:pt x="147" y="2328"/>
                </a:lnTo>
                <a:lnTo>
                  <a:pt x="151" y="2311"/>
                </a:lnTo>
                <a:lnTo>
                  <a:pt x="155" y="2294"/>
                </a:lnTo>
                <a:lnTo>
                  <a:pt x="159" y="2274"/>
                </a:lnTo>
                <a:lnTo>
                  <a:pt x="165" y="2255"/>
                </a:lnTo>
                <a:lnTo>
                  <a:pt x="169" y="2234"/>
                </a:lnTo>
                <a:lnTo>
                  <a:pt x="172" y="2211"/>
                </a:lnTo>
                <a:lnTo>
                  <a:pt x="176" y="2188"/>
                </a:lnTo>
                <a:lnTo>
                  <a:pt x="180" y="2163"/>
                </a:lnTo>
                <a:lnTo>
                  <a:pt x="184" y="2138"/>
                </a:lnTo>
                <a:lnTo>
                  <a:pt x="188" y="2109"/>
                </a:lnTo>
                <a:lnTo>
                  <a:pt x="192" y="2082"/>
                </a:lnTo>
                <a:lnTo>
                  <a:pt x="195" y="2054"/>
                </a:lnTo>
                <a:lnTo>
                  <a:pt x="199" y="2023"/>
                </a:lnTo>
                <a:lnTo>
                  <a:pt x="201" y="1990"/>
                </a:lnTo>
                <a:lnTo>
                  <a:pt x="205" y="1958"/>
                </a:lnTo>
                <a:lnTo>
                  <a:pt x="209" y="1923"/>
                </a:lnTo>
                <a:lnTo>
                  <a:pt x="213" y="1889"/>
                </a:lnTo>
                <a:lnTo>
                  <a:pt x="215" y="1852"/>
                </a:lnTo>
                <a:lnTo>
                  <a:pt x="218" y="1816"/>
                </a:lnTo>
                <a:lnTo>
                  <a:pt x="222" y="1777"/>
                </a:lnTo>
                <a:lnTo>
                  <a:pt x="224" y="1699"/>
                </a:lnTo>
                <a:lnTo>
                  <a:pt x="228" y="1622"/>
                </a:lnTo>
                <a:lnTo>
                  <a:pt x="230" y="1547"/>
                </a:lnTo>
                <a:lnTo>
                  <a:pt x="232" y="1472"/>
                </a:lnTo>
                <a:lnTo>
                  <a:pt x="236" y="1399"/>
                </a:lnTo>
                <a:lnTo>
                  <a:pt x="238" y="1328"/>
                </a:lnTo>
                <a:lnTo>
                  <a:pt x="242" y="1259"/>
                </a:lnTo>
                <a:lnTo>
                  <a:pt x="243" y="1190"/>
                </a:lnTo>
                <a:lnTo>
                  <a:pt x="245" y="1121"/>
                </a:lnTo>
                <a:lnTo>
                  <a:pt x="247" y="1056"/>
                </a:lnTo>
                <a:lnTo>
                  <a:pt x="249" y="990"/>
                </a:lnTo>
                <a:lnTo>
                  <a:pt x="251" y="925"/>
                </a:lnTo>
                <a:lnTo>
                  <a:pt x="251" y="862"/>
                </a:lnTo>
                <a:lnTo>
                  <a:pt x="253" y="800"/>
                </a:lnTo>
                <a:lnTo>
                  <a:pt x="253" y="739"/>
                </a:lnTo>
                <a:lnTo>
                  <a:pt x="253" y="679"/>
                </a:lnTo>
                <a:lnTo>
                  <a:pt x="251" y="651"/>
                </a:lnTo>
                <a:lnTo>
                  <a:pt x="249" y="624"/>
                </a:lnTo>
                <a:lnTo>
                  <a:pt x="249" y="597"/>
                </a:lnTo>
                <a:lnTo>
                  <a:pt x="247" y="570"/>
                </a:lnTo>
                <a:lnTo>
                  <a:pt x="245" y="545"/>
                </a:lnTo>
                <a:lnTo>
                  <a:pt x="243" y="520"/>
                </a:lnTo>
                <a:lnTo>
                  <a:pt x="242" y="495"/>
                </a:lnTo>
                <a:lnTo>
                  <a:pt x="242" y="472"/>
                </a:lnTo>
                <a:lnTo>
                  <a:pt x="240" y="451"/>
                </a:lnTo>
                <a:lnTo>
                  <a:pt x="238" y="428"/>
                </a:lnTo>
                <a:lnTo>
                  <a:pt x="236" y="407"/>
                </a:lnTo>
                <a:lnTo>
                  <a:pt x="234" y="386"/>
                </a:lnTo>
                <a:lnTo>
                  <a:pt x="232" y="367"/>
                </a:lnTo>
                <a:lnTo>
                  <a:pt x="230" y="347"/>
                </a:lnTo>
                <a:lnTo>
                  <a:pt x="228" y="328"/>
                </a:lnTo>
                <a:lnTo>
                  <a:pt x="226" y="311"/>
                </a:lnTo>
                <a:lnTo>
                  <a:pt x="224" y="294"/>
                </a:lnTo>
                <a:lnTo>
                  <a:pt x="222" y="276"/>
                </a:lnTo>
                <a:lnTo>
                  <a:pt x="220" y="261"/>
                </a:lnTo>
                <a:lnTo>
                  <a:pt x="218" y="246"/>
                </a:lnTo>
                <a:lnTo>
                  <a:pt x="217" y="230"/>
                </a:lnTo>
                <a:lnTo>
                  <a:pt x="215" y="217"/>
                </a:lnTo>
                <a:lnTo>
                  <a:pt x="213" y="203"/>
                </a:lnTo>
                <a:lnTo>
                  <a:pt x="211" y="192"/>
                </a:lnTo>
                <a:lnTo>
                  <a:pt x="207" y="178"/>
                </a:lnTo>
                <a:lnTo>
                  <a:pt x="205" y="169"/>
                </a:lnTo>
                <a:lnTo>
                  <a:pt x="203" y="157"/>
                </a:lnTo>
                <a:lnTo>
                  <a:pt x="201" y="148"/>
                </a:lnTo>
                <a:lnTo>
                  <a:pt x="197" y="138"/>
                </a:lnTo>
                <a:lnTo>
                  <a:pt x="195" y="130"/>
                </a:lnTo>
                <a:lnTo>
                  <a:pt x="192" y="123"/>
                </a:lnTo>
                <a:lnTo>
                  <a:pt x="190" y="115"/>
                </a:lnTo>
                <a:lnTo>
                  <a:pt x="184" y="102"/>
                </a:lnTo>
                <a:lnTo>
                  <a:pt x="180" y="90"/>
                </a:lnTo>
                <a:lnTo>
                  <a:pt x="176" y="79"/>
                </a:lnTo>
                <a:lnTo>
                  <a:pt x="174" y="69"/>
                </a:lnTo>
                <a:lnTo>
                  <a:pt x="172" y="59"/>
                </a:lnTo>
                <a:lnTo>
                  <a:pt x="172" y="50"/>
                </a:lnTo>
                <a:lnTo>
                  <a:pt x="174" y="42"/>
                </a:lnTo>
                <a:lnTo>
                  <a:pt x="176" y="36"/>
                </a:lnTo>
                <a:lnTo>
                  <a:pt x="178" y="29"/>
                </a:lnTo>
                <a:lnTo>
                  <a:pt x="182" y="23"/>
                </a:lnTo>
                <a:lnTo>
                  <a:pt x="186" y="19"/>
                </a:lnTo>
                <a:lnTo>
                  <a:pt x="192" y="13"/>
                </a:lnTo>
                <a:lnTo>
                  <a:pt x="197" y="10"/>
                </a:lnTo>
                <a:lnTo>
                  <a:pt x="205" y="6"/>
                </a:lnTo>
                <a:lnTo>
                  <a:pt x="213" y="2"/>
                </a:lnTo>
                <a:lnTo>
                  <a:pt x="222" y="0"/>
                </a:lnTo>
                <a:lnTo>
                  <a:pt x="230" y="0"/>
                </a:lnTo>
                <a:lnTo>
                  <a:pt x="242" y="0"/>
                </a:lnTo>
                <a:lnTo>
                  <a:pt x="251" y="2"/>
                </a:lnTo>
                <a:lnTo>
                  <a:pt x="263" y="4"/>
                </a:lnTo>
                <a:lnTo>
                  <a:pt x="276" y="8"/>
                </a:lnTo>
                <a:lnTo>
                  <a:pt x="288" y="11"/>
                </a:lnTo>
                <a:lnTo>
                  <a:pt x="303" y="15"/>
                </a:lnTo>
                <a:lnTo>
                  <a:pt x="316" y="19"/>
                </a:lnTo>
                <a:lnTo>
                  <a:pt x="332" y="25"/>
                </a:lnTo>
                <a:lnTo>
                  <a:pt x="347" y="29"/>
                </a:lnTo>
                <a:lnTo>
                  <a:pt x="364" y="36"/>
                </a:lnTo>
                <a:lnTo>
                  <a:pt x="382" y="42"/>
                </a:lnTo>
                <a:lnTo>
                  <a:pt x="401" y="48"/>
                </a:lnTo>
                <a:lnTo>
                  <a:pt x="420" y="56"/>
                </a:lnTo>
                <a:lnTo>
                  <a:pt x="439" y="63"/>
                </a:lnTo>
                <a:lnTo>
                  <a:pt x="460" y="73"/>
                </a:lnTo>
                <a:lnTo>
                  <a:pt x="458" y="153"/>
                </a:lnTo>
                <a:lnTo>
                  <a:pt x="456" y="234"/>
                </a:lnTo>
                <a:lnTo>
                  <a:pt x="455" y="313"/>
                </a:lnTo>
                <a:lnTo>
                  <a:pt x="453" y="390"/>
                </a:lnTo>
                <a:lnTo>
                  <a:pt x="451" y="464"/>
                </a:lnTo>
                <a:lnTo>
                  <a:pt x="449" y="539"/>
                </a:lnTo>
                <a:lnTo>
                  <a:pt x="447" y="610"/>
                </a:lnTo>
                <a:lnTo>
                  <a:pt x="445" y="681"/>
                </a:lnTo>
                <a:lnTo>
                  <a:pt x="443" y="750"/>
                </a:lnTo>
                <a:lnTo>
                  <a:pt x="441" y="818"/>
                </a:lnTo>
                <a:lnTo>
                  <a:pt x="437" y="883"/>
                </a:lnTo>
                <a:lnTo>
                  <a:pt x="435" y="948"/>
                </a:lnTo>
                <a:lnTo>
                  <a:pt x="433" y="1011"/>
                </a:lnTo>
                <a:lnTo>
                  <a:pt x="430" y="1071"/>
                </a:lnTo>
                <a:lnTo>
                  <a:pt x="428" y="1132"/>
                </a:lnTo>
                <a:lnTo>
                  <a:pt x="426" y="1190"/>
                </a:lnTo>
                <a:lnTo>
                  <a:pt x="422" y="1246"/>
                </a:lnTo>
                <a:lnTo>
                  <a:pt x="420" y="1301"/>
                </a:lnTo>
                <a:lnTo>
                  <a:pt x="418" y="1353"/>
                </a:lnTo>
                <a:lnTo>
                  <a:pt x="414" y="1405"/>
                </a:lnTo>
                <a:lnTo>
                  <a:pt x="412" y="1457"/>
                </a:lnTo>
                <a:lnTo>
                  <a:pt x="409" y="1505"/>
                </a:lnTo>
                <a:lnTo>
                  <a:pt x="407" y="1551"/>
                </a:lnTo>
                <a:lnTo>
                  <a:pt x="403" y="1597"/>
                </a:lnTo>
                <a:lnTo>
                  <a:pt x="401" y="1641"/>
                </a:lnTo>
                <a:lnTo>
                  <a:pt x="397" y="1683"/>
                </a:lnTo>
                <a:lnTo>
                  <a:pt x="395" y="1725"/>
                </a:lnTo>
                <a:lnTo>
                  <a:pt x="391" y="1764"/>
                </a:lnTo>
                <a:lnTo>
                  <a:pt x="389" y="1802"/>
                </a:lnTo>
                <a:lnTo>
                  <a:pt x="385" y="1839"/>
                </a:lnTo>
                <a:lnTo>
                  <a:pt x="384" y="1873"/>
                </a:lnTo>
                <a:lnTo>
                  <a:pt x="380" y="1906"/>
                </a:lnTo>
                <a:lnTo>
                  <a:pt x="378" y="1938"/>
                </a:lnTo>
                <a:lnTo>
                  <a:pt x="374" y="1969"/>
                </a:lnTo>
                <a:lnTo>
                  <a:pt x="372" y="2000"/>
                </a:lnTo>
                <a:lnTo>
                  <a:pt x="370" y="2029"/>
                </a:lnTo>
                <a:lnTo>
                  <a:pt x="368" y="2056"/>
                </a:lnTo>
                <a:lnTo>
                  <a:pt x="366" y="2082"/>
                </a:lnTo>
                <a:lnTo>
                  <a:pt x="364" y="2109"/>
                </a:lnTo>
                <a:lnTo>
                  <a:pt x="362" y="2134"/>
                </a:lnTo>
                <a:lnTo>
                  <a:pt x="361" y="2157"/>
                </a:lnTo>
                <a:lnTo>
                  <a:pt x="359" y="2180"/>
                </a:lnTo>
                <a:lnTo>
                  <a:pt x="359" y="2203"/>
                </a:lnTo>
                <a:lnTo>
                  <a:pt x="357" y="2224"/>
                </a:lnTo>
                <a:lnTo>
                  <a:pt x="357" y="2244"/>
                </a:lnTo>
                <a:lnTo>
                  <a:pt x="355" y="2263"/>
                </a:lnTo>
                <a:lnTo>
                  <a:pt x="355" y="2282"/>
                </a:lnTo>
                <a:lnTo>
                  <a:pt x="355" y="2297"/>
                </a:lnTo>
                <a:lnTo>
                  <a:pt x="355" y="2315"/>
                </a:lnTo>
                <a:lnTo>
                  <a:pt x="355" y="2330"/>
                </a:lnTo>
                <a:lnTo>
                  <a:pt x="355" y="2343"/>
                </a:lnTo>
                <a:lnTo>
                  <a:pt x="355" y="2357"/>
                </a:lnTo>
                <a:lnTo>
                  <a:pt x="355" y="2368"/>
                </a:lnTo>
                <a:lnTo>
                  <a:pt x="355" y="2380"/>
                </a:lnTo>
                <a:lnTo>
                  <a:pt x="355" y="2391"/>
                </a:lnTo>
                <a:lnTo>
                  <a:pt x="355" y="2399"/>
                </a:lnTo>
                <a:lnTo>
                  <a:pt x="357" y="2409"/>
                </a:lnTo>
                <a:lnTo>
                  <a:pt x="357" y="2416"/>
                </a:lnTo>
                <a:lnTo>
                  <a:pt x="359" y="2422"/>
                </a:lnTo>
                <a:lnTo>
                  <a:pt x="359" y="2428"/>
                </a:lnTo>
                <a:lnTo>
                  <a:pt x="361" y="2432"/>
                </a:lnTo>
                <a:lnTo>
                  <a:pt x="361" y="2436"/>
                </a:lnTo>
                <a:lnTo>
                  <a:pt x="362" y="2439"/>
                </a:lnTo>
                <a:lnTo>
                  <a:pt x="364" y="2441"/>
                </a:lnTo>
                <a:lnTo>
                  <a:pt x="366" y="2441"/>
                </a:lnTo>
                <a:lnTo>
                  <a:pt x="368" y="2443"/>
                </a:lnTo>
                <a:lnTo>
                  <a:pt x="372" y="2445"/>
                </a:lnTo>
                <a:lnTo>
                  <a:pt x="376" y="2445"/>
                </a:lnTo>
                <a:lnTo>
                  <a:pt x="380" y="2447"/>
                </a:lnTo>
                <a:lnTo>
                  <a:pt x="385" y="2447"/>
                </a:lnTo>
                <a:lnTo>
                  <a:pt x="391" y="2449"/>
                </a:lnTo>
                <a:lnTo>
                  <a:pt x="397" y="2449"/>
                </a:lnTo>
                <a:lnTo>
                  <a:pt x="403" y="2449"/>
                </a:lnTo>
                <a:lnTo>
                  <a:pt x="410" y="2451"/>
                </a:lnTo>
                <a:lnTo>
                  <a:pt x="420" y="2451"/>
                </a:lnTo>
                <a:lnTo>
                  <a:pt x="430" y="2451"/>
                </a:lnTo>
                <a:lnTo>
                  <a:pt x="439" y="2451"/>
                </a:lnTo>
                <a:lnTo>
                  <a:pt x="449" y="2451"/>
                </a:lnTo>
                <a:lnTo>
                  <a:pt x="460" y="2451"/>
                </a:lnTo>
                <a:lnTo>
                  <a:pt x="472" y="2451"/>
                </a:lnTo>
                <a:lnTo>
                  <a:pt x="483" y="2451"/>
                </a:lnTo>
                <a:lnTo>
                  <a:pt x="497" y="2451"/>
                </a:lnTo>
                <a:lnTo>
                  <a:pt x="510" y="2451"/>
                </a:lnTo>
                <a:lnTo>
                  <a:pt x="524" y="2451"/>
                </a:lnTo>
                <a:lnTo>
                  <a:pt x="539" y="2451"/>
                </a:lnTo>
                <a:lnTo>
                  <a:pt x="554" y="2451"/>
                </a:lnTo>
                <a:lnTo>
                  <a:pt x="570" y="2449"/>
                </a:lnTo>
                <a:lnTo>
                  <a:pt x="587" y="2449"/>
                </a:lnTo>
                <a:lnTo>
                  <a:pt x="604" y="2449"/>
                </a:lnTo>
                <a:lnTo>
                  <a:pt x="623" y="2447"/>
                </a:lnTo>
                <a:lnTo>
                  <a:pt x="641" y="2447"/>
                </a:lnTo>
                <a:lnTo>
                  <a:pt x="660" y="2445"/>
                </a:lnTo>
                <a:lnTo>
                  <a:pt x="681" y="2445"/>
                </a:lnTo>
                <a:lnTo>
                  <a:pt x="702" y="2443"/>
                </a:lnTo>
                <a:lnTo>
                  <a:pt x="723" y="2441"/>
                </a:lnTo>
                <a:lnTo>
                  <a:pt x="744" y="2441"/>
                </a:lnTo>
                <a:lnTo>
                  <a:pt x="790" y="2438"/>
                </a:lnTo>
                <a:lnTo>
                  <a:pt x="838" y="2436"/>
                </a:lnTo>
                <a:lnTo>
                  <a:pt x="861" y="2434"/>
                </a:lnTo>
                <a:lnTo>
                  <a:pt x="886" y="2432"/>
                </a:lnTo>
                <a:lnTo>
                  <a:pt x="913" y="2432"/>
                </a:lnTo>
                <a:lnTo>
                  <a:pt x="938" y="2430"/>
                </a:lnTo>
                <a:lnTo>
                  <a:pt x="965" y="2428"/>
                </a:lnTo>
                <a:lnTo>
                  <a:pt x="992" y="2426"/>
                </a:lnTo>
                <a:lnTo>
                  <a:pt x="1019" y="2426"/>
                </a:lnTo>
                <a:lnTo>
                  <a:pt x="1048" y="2424"/>
                </a:lnTo>
                <a:lnTo>
                  <a:pt x="1075" y="2422"/>
                </a:lnTo>
                <a:lnTo>
                  <a:pt x="1105" y="2420"/>
                </a:lnTo>
                <a:lnTo>
                  <a:pt x="1134" y="2418"/>
                </a:lnTo>
                <a:lnTo>
                  <a:pt x="1163" y="2418"/>
                </a:lnTo>
                <a:lnTo>
                  <a:pt x="1194" y="2416"/>
                </a:lnTo>
                <a:lnTo>
                  <a:pt x="1224" y="2414"/>
                </a:lnTo>
                <a:lnTo>
                  <a:pt x="1257" y="2413"/>
                </a:lnTo>
                <a:lnTo>
                  <a:pt x="1288" y="2411"/>
                </a:lnTo>
                <a:lnTo>
                  <a:pt x="1320" y="2409"/>
                </a:lnTo>
                <a:lnTo>
                  <a:pt x="1353" y="2407"/>
                </a:lnTo>
                <a:lnTo>
                  <a:pt x="1387" y="2405"/>
                </a:lnTo>
                <a:lnTo>
                  <a:pt x="1422" y="2403"/>
                </a:lnTo>
                <a:lnTo>
                  <a:pt x="1457" y="2401"/>
                </a:lnTo>
                <a:lnTo>
                  <a:pt x="1491" y="2397"/>
                </a:lnTo>
                <a:lnTo>
                  <a:pt x="1528" y="2395"/>
                </a:lnTo>
                <a:lnTo>
                  <a:pt x="1562" y="2393"/>
                </a:lnTo>
                <a:lnTo>
                  <a:pt x="1600" y="2391"/>
                </a:lnTo>
                <a:lnTo>
                  <a:pt x="1637" y="2388"/>
                </a:lnTo>
                <a:lnTo>
                  <a:pt x="1675" y="2386"/>
                </a:lnTo>
                <a:lnTo>
                  <a:pt x="1714" y="2384"/>
                </a:lnTo>
                <a:lnTo>
                  <a:pt x="1752" y="2382"/>
                </a:lnTo>
                <a:lnTo>
                  <a:pt x="1789" y="2380"/>
                </a:lnTo>
                <a:lnTo>
                  <a:pt x="1825" y="2378"/>
                </a:lnTo>
                <a:lnTo>
                  <a:pt x="1862" y="2378"/>
                </a:lnTo>
                <a:lnTo>
                  <a:pt x="1894" y="2376"/>
                </a:lnTo>
                <a:lnTo>
                  <a:pt x="1929" y="2374"/>
                </a:lnTo>
                <a:lnTo>
                  <a:pt x="1961" y="2374"/>
                </a:lnTo>
                <a:lnTo>
                  <a:pt x="1992" y="2372"/>
                </a:lnTo>
                <a:lnTo>
                  <a:pt x="2023" y="2370"/>
                </a:lnTo>
                <a:lnTo>
                  <a:pt x="2053" y="2370"/>
                </a:lnTo>
                <a:lnTo>
                  <a:pt x="2082" y="2368"/>
                </a:lnTo>
                <a:lnTo>
                  <a:pt x="2109" y="2366"/>
                </a:lnTo>
                <a:lnTo>
                  <a:pt x="2136" y="2366"/>
                </a:lnTo>
                <a:lnTo>
                  <a:pt x="2163" y="2365"/>
                </a:lnTo>
                <a:lnTo>
                  <a:pt x="2188" y="2365"/>
                </a:lnTo>
                <a:lnTo>
                  <a:pt x="2211" y="2363"/>
                </a:lnTo>
                <a:lnTo>
                  <a:pt x="2234" y="2363"/>
                </a:lnTo>
                <a:lnTo>
                  <a:pt x="2257" y="2361"/>
                </a:lnTo>
                <a:lnTo>
                  <a:pt x="2278" y="2361"/>
                </a:lnTo>
                <a:lnTo>
                  <a:pt x="2297" y="2359"/>
                </a:lnTo>
                <a:lnTo>
                  <a:pt x="2316" y="2359"/>
                </a:lnTo>
                <a:lnTo>
                  <a:pt x="2334" y="2357"/>
                </a:lnTo>
                <a:lnTo>
                  <a:pt x="2351" y="2357"/>
                </a:lnTo>
                <a:lnTo>
                  <a:pt x="2368" y="2357"/>
                </a:lnTo>
                <a:lnTo>
                  <a:pt x="2382" y="2357"/>
                </a:lnTo>
                <a:lnTo>
                  <a:pt x="2397" y="2355"/>
                </a:lnTo>
                <a:lnTo>
                  <a:pt x="2410" y="2355"/>
                </a:lnTo>
                <a:lnTo>
                  <a:pt x="2422" y="2355"/>
                </a:lnTo>
                <a:lnTo>
                  <a:pt x="2434" y="2355"/>
                </a:lnTo>
                <a:lnTo>
                  <a:pt x="2443" y="2355"/>
                </a:lnTo>
                <a:lnTo>
                  <a:pt x="2451" y="2355"/>
                </a:lnTo>
                <a:lnTo>
                  <a:pt x="2460" y="2355"/>
                </a:lnTo>
                <a:lnTo>
                  <a:pt x="2474" y="2355"/>
                </a:lnTo>
                <a:lnTo>
                  <a:pt x="2489" y="2355"/>
                </a:lnTo>
                <a:lnTo>
                  <a:pt x="2505" y="2357"/>
                </a:lnTo>
                <a:lnTo>
                  <a:pt x="2520" y="2359"/>
                </a:lnTo>
                <a:lnTo>
                  <a:pt x="2535" y="2363"/>
                </a:lnTo>
                <a:lnTo>
                  <a:pt x="2551" y="2365"/>
                </a:lnTo>
                <a:lnTo>
                  <a:pt x="2566" y="2368"/>
                </a:lnTo>
                <a:lnTo>
                  <a:pt x="2583" y="2374"/>
                </a:lnTo>
                <a:lnTo>
                  <a:pt x="2599" y="2378"/>
                </a:lnTo>
                <a:lnTo>
                  <a:pt x="2616" y="2384"/>
                </a:lnTo>
                <a:lnTo>
                  <a:pt x="2633" y="2390"/>
                </a:lnTo>
                <a:lnTo>
                  <a:pt x="2652" y="2397"/>
                </a:lnTo>
                <a:lnTo>
                  <a:pt x="2670" y="2403"/>
                </a:lnTo>
                <a:lnTo>
                  <a:pt x="2689" y="2411"/>
                </a:lnTo>
                <a:lnTo>
                  <a:pt x="2708" y="2418"/>
                </a:lnTo>
                <a:lnTo>
                  <a:pt x="2729" y="2426"/>
                </a:lnTo>
                <a:lnTo>
                  <a:pt x="2746" y="2436"/>
                </a:lnTo>
                <a:lnTo>
                  <a:pt x="2762" y="2443"/>
                </a:lnTo>
                <a:lnTo>
                  <a:pt x="2777" y="2451"/>
                </a:lnTo>
                <a:lnTo>
                  <a:pt x="2792" y="2459"/>
                </a:lnTo>
                <a:lnTo>
                  <a:pt x="2804" y="2468"/>
                </a:lnTo>
                <a:lnTo>
                  <a:pt x="2815" y="2476"/>
                </a:lnTo>
                <a:lnTo>
                  <a:pt x="2827" y="2484"/>
                </a:lnTo>
                <a:lnTo>
                  <a:pt x="2837" y="2491"/>
                </a:lnTo>
                <a:lnTo>
                  <a:pt x="2844" y="2499"/>
                </a:lnTo>
                <a:lnTo>
                  <a:pt x="2852" y="2509"/>
                </a:lnTo>
                <a:lnTo>
                  <a:pt x="2858" y="2516"/>
                </a:lnTo>
                <a:lnTo>
                  <a:pt x="2863" y="2524"/>
                </a:lnTo>
                <a:lnTo>
                  <a:pt x="2867" y="2532"/>
                </a:lnTo>
                <a:lnTo>
                  <a:pt x="2869" y="2541"/>
                </a:lnTo>
                <a:lnTo>
                  <a:pt x="2871" y="2549"/>
                </a:lnTo>
                <a:lnTo>
                  <a:pt x="2873" y="2557"/>
                </a:lnTo>
                <a:lnTo>
                  <a:pt x="2871" y="2564"/>
                </a:lnTo>
                <a:lnTo>
                  <a:pt x="2871" y="2572"/>
                </a:lnTo>
                <a:lnTo>
                  <a:pt x="2869" y="2578"/>
                </a:lnTo>
                <a:lnTo>
                  <a:pt x="2867" y="2583"/>
                </a:lnTo>
                <a:lnTo>
                  <a:pt x="2863" y="2589"/>
                </a:lnTo>
                <a:lnTo>
                  <a:pt x="2860" y="2593"/>
                </a:lnTo>
                <a:lnTo>
                  <a:pt x="2856" y="2599"/>
                </a:lnTo>
                <a:lnTo>
                  <a:pt x="2850" y="2601"/>
                </a:lnTo>
                <a:lnTo>
                  <a:pt x="2844" y="2604"/>
                </a:lnTo>
                <a:lnTo>
                  <a:pt x="2838" y="2606"/>
                </a:lnTo>
                <a:lnTo>
                  <a:pt x="2833" y="2610"/>
                </a:lnTo>
                <a:lnTo>
                  <a:pt x="2825" y="2610"/>
                </a:lnTo>
                <a:lnTo>
                  <a:pt x="2810" y="2614"/>
                </a:lnTo>
                <a:lnTo>
                  <a:pt x="2792" y="2614"/>
                </a:lnTo>
                <a:lnTo>
                  <a:pt x="2789" y="2614"/>
                </a:lnTo>
                <a:lnTo>
                  <a:pt x="2783" y="2614"/>
                </a:lnTo>
                <a:lnTo>
                  <a:pt x="2775" y="2614"/>
                </a:lnTo>
                <a:lnTo>
                  <a:pt x="2769" y="2614"/>
                </a:lnTo>
                <a:lnTo>
                  <a:pt x="2760" y="2612"/>
                </a:lnTo>
                <a:lnTo>
                  <a:pt x="2752" y="2612"/>
                </a:lnTo>
                <a:lnTo>
                  <a:pt x="2741" y="2612"/>
                </a:lnTo>
                <a:lnTo>
                  <a:pt x="2731" y="2612"/>
                </a:lnTo>
                <a:lnTo>
                  <a:pt x="2719" y="2610"/>
                </a:lnTo>
                <a:lnTo>
                  <a:pt x="2708" y="2610"/>
                </a:lnTo>
                <a:lnTo>
                  <a:pt x="2695" y="2608"/>
                </a:lnTo>
                <a:lnTo>
                  <a:pt x="2681" y="2608"/>
                </a:lnTo>
                <a:lnTo>
                  <a:pt x="2666" y="2606"/>
                </a:lnTo>
                <a:lnTo>
                  <a:pt x="2650" y="2606"/>
                </a:lnTo>
                <a:lnTo>
                  <a:pt x="2635" y="2604"/>
                </a:lnTo>
                <a:lnTo>
                  <a:pt x="2618" y="2603"/>
                </a:lnTo>
                <a:lnTo>
                  <a:pt x="2600" y="2603"/>
                </a:lnTo>
                <a:lnTo>
                  <a:pt x="2583" y="2601"/>
                </a:lnTo>
                <a:lnTo>
                  <a:pt x="2564" y="2599"/>
                </a:lnTo>
                <a:lnTo>
                  <a:pt x="2543" y="2597"/>
                </a:lnTo>
                <a:lnTo>
                  <a:pt x="2524" y="2595"/>
                </a:lnTo>
                <a:lnTo>
                  <a:pt x="2503" y="2593"/>
                </a:lnTo>
                <a:lnTo>
                  <a:pt x="2480" y="2593"/>
                </a:lnTo>
                <a:lnTo>
                  <a:pt x="2458" y="2589"/>
                </a:lnTo>
                <a:lnTo>
                  <a:pt x="2435" y="2587"/>
                </a:lnTo>
                <a:lnTo>
                  <a:pt x="2410" y="2585"/>
                </a:lnTo>
                <a:lnTo>
                  <a:pt x="2386" y="2583"/>
                </a:lnTo>
                <a:lnTo>
                  <a:pt x="2361" y="2581"/>
                </a:lnTo>
                <a:lnTo>
                  <a:pt x="2336" y="2580"/>
                </a:lnTo>
                <a:lnTo>
                  <a:pt x="2309" y="2576"/>
                </a:lnTo>
                <a:lnTo>
                  <a:pt x="2282" y="2574"/>
                </a:lnTo>
                <a:lnTo>
                  <a:pt x="2253" y="2572"/>
                </a:lnTo>
                <a:lnTo>
                  <a:pt x="2194" y="2568"/>
                </a:lnTo>
                <a:lnTo>
                  <a:pt x="2130" y="2566"/>
                </a:lnTo>
                <a:lnTo>
                  <a:pt x="2067" y="2564"/>
                </a:lnTo>
                <a:lnTo>
                  <a:pt x="2004" y="2562"/>
                </a:lnTo>
                <a:lnTo>
                  <a:pt x="1936" y="2562"/>
                </a:lnTo>
                <a:lnTo>
                  <a:pt x="1867" y="2560"/>
                </a:lnTo>
                <a:lnTo>
                  <a:pt x="1798" y="2560"/>
                </a:lnTo>
                <a:lnTo>
                  <a:pt x="1727" y="2562"/>
                </a:lnTo>
                <a:lnTo>
                  <a:pt x="1654" y="2562"/>
                </a:lnTo>
                <a:lnTo>
                  <a:pt x="1579" y="2564"/>
                </a:lnTo>
                <a:lnTo>
                  <a:pt x="1503" y="2566"/>
                </a:lnTo>
                <a:lnTo>
                  <a:pt x="1424" y="2568"/>
                </a:lnTo>
                <a:lnTo>
                  <a:pt x="1345" y="2572"/>
                </a:lnTo>
                <a:lnTo>
                  <a:pt x="1263" y="2576"/>
                </a:lnTo>
                <a:lnTo>
                  <a:pt x="1180" y="2580"/>
                </a:lnTo>
                <a:lnTo>
                  <a:pt x="1094" y="2585"/>
                </a:lnTo>
                <a:lnTo>
                  <a:pt x="1052" y="2587"/>
                </a:lnTo>
                <a:lnTo>
                  <a:pt x="1009" y="2591"/>
                </a:lnTo>
                <a:lnTo>
                  <a:pt x="969" y="2593"/>
                </a:lnTo>
                <a:lnTo>
                  <a:pt x="931" y="2597"/>
                </a:lnTo>
                <a:lnTo>
                  <a:pt x="892" y="2601"/>
                </a:lnTo>
                <a:lnTo>
                  <a:pt x="856" y="2603"/>
                </a:lnTo>
                <a:lnTo>
                  <a:pt x="819" y="2606"/>
                </a:lnTo>
                <a:lnTo>
                  <a:pt x="785" y="2610"/>
                </a:lnTo>
                <a:lnTo>
                  <a:pt x="750" y="2612"/>
                </a:lnTo>
                <a:lnTo>
                  <a:pt x="719" y="2616"/>
                </a:lnTo>
                <a:lnTo>
                  <a:pt x="687" y="2620"/>
                </a:lnTo>
                <a:lnTo>
                  <a:pt x="656" y="2624"/>
                </a:lnTo>
                <a:lnTo>
                  <a:pt x="627" y="2628"/>
                </a:lnTo>
                <a:lnTo>
                  <a:pt x="599" y="2629"/>
                </a:lnTo>
                <a:lnTo>
                  <a:pt x="572" y="2633"/>
                </a:lnTo>
                <a:lnTo>
                  <a:pt x="547" y="2637"/>
                </a:lnTo>
                <a:lnTo>
                  <a:pt x="522" y="2641"/>
                </a:lnTo>
                <a:lnTo>
                  <a:pt x="499" y="2645"/>
                </a:lnTo>
                <a:lnTo>
                  <a:pt x="476" y="2649"/>
                </a:lnTo>
                <a:lnTo>
                  <a:pt x="455" y="2652"/>
                </a:lnTo>
                <a:lnTo>
                  <a:pt x="433" y="2656"/>
                </a:lnTo>
                <a:lnTo>
                  <a:pt x="414" y="2660"/>
                </a:lnTo>
                <a:lnTo>
                  <a:pt x="397" y="2664"/>
                </a:lnTo>
                <a:lnTo>
                  <a:pt x="380" y="2668"/>
                </a:lnTo>
                <a:lnTo>
                  <a:pt x="364" y="2672"/>
                </a:lnTo>
                <a:lnTo>
                  <a:pt x="349" y="2676"/>
                </a:lnTo>
                <a:lnTo>
                  <a:pt x="336" y="2681"/>
                </a:lnTo>
                <a:lnTo>
                  <a:pt x="324" y="2685"/>
                </a:lnTo>
                <a:lnTo>
                  <a:pt x="313" y="2689"/>
                </a:lnTo>
                <a:lnTo>
                  <a:pt x="301" y="2693"/>
                </a:lnTo>
                <a:lnTo>
                  <a:pt x="293" y="2697"/>
                </a:lnTo>
                <a:lnTo>
                  <a:pt x="286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62"/>
          <p:cNvSpPr/>
          <p:nvPr/>
        </p:nvSpPr>
        <p:spPr>
          <a:xfrm>
            <a:off x="5676840" y="2762280"/>
            <a:ext cx="1814400" cy="241200"/>
          </a:xfrm>
          <a:custGeom>
            <a:avLst/>
            <a:gdLst/>
            <a:ahLst/>
            <a:rect l="l" t="t" r="r" b="b"/>
            <a:pathLst>
              <a:path w="2286" h="303">
                <a:moveTo>
                  <a:pt x="1190" y="71"/>
                </a:moveTo>
                <a:lnTo>
                  <a:pt x="1238" y="63"/>
                </a:lnTo>
                <a:lnTo>
                  <a:pt x="1284" y="55"/>
                </a:lnTo>
                <a:lnTo>
                  <a:pt x="1330" y="48"/>
                </a:lnTo>
                <a:lnTo>
                  <a:pt x="1374" y="42"/>
                </a:lnTo>
                <a:lnTo>
                  <a:pt x="1418" y="34"/>
                </a:lnTo>
                <a:lnTo>
                  <a:pt x="1461" y="29"/>
                </a:lnTo>
                <a:lnTo>
                  <a:pt x="1503" y="23"/>
                </a:lnTo>
                <a:lnTo>
                  <a:pt x="1545" y="19"/>
                </a:lnTo>
                <a:lnTo>
                  <a:pt x="1585" y="13"/>
                </a:lnTo>
                <a:lnTo>
                  <a:pt x="1626" y="9"/>
                </a:lnTo>
                <a:lnTo>
                  <a:pt x="1664" y="7"/>
                </a:lnTo>
                <a:lnTo>
                  <a:pt x="1701" y="4"/>
                </a:lnTo>
                <a:lnTo>
                  <a:pt x="1737" y="2"/>
                </a:lnTo>
                <a:lnTo>
                  <a:pt x="1774" y="0"/>
                </a:lnTo>
                <a:lnTo>
                  <a:pt x="1808" y="0"/>
                </a:lnTo>
                <a:lnTo>
                  <a:pt x="1841" y="0"/>
                </a:lnTo>
                <a:lnTo>
                  <a:pt x="1873" y="0"/>
                </a:lnTo>
                <a:lnTo>
                  <a:pt x="1904" y="0"/>
                </a:lnTo>
                <a:lnTo>
                  <a:pt x="1935" y="0"/>
                </a:lnTo>
                <a:lnTo>
                  <a:pt x="1962" y="2"/>
                </a:lnTo>
                <a:lnTo>
                  <a:pt x="1990" y="4"/>
                </a:lnTo>
                <a:lnTo>
                  <a:pt x="2017" y="6"/>
                </a:lnTo>
                <a:lnTo>
                  <a:pt x="2042" y="7"/>
                </a:lnTo>
                <a:lnTo>
                  <a:pt x="2065" y="9"/>
                </a:lnTo>
                <a:lnTo>
                  <a:pt x="2088" y="13"/>
                </a:lnTo>
                <a:lnTo>
                  <a:pt x="2109" y="15"/>
                </a:lnTo>
                <a:lnTo>
                  <a:pt x="2129" y="19"/>
                </a:lnTo>
                <a:lnTo>
                  <a:pt x="2146" y="23"/>
                </a:lnTo>
                <a:lnTo>
                  <a:pt x="2163" y="29"/>
                </a:lnTo>
                <a:lnTo>
                  <a:pt x="2179" y="32"/>
                </a:lnTo>
                <a:lnTo>
                  <a:pt x="2194" y="38"/>
                </a:lnTo>
                <a:lnTo>
                  <a:pt x="2205" y="42"/>
                </a:lnTo>
                <a:lnTo>
                  <a:pt x="2223" y="57"/>
                </a:lnTo>
                <a:lnTo>
                  <a:pt x="2238" y="73"/>
                </a:lnTo>
                <a:lnTo>
                  <a:pt x="2246" y="78"/>
                </a:lnTo>
                <a:lnTo>
                  <a:pt x="2252" y="86"/>
                </a:lnTo>
                <a:lnTo>
                  <a:pt x="2257" y="92"/>
                </a:lnTo>
                <a:lnTo>
                  <a:pt x="2263" y="96"/>
                </a:lnTo>
                <a:lnTo>
                  <a:pt x="2269" y="101"/>
                </a:lnTo>
                <a:lnTo>
                  <a:pt x="2273" y="107"/>
                </a:lnTo>
                <a:lnTo>
                  <a:pt x="2276" y="111"/>
                </a:lnTo>
                <a:lnTo>
                  <a:pt x="2280" y="115"/>
                </a:lnTo>
                <a:lnTo>
                  <a:pt x="2282" y="119"/>
                </a:lnTo>
                <a:lnTo>
                  <a:pt x="2284" y="123"/>
                </a:lnTo>
                <a:lnTo>
                  <a:pt x="2286" y="126"/>
                </a:lnTo>
                <a:lnTo>
                  <a:pt x="2286" y="128"/>
                </a:lnTo>
                <a:lnTo>
                  <a:pt x="2284" y="134"/>
                </a:lnTo>
                <a:lnTo>
                  <a:pt x="2282" y="140"/>
                </a:lnTo>
                <a:lnTo>
                  <a:pt x="2280" y="142"/>
                </a:lnTo>
                <a:lnTo>
                  <a:pt x="2278" y="146"/>
                </a:lnTo>
                <a:lnTo>
                  <a:pt x="2275" y="148"/>
                </a:lnTo>
                <a:lnTo>
                  <a:pt x="2271" y="151"/>
                </a:lnTo>
                <a:lnTo>
                  <a:pt x="2267" y="153"/>
                </a:lnTo>
                <a:lnTo>
                  <a:pt x="2263" y="155"/>
                </a:lnTo>
                <a:lnTo>
                  <a:pt x="2257" y="159"/>
                </a:lnTo>
                <a:lnTo>
                  <a:pt x="2252" y="161"/>
                </a:lnTo>
                <a:lnTo>
                  <a:pt x="2246" y="165"/>
                </a:lnTo>
                <a:lnTo>
                  <a:pt x="2238" y="167"/>
                </a:lnTo>
                <a:lnTo>
                  <a:pt x="2230" y="171"/>
                </a:lnTo>
                <a:lnTo>
                  <a:pt x="2223" y="173"/>
                </a:lnTo>
                <a:lnTo>
                  <a:pt x="2213" y="174"/>
                </a:lnTo>
                <a:lnTo>
                  <a:pt x="2205" y="176"/>
                </a:lnTo>
                <a:lnTo>
                  <a:pt x="2198" y="178"/>
                </a:lnTo>
                <a:lnTo>
                  <a:pt x="2192" y="180"/>
                </a:lnTo>
                <a:lnTo>
                  <a:pt x="2186" y="182"/>
                </a:lnTo>
                <a:lnTo>
                  <a:pt x="2180" y="184"/>
                </a:lnTo>
                <a:lnTo>
                  <a:pt x="2171" y="186"/>
                </a:lnTo>
                <a:lnTo>
                  <a:pt x="2161" y="186"/>
                </a:lnTo>
                <a:lnTo>
                  <a:pt x="2156" y="186"/>
                </a:lnTo>
                <a:lnTo>
                  <a:pt x="2148" y="188"/>
                </a:lnTo>
                <a:lnTo>
                  <a:pt x="2142" y="188"/>
                </a:lnTo>
                <a:lnTo>
                  <a:pt x="2140" y="188"/>
                </a:lnTo>
                <a:lnTo>
                  <a:pt x="2136" y="188"/>
                </a:lnTo>
                <a:lnTo>
                  <a:pt x="2131" y="188"/>
                </a:lnTo>
                <a:lnTo>
                  <a:pt x="2123" y="188"/>
                </a:lnTo>
                <a:lnTo>
                  <a:pt x="2113" y="188"/>
                </a:lnTo>
                <a:lnTo>
                  <a:pt x="2102" y="188"/>
                </a:lnTo>
                <a:lnTo>
                  <a:pt x="2088" y="190"/>
                </a:lnTo>
                <a:lnTo>
                  <a:pt x="2075" y="190"/>
                </a:lnTo>
                <a:lnTo>
                  <a:pt x="2058" y="190"/>
                </a:lnTo>
                <a:lnTo>
                  <a:pt x="2040" y="192"/>
                </a:lnTo>
                <a:lnTo>
                  <a:pt x="2019" y="192"/>
                </a:lnTo>
                <a:lnTo>
                  <a:pt x="1998" y="194"/>
                </a:lnTo>
                <a:lnTo>
                  <a:pt x="1975" y="196"/>
                </a:lnTo>
                <a:lnTo>
                  <a:pt x="1950" y="196"/>
                </a:lnTo>
                <a:lnTo>
                  <a:pt x="1923" y="197"/>
                </a:lnTo>
                <a:lnTo>
                  <a:pt x="1894" y="199"/>
                </a:lnTo>
                <a:lnTo>
                  <a:pt x="1864" y="201"/>
                </a:lnTo>
                <a:lnTo>
                  <a:pt x="1833" y="203"/>
                </a:lnTo>
                <a:lnTo>
                  <a:pt x="1799" y="205"/>
                </a:lnTo>
                <a:lnTo>
                  <a:pt x="1764" y="207"/>
                </a:lnTo>
                <a:lnTo>
                  <a:pt x="1726" y="209"/>
                </a:lnTo>
                <a:lnTo>
                  <a:pt x="1687" y="211"/>
                </a:lnTo>
                <a:lnTo>
                  <a:pt x="1647" y="215"/>
                </a:lnTo>
                <a:lnTo>
                  <a:pt x="1605" y="217"/>
                </a:lnTo>
                <a:lnTo>
                  <a:pt x="1561" y="220"/>
                </a:lnTo>
                <a:lnTo>
                  <a:pt x="1514" y="222"/>
                </a:lnTo>
                <a:lnTo>
                  <a:pt x="1468" y="226"/>
                </a:lnTo>
                <a:lnTo>
                  <a:pt x="1418" y="230"/>
                </a:lnTo>
                <a:lnTo>
                  <a:pt x="1369" y="232"/>
                </a:lnTo>
                <a:lnTo>
                  <a:pt x="1315" y="236"/>
                </a:lnTo>
                <a:lnTo>
                  <a:pt x="1261" y="240"/>
                </a:lnTo>
                <a:lnTo>
                  <a:pt x="1205" y="245"/>
                </a:lnTo>
                <a:lnTo>
                  <a:pt x="1150" y="249"/>
                </a:lnTo>
                <a:lnTo>
                  <a:pt x="1096" y="253"/>
                </a:lnTo>
                <a:lnTo>
                  <a:pt x="1042" y="257"/>
                </a:lnTo>
                <a:lnTo>
                  <a:pt x="989" y="259"/>
                </a:lnTo>
                <a:lnTo>
                  <a:pt x="939" y="263"/>
                </a:lnTo>
                <a:lnTo>
                  <a:pt x="889" y="267"/>
                </a:lnTo>
                <a:lnTo>
                  <a:pt x="839" y="268"/>
                </a:lnTo>
                <a:lnTo>
                  <a:pt x="793" y="272"/>
                </a:lnTo>
                <a:lnTo>
                  <a:pt x="745" y="274"/>
                </a:lnTo>
                <a:lnTo>
                  <a:pt x="701" y="278"/>
                </a:lnTo>
                <a:lnTo>
                  <a:pt x="656" y="280"/>
                </a:lnTo>
                <a:lnTo>
                  <a:pt x="614" y="282"/>
                </a:lnTo>
                <a:lnTo>
                  <a:pt x="572" y="284"/>
                </a:lnTo>
                <a:lnTo>
                  <a:pt x="532" y="286"/>
                </a:lnTo>
                <a:lnTo>
                  <a:pt x="491" y="288"/>
                </a:lnTo>
                <a:lnTo>
                  <a:pt x="453" y="290"/>
                </a:lnTo>
                <a:lnTo>
                  <a:pt x="417" y="292"/>
                </a:lnTo>
                <a:lnTo>
                  <a:pt x="382" y="293"/>
                </a:lnTo>
                <a:lnTo>
                  <a:pt x="346" y="295"/>
                </a:lnTo>
                <a:lnTo>
                  <a:pt x="313" y="295"/>
                </a:lnTo>
                <a:lnTo>
                  <a:pt x="280" y="297"/>
                </a:lnTo>
                <a:lnTo>
                  <a:pt x="250" y="297"/>
                </a:lnTo>
                <a:lnTo>
                  <a:pt x="219" y="299"/>
                </a:lnTo>
                <a:lnTo>
                  <a:pt x="190" y="299"/>
                </a:lnTo>
                <a:lnTo>
                  <a:pt x="163" y="301"/>
                </a:lnTo>
                <a:lnTo>
                  <a:pt x="136" y="301"/>
                </a:lnTo>
                <a:lnTo>
                  <a:pt x="109" y="301"/>
                </a:lnTo>
                <a:lnTo>
                  <a:pt x="86" y="301"/>
                </a:lnTo>
                <a:lnTo>
                  <a:pt x="63" y="303"/>
                </a:lnTo>
                <a:lnTo>
                  <a:pt x="40" y="303"/>
                </a:lnTo>
                <a:lnTo>
                  <a:pt x="19" y="303"/>
                </a:lnTo>
                <a:lnTo>
                  <a:pt x="0" y="303"/>
                </a:lnTo>
                <a:lnTo>
                  <a:pt x="0" y="245"/>
                </a:lnTo>
                <a:lnTo>
                  <a:pt x="0" y="188"/>
                </a:lnTo>
                <a:lnTo>
                  <a:pt x="29" y="186"/>
                </a:lnTo>
                <a:lnTo>
                  <a:pt x="58" y="184"/>
                </a:lnTo>
                <a:lnTo>
                  <a:pt x="86" y="182"/>
                </a:lnTo>
                <a:lnTo>
                  <a:pt x="113" y="182"/>
                </a:lnTo>
                <a:lnTo>
                  <a:pt x="142" y="180"/>
                </a:lnTo>
                <a:lnTo>
                  <a:pt x="169" y="178"/>
                </a:lnTo>
                <a:lnTo>
                  <a:pt x="194" y="176"/>
                </a:lnTo>
                <a:lnTo>
                  <a:pt x="219" y="176"/>
                </a:lnTo>
                <a:lnTo>
                  <a:pt x="244" y="174"/>
                </a:lnTo>
                <a:lnTo>
                  <a:pt x="269" y="173"/>
                </a:lnTo>
                <a:lnTo>
                  <a:pt x="292" y="173"/>
                </a:lnTo>
                <a:lnTo>
                  <a:pt x="317" y="171"/>
                </a:lnTo>
                <a:lnTo>
                  <a:pt x="338" y="169"/>
                </a:lnTo>
                <a:lnTo>
                  <a:pt x="361" y="169"/>
                </a:lnTo>
                <a:lnTo>
                  <a:pt x="382" y="167"/>
                </a:lnTo>
                <a:lnTo>
                  <a:pt x="403" y="165"/>
                </a:lnTo>
                <a:lnTo>
                  <a:pt x="422" y="163"/>
                </a:lnTo>
                <a:lnTo>
                  <a:pt x="441" y="163"/>
                </a:lnTo>
                <a:lnTo>
                  <a:pt x="461" y="161"/>
                </a:lnTo>
                <a:lnTo>
                  <a:pt x="480" y="159"/>
                </a:lnTo>
                <a:lnTo>
                  <a:pt x="497" y="159"/>
                </a:lnTo>
                <a:lnTo>
                  <a:pt x="514" y="157"/>
                </a:lnTo>
                <a:lnTo>
                  <a:pt x="530" y="155"/>
                </a:lnTo>
                <a:lnTo>
                  <a:pt x="547" y="155"/>
                </a:lnTo>
                <a:lnTo>
                  <a:pt x="562" y="153"/>
                </a:lnTo>
                <a:lnTo>
                  <a:pt x="576" y="151"/>
                </a:lnTo>
                <a:lnTo>
                  <a:pt x="589" y="149"/>
                </a:lnTo>
                <a:lnTo>
                  <a:pt x="603" y="149"/>
                </a:lnTo>
                <a:lnTo>
                  <a:pt x="616" y="148"/>
                </a:lnTo>
                <a:lnTo>
                  <a:pt x="628" y="146"/>
                </a:lnTo>
                <a:lnTo>
                  <a:pt x="639" y="144"/>
                </a:lnTo>
                <a:lnTo>
                  <a:pt x="651" y="144"/>
                </a:lnTo>
                <a:lnTo>
                  <a:pt x="672" y="140"/>
                </a:lnTo>
                <a:lnTo>
                  <a:pt x="695" y="138"/>
                </a:lnTo>
                <a:lnTo>
                  <a:pt x="722" y="134"/>
                </a:lnTo>
                <a:lnTo>
                  <a:pt x="749" y="132"/>
                </a:lnTo>
                <a:lnTo>
                  <a:pt x="777" y="128"/>
                </a:lnTo>
                <a:lnTo>
                  <a:pt x="808" y="126"/>
                </a:lnTo>
                <a:lnTo>
                  <a:pt x="839" y="123"/>
                </a:lnTo>
                <a:lnTo>
                  <a:pt x="873" y="119"/>
                </a:lnTo>
                <a:lnTo>
                  <a:pt x="908" y="115"/>
                </a:lnTo>
                <a:lnTo>
                  <a:pt x="944" y="109"/>
                </a:lnTo>
                <a:lnTo>
                  <a:pt x="983" y="105"/>
                </a:lnTo>
                <a:lnTo>
                  <a:pt x="1021" y="100"/>
                </a:lnTo>
                <a:lnTo>
                  <a:pt x="1061" y="94"/>
                </a:lnTo>
                <a:lnTo>
                  <a:pt x="1104" y="86"/>
                </a:lnTo>
                <a:lnTo>
                  <a:pt x="1146" y="78"/>
                </a:lnTo>
                <a:lnTo>
                  <a:pt x="1190" y="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2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8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宀”宜宽，有覆盖之势，下部横画略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矩形 3"/>
          <p:cNvSpPr/>
          <p:nvPr/>
        </p:nvSpPr>
        <p:spPr>
          <a:xfrm>
            <a:off x="1935000" y="1868400"/>
            <a:ext cx="153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ó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71"/>
          <p:cNvSpPr/>
          <p:nvPr/>
        </p:nvSpPr>
        <p:spPr>
          <a:xfrm>
            <a:off x="7004160" y="4503600"/>
            <a:ext cx="495360" cy="560520"/>
          </a:xfrm>
          <a:custGeom>
            <a:avLst/>
            <a:gdLst/>
            <a:ahLst/>
            <a:rect l="l" t="t" r="r" b="b"/>
            <a:pathLst>
              <a:path w="624" h="704">
                <a:moveTo>
                  <a:pt x="410" y="228"/>
                </a:moveTo>
                <a:lnTo>
                  <a:pt x="432" y="243"/>
                </a:lnTo>
                <a:lnTo>
                  <a:pt x="451" y="261"/>
                </a:lnTo>
                <a:lnTo>
                  <a:pt x="468" y="276"/>
                </a:lnTo>
                <a:lnTo>
                  <a:pt x="487" y="291"/>
                </a:lnTo>
                <a:lnTo>
                  <a:pt x="503" y="305"/>
                </a:lnTo>
                <a:lnTo>
                  <a:pt x="518" y="320"/>
                </a:lnTo>
                <a:lnTo>
                  <a:pt x="531" y="334"/>
                </a:lnTo>
                <a:lnTo>
                  <a:pt x="545" y="349"/>
                </a:lnTo>
                <a:lnTo>
                  <a:pt x="556" y="362"/>
                </a:lnTo>
                <a:lnTo>
                  <a:pt x="568" y="376"/>
                </a:lnTo>
                <a:lnTo>
                  <a:pt x="577" y="389"/>
                </a:lnTo>
                <a:lnTo>
                  <a:pt x="587" y="403"/>
                </a:lnTo>
                <a:lnTo>
                  <a:pt x="595" y="416"/>
                </a:lnTo>
                <a:lnTo>
                  <a:pt x="602" y="431"/>
                </a:lnTo>
                <a:lnTo>
                  <a:pt x="608" y="445"/>
                </a:lnTo>
                <a:lnTo>
                  <a:pt x="614" y="460"/>
                </a:lnTo>
                <a:lnTo>
                  <a:pt x="618" y="483"/>
                </a:lnTo>
                <a:lnTo>
                  <a:pt x="620" y="504"/>
                </a:lnTo>
                <a:lnTo>
                  <a:pt x="622" y="527"/>
                </a:lnTo>
                <a:lnTo>
                  <a:pt x="624" y="549"/>
                </a:lnTo>
                <a:lnTo>
                  <a:pt x="622" y="568"/>
                </a:lnTo>
                <a:lnTo>
                  <a:pt x="620" y="587"/>
                </a:lnTo>
                <a:lnTo>
                  <a:pt x="618" y="608"/>
                </a:lnTo>
                <a:lnTo>
                  <a:pt x="614" y="627"/>
                </a:lnTo>
                <a:lnTo>
                  <a:pt x="608" y="637"/>
                </a:lnTo>
                <a:lnTo>
                  <a:pt x="604" y="645"/>
                </a:lnTo>
                <a:lnTo>
                  <a:pt x="599" y="654"/>
                </a:lnTo>
                <a:lnTo>
                  <a:pt x="595" y="660"/>
                </a:lnTo>
                <a:lnTo>
                  <a:pt x="591" y="668"/>
                </a:lnTo>
                <a:lnTo>
                  <a:pt x="585" y="673"/>
                </a:lnTo>
                <a:lnTo>
                  <a:pt x="581" y="679"/>
                </a:lnTo>
                <a:lnTo>
                  <a:pt x="577" y="685"/>
                </a:lnTo>
                <a:lnTo>
                  <a:pt x="574" y="689"/>
                </a:lnTo>
                <a:lnTo>
                  <a:pt x="570" y="693"/>
                </a:lnTo>
                <a:lnTo>
                  <a:pt x="566" y="696"/>
                </a:lnTo>
                <a:lnTo>
                  <a:pt x="562" y="700"/>
                </a:lnTo>
                <a:lnTo>
                  <a:pt x="558" y="702"/>
                </a:lnTo>
                <a:lnTo>
                  <a:pt x="556" y="702"/>
                </a:lnTo>
                <a:lnTo>
                  <a:pt x="552" y="704"/>
                </a:lnTo>
                <a:lnTo>
                  <a:pt x="551" y="704"/>
                </a:lnTo>
                <a:lnTo>
                  <a:pt x="545" y="704"/>
                </a:lnTo>
                <a:lnTo>
                  <a:pt x="539" y="700"/>
                </a:lnTo>
                <a:lnTo>
                  <a:pt x="529" y="696"/>
                </a:lnTo>
                <a:lnTo>
                  <a:pt x="522" y="691"/>
                </a:lnTo>
                <a:lnTo>
                  <a:pt x="510" y="681"/>
                </a:lnTo>
                <a:lnTo>
                  <a:pt x="499" y="671"/>
                </a:lnTo>
                <a:lnTo>
                  <a:pt x="485" y="660"/>
                </a:lnTo>
                <a:lnTo>
                  <a:pt x="472" y="646"/>
                </a:lnTo>
                <a:lnTo>
                  <a:pt x="457" y="631"/>
                </a:lnTo>
                <a:lnTo>
                  <a:pt x="439" y="614"/>
                </a:lnTo>
                <a:lnTo>
                  <a:pt x="420" y="595"/>
                </a:lnTo>
                <a:lnTo>
                  <a:pt x="401" y="574"/>
                </a:lnTo>
                <a:lnTo>
                  <a:pt x="380" y="552"/>
                </a:lnTo>
                <a:lnTo>
                  <a:pt x="357" y="527"/>
                </a:lnTo>
                <a:lnTo>
                  <a:pt x="334" y="501"/>
                </a:lnTo>
                <a:lnTo>
                  <a:pt x="309" y="472"/>
                </a:lnTo>
                <a:lnTo>
                  <a:pt x="284" y="441"/>
                </a:lnTo>
                <a:lnTo>
                  <a:pt x="259" y="412"/>
                </a:lnTo>
                <a:lnTo>
                  <a:pt x="236" y="383"/>
                </a:lnTo>
                <a:lnTo>
                  <a:pt x="215" y="355"/>
                </a:lnTo>
                <a:lnTo>
                  <a:pt x="195" y="330"/>
                </a:lnTo>
                <a:lnTo>
                  <a:pt x="176" y="305"/>
                </a:lnTo>
                <a:lnTo>
                  <a:pt x="159" y="282"/>
                </a:lnTo>
                <a:lnTo>
                  <a:pt x="144" y="259"/>
                </a:lnTo>
                <a:lnTo>
                  <a:pt x="128" y="238"/>
                </a:lnTo>
                <a:lnTo>
                  <a:pt x="115" y="218"/>
                </a:lnTo>
                <a:lnTo>
                  <a:pt x="101" y="199"/>
                </a:lnTo>
                <a:lnTo>
                  <a:pt x="90" y="182"/>
                </a:lnTo>
                <a:lnTo>
                  <a:pt x="78" y="165"/>
                </a:lnTo>
                <a:lnTo>
                  <a:pt x="69" y="151"/>
                </a:lnTo>
                <a:lnTo>
                  <a:pt x="61" y="136"/>
                </a:lnTo>
                <a:lnTo>
                  <a:pt x="53" y="124"/>
                </a:lnTo>
                <a:lnTo>
                  <a:pt x="46" y="113"/>
                </a:lnTo>
                <a:lnTo>
                  <a:pt x="40" y="101"/>
                </a:lnTo>
                <a:lnTo>
                  <a:pt x="34" y="90"/>
                </a:lnTo>
                <a:lnTo>
                  <a:pt x="28" y="80"/>
                </a:lnTo>
                <a:lnTo>
                  <a:pt x="23" y="71"/>
                </a:lnTo>
                <a:lnTo>
                  <a:pt x="17" y="63"/>
                </a:lnTo>
                <a:lnTo>
                  <a:pt x="13" y="53"/>
                </a:lnTo>
                <a:lnTo>
                  <a:pt x="9" y="46"/>
                </a:lnTo>
                <a:lnTo>
                  <a:pt x="5" y="40"/>
                </a:lnTo>
                <a:lnTo>
                  <a:pt x="4" y="32"/>
                </a:lnTo>
                <a:lnTo>
                  <a:pt x="2" y="26"/>
                </a:lnTo>
                <a:lnTo>
                  <a:pt x="0" y="23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4" y="7"/>
                </a:lnTo>
                <a:lnTo>
                  <a:pt x="4" y="5"/>
                </a:lnTo>
                <a:lnTo>
                  <a:pt x="4" y="3"/>
                </a:lnTo>
                <a:lnTo>
                  <a:pt x="7" y="2"/>
                </a:lnTo>
                <a:lnTo>
                  <a:pt x="9" y="2"/>
                </a:lnTo>
                <a:lnTo>
                  <a:pt x="15" y="0"/>
                </a:lnTo>
                <a:lnTo>
                  <a:pt x="19" y="0"/>
                </a:lnTo>
                <a:lnTo>
                  <a:pt x="27" y="0"/>
                </a:lnTo>
                <a:lnTo>
                  <a:pt x="32" y="2"/>
                </a:lnTo>
                <a:lnTo>
                  <a:pt x="42" y="3"/>
                </a:lnTo>
                <a:lnTo>
                  <a:pt x="50" y="5"/>
                </a:lnTo>
                <a:lnTo>
                  <a:pt x="61" y="7"/>
                </a:lnTo>
                <a:lnTo>
                  <a:pt x="73" y="11"/>
                </a:lnTo>
                <a:lnTo>
                  <a:pt x="84" y="15"/>
                </a:lnTo>
                <a:lnTo>
                  <a:pt x="100" y="21"/>
                </a:lnTo>
                <a:lnTo>
                  <a:pt x="113" y="26"/>
                </a:lnTo>
                <a:lnTo>
                  <a:pt x="130" y="34"/>
                </a:lnTo>
                <a:lnTo>
                  <a:pt x="146" y="42"/>
                </a:lnTo>
                <a:lnTo>
                  <a:pt x="163" y="50"/>
                </a:lnTo>
                <a:lnTo>
                  <a:pt x="180" y="59"/>
                </a:lnTo>
                <a:lnTo>
                  <a:pt x="197" y="67"/>
                </a:lnTo>
                <a:lnTo>
                  <a:pt x="215" y="78"/>
                </a:lnTo>
                <a:lnTo>
                  <a:pt x="230" y="88"/>
                </a:lnTo>
                <a:lnTo>
                  <a:pt x="247" y="99"/>
                </a:lnTo>
                <a:lnTo>
                  <a:pt x="265" y="111"/>
                </a:lnTo>
                <a:lnTo>
                  <a:pt x="282" y="122"/>
                </a:lnTo>
                <a:lnTo>
                  <a:pt x="301" y="136"/>
                </a:lnTo>
                <a:lnTo>
                  <a:pt x="318" y="149"/>
                </a:lnTo>
                <a:lnTo>
                  <a:pt x="336" y="165"/>
                </a:lnTo>
                <a:lnTo>
                  <a:pt x="355" y="178"/>
                </a:lnTo>
                <a:lnTo>
                  <a:pt x="372" y="193"/>
                </a:lnTo>
                <a:lnTo>
                  <a:pt x="391" y="211"/>
                </a:lnTo>
                <a:lnTo>
                  <a:pt x="410" y="2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72"/>
          <p:cNvSpPr/>
          <p:nvPr/>
        </p:nvSpPr>
        <p:spPr>
          <a:xfrm>
            <a:off x="6276960" y="4057560"/>
            <a:ext cx="1054080" cy="936720"/>
          </a:xfrm>
          <a:custGeom>
            <a:avLst/>
            <a:gdLst/>
            <a:ahLst/>
            <a:rect l="l" t="t" r="r" b="b"/>
            <a:pathLst>
              <a:path w="1328" h="1181">
                <a:moveTo>
                  <a:pt x="221" y="1138"/>
                </a:moveTo>
                <a:lnTo>
                  <a:pt x="208" y="1144"/>
                </a:lnTo>
                <a:lnTo>
                  <a:pt x="194" y="1148"/>
                </a:lnTo>
                <a:lnTo>
                  <a:pt x="183" y="1154"/>
                </a:lnTo>
                <a:lnTo>
                  <a:pt x="169" y="1158"/>
                </a:lnTo>
                <a:lnTo>
                  <a:pt x="158" y="1163"/>
                </a:lnTo>
                <a:lnTo>
                  <a:pt x="146" y="1167"/>
                </a:lnTo>
                <a:lnTo>
                  <a:pt x="133" y="1173"/>
                </a:lnTo>
                <a:lnTo>
                  <a:pt x="119" y="1177"/>
                </a:lnTo>
                <a:lnTo>
                  <a:pt x="112" y="1179"/>
                </a:lnTo>
                <a:lnTo>
                  <a:pt x="106" y="1181"/>
                </a:lnTo>
                <a:lnTo>
                  <a:pt x="98" y="1181"/>
                </a:lnTo>
                <a:lnTo>
                  <a:pt x="92" y="1181"/>
                </a:lnTo>
                <a:lnTo>
                  <a:pt x="87" y="1179"/>
                </a:lnTo>
                <a:lnTo>
                  <a:pt x="81" y="1177"/>
                </a:lnTo>
                <a:lnTo>
                  <a:pt x="75" y="1175"/>
                </a:lnTo>
                <a:lnTo>
                  <a:pt x="69" y="1171"/>
                </a:lnTo>
                <a:lnTo>
                  <a:pt x="64" y="1167"/>
                </a:lnTo>
                <a:lnTo>
                  <a:pt x="60" y="1161"/>
                </a:lnTo>
                <a:lnTo>
                  <a:pt x="54" y="1158"/>
                </a:lnTo>
                <a:lnTo>
                  <a:pt x="48" y="1152"/>
                </a:lnTo>
                <a:lnTo>
                  <a:pt x="39" y="1140"/>
                </a:lnTo>
                <a:lnTo>
                  <a:pt x="29" y="1125"/>
                </a:lnTo>
                <a:lnTo>
                  <a:pt x="21" y="1106"/>
                </a:lnTo>
                <a:lnTo>
                  <a:pt x="14" y="1089"/>
                </a:lnTo>
                <a:lnTo>
                  <a:pt x="8" y="1071"/>
                </a:lnTo>
                <a:lnTo>
                  <a:pt x="2" y="1056"/>
                </a:lnTo>
                <a:lnTo>
                  <a:pt x="0" y="1041"/>
                </a:lnTo>
                <a:lnTo>
                  <a:pt x="0" y="1033"/>
                </a:lnTo>
                <a:lnTo>
                  <a:pt x="0" y="1025"/>
                </a:lnTo>
                <a:lnTo>
                  <a:pt x="0" y="1018"/>
                </a:lnTo>
                <a:lnTo>
                  <a:pt x="0" y="1012"/>
                </a:lnTo>
                <a:lnTo>
                  <a:pt x="2" y="1004"/>
                </a:lnTo>
                <a:lnTo>
                  <a:pt x="4" y="996"/>
                </a:lnTo>
                <a:lnTo>
                  <a:pt x="4" y="991"/>
                </a:lnTo>
                <a:lnTo>
                  <a:pt x="6" y="987"/>
                </a:lnTo>
                <a:lnTo>
                  <a:pt x="8" y="981"/>
                </a:lnTo>
                <a:lnTo>
                  <a:pt x="12" y="975"/>
                </a:lnTo>
                <a:lnTo>
                  <a:pt x="16" y="970"/>
                </a:lnTo>
                <a:lnTo>
                  <a:pt x="21" y="962"/>
                </a:lnTo>
                <a:lnTo>
                  <a:pt x="27" y="956"/>
                </a:lnTo>
                <a:lnTo>
                  <a:pt x="33" y="950"/>
                </a:lnTo>
                <a:lnTo>
                  <a:pt x="41" y="943"/>
                </a:lnTo>
                <a:lnTo>
                  <a:pt x="50" y="937"/>
                </a:lnTo>
                <a:lnTo>
                  <a:pt x="58" y="929"/>
                </a:lnTo>
                <a:lnTo>
                  <a:pt x="69" y="922"/>
                </a:lnTo>
                <a:lnTo>
                  <a:pt x="81" y="916"/>
                </a:lnTo>
                <a:lnTo>
                  <a:pt x="92" y="908"/>
                </a:lnTo>
                <a:lnTo>
                  <a:pt x="106" y="900"/>
                </a:lnTo>
                <a:lnTo>
                  <a:pt x="119" y="893"/>
                </a:lnTo>
                <a:lnTo>
                  <a:pt x="131" y="885"/>
                </a:lnTo>
                <a:lnTo>
                  <a:pt x="144" y="875"/>
                </a:lnTo>
                <a:lnTo>
                  <a:pt x="158" y="864"/>
                </a:lnTo>
                <a:lnTo>
                  <a:pt x="173" y="852"/>
                </a:lnTo>
                <a:lnTo>
                  <a:pt x="190" y="837"/>
                </a:lnTo>
                <a:lnTo>
                  <a:pt x="206" y="822"/>
                </a:lnTo>
                <a:lnTo>
                  <a:pt x="223" y="804"/>
                </a:lnTo>
                <a:lnTo>
                  <a:pt x="242" y="785"/>
                </a:lnTo>
                <a:lnTo>
                  <a:pt x="261" y="764"/>
                </a:lnTo>
                <a:lnTo>
                  <a:pt x="280" y="743"/>
                </a:lnTo>
                <a:lnTo>
                  <a:pt x="302" y="718"/>
                </a:lnTo>
                <a:lnTo>
                  <a:pt x="321" y="693"/>
                </a:lnTo>
                <a:lnTo>
                  <a:pt x="344" y="664"/>
                </a:lnTo>
                <a:lnTo>
                  <a:pt x="365" y="636"/>
                </a:lnTo>
                <a:lnTo>
                  <a:pt x="388" y="605"/>
                </a:lnTo>
                <a:lnTo>
                  <a:pt x="411" y="570"/>
                </a:lnTo>
                <a:lnTo>
                  <a:pt x="432" y="540"/>
                </a:lnTo>
                <a:lnTo>
                  <a:pt x="451" y="509"/>
                </a:lnTo>
                <a:lnTo>
                  <a:pt x="470" y="480"/>
                </a:lnTo>
                <a:lnTo>
                  <a:pt x="490" y="451"/>
                </a:lnTo>
                <a:lnTo>
                  <a:pt x="507" y="424"/>
                </a:lnTo>
                <a:lnTo>
                  <a:pt x="524" y="399"/>
                </a:lnTo>
                <a:lnTo>
                  <a:pt x="540" y="374"/>
                </a:lnTo>
                <a:lnTo>
                  <a:pt x="555" y="351"/>
                </a:lnTo>
                <a:lnTo>
                  <a:pt x="568" y="328"/>
                </a:lnTo>
                <a:lnTo>
                  <a:pt x="582" y="307"/>
                </a:lnTo>
                <a:lnTo>
                  <a:pt x="593" y="288"/>
                </a:lnTo>
                <a:lnTo>
                  <a:pt x="605" y="269"/>
                </a:lnTo>
                <a:lnTo>
                  <a:pt x="614" y="252"/>
                </a:lnTo>
                <a:lnTo>
                  <a:pt x="624" y="236"/>
                </a:lnTo>
                <a:lnTo>
                  <a:pt x="634" y="223"/>
                </a:lnTo>
                <a:lnTo>
                  <a:pt x="641" y="209"/>
                </a:lnTo>
                <a:lnTo>
                  <a:pt x="647" y="198"/>
                </a:lnTo>
                <a:lnTo>
                  <a:pt x="653" y="186"/>
                </a:lnTo>
                <a:lnTo>
                  <a:pt x="659" y="175"/>
                </a:lnTo>
                <a:lnTo>
                  <a:pt x="662" y="165"/>
                </a:lnTo>
                <a:lnTo>
                  <a:pt x="666" y="156"/>
                </a:lnTo>
                <a:lnTo>
                  <a:pt x="668" y="146"/>
                </a:lnTo>
                <a:lnTo>
                  <a:pt x="670" y="136"/>
                </a:lnTo>
                <a:lnTo>
                  <a:pt x="672" y="129"/>
                </a:lnTo>
                <a:lnTo>
                  <a:pt x="674" y="121"/>
                </a:lnTo>
                <a:lnTo>
                  <a:pt x="674" y="112"/>
                </a:lnTo>
                <a:lnTo>
                  <a:pt x="674" y="104"/>
                </a:lnTo>
                <a:lnTo>
                  <a:pt x="672" y="96"/>
                </a:lnTo>
                <a:lnTo>
                  <a:pt x="670" y="83"/>
                </a:lnTo>
                <a:lnTo>
                  <a:pt x="666" y="67"/>
                </a:lnTo>
                <a:lnTo>
                  <a:pt x="662" y="62"/>
                </a:lnTo>
                <a:lnTo>
                  <a:pt x="659" y="54"/>
                </a:lnTo>
                <a:lnTo>
                  <a:pt x="655" y="48"/>
                </a:lnTo>
                <a:lnTo>
                  <a:pt x="653" y="42"/>
                </a:lnTo>
                <a:lnTo>
                  <a:pt x="651" y="39"/>
                </a:lnTo>
                <a:lnTo>
                  <a:pt x="649" y="35"/>
                </a:lnTo>
                <a:lnTo>
                  <a:pt x="649" y="29"/>
                </a:lnTo>
                <a:lnTo>
                  <a:pt x="649" y="25"/>
                </a:lnTo>
                <a:lnTo>
                  <a:pt x="649" y="23"/>
                </a:lnTo>
                <a:lnTo>
                  <a:pt x="651" y="19"/>
                </a:lnTo>
                <a:lnTo>
                  <a:pt x="655" y="16"/>
                </a:lnTo>
                <a:lnTo>
                  <a:pt x="657" y="14"/>
                </a:lnTo>
                <a:lnTo>
                  <a:pt x="660" y="10"/>
                </a:lnTo>
                <a:lnTo>
                  <a:pt x="666" y="8"/>
                </a:lnTo>
                <a:lnTo>
                  <a:pt x="672" y="6"/>
                </a:lnTo>
                <a:lnTo>
                  <a:pt x="680" y="4"/>
                </a:lnTo>
                <a:lnTo>
                  <a:pt x="684" y="0"/>
                </a:lnTo>
                <a:lnTo>
                  <a:pt x="689" y="0"/>
                </a:lnTo>
                <a:lnTo>
                  <a:pt x="695" y="0"/>
                </a:lnTo>
                <a:lnTo>
                  <a:pt x="701" y="0"/>
                </a:lnTo>
                <a:lnTo>
                  <a:pt x="707" y="2"/>
                </a:lnTo>
                <a:lnTo>
                  <a:pt x="714" y="4"/>
                </a:lnTo>
                <a:lnTo>
                  <a:pt x="720" y="6"/>
                </a:lnTo>
                <a:lnTo>
                  <a:pt x="728" y="10"/>
                </a:lnTo>
                <a:lnTo>
                  <a:pt x="735" y="14"/>
                </a:lnTo>
                <a:lnTo>
                  <a:pt x="745" y="17"/>
                </a:lnTo>
                <a:lnTo>
                  <a:pt x="753" y="23"/>
                </a:lnTo>
                <a:lnTo>
                  <a:pt x="762" y="29"/>
                </a:lnTo>
                <a:lnTo>
                  <a:pt x="774" y="35"/>
                </a:lnTo>
                <a:lnTo>
                  <a:pt x="783" y="41"/>
                </a:lnTo>
                <a:lnTo>
                  <a:pt x="795" y="48"/>
                </a:lnTo>
                <a:lnTo>
                  <a:pt x="806" y="56"/>
                </a:lnTo>
                <a:lnTo>
                  <a:pt x="818" y="65"/>
                </a:lnTo>
                <a:lnTo>
                  <a:pt x="827" y="73"/>
                </a:lnTo>
                <a:lnTo>
                  <a:pt x="837" y="83"/>
                </a:lnTo>
                <a:lnTo>
                  <a:pt x="847" y="92"/>
                </a:lnTo>
                <a:lnTo>
                  <a:pt x="854" y="100"/>
                </a:lnTo>
                <a:lnTo>
                  <a:pt x="862" y="108"/>
                </a:lnTo>
                <a:lnTo>
                  <a:pt x="870" y="117"/>
                </a:lnTo>
                <a:lnTo>
                  <a:pt x="875" y="125"/>
                </a:lnTo>
                <a:lnTo>
                  <a:pt x="881" y="133"/>
                </a:lnTo>
                <a:lnTo>
                  <a:pt x="887" y="140"/>
                </a:lnTo>
                <a:lnTo>
                  <a:pt x="891" y="148"/>
                </a:lnTo>
                <a:lnTo>
                  <a:pt x="895" y="156"/>
                </a:lnTo>
                <a:lnTo>
                  <a:pt x="902" y="169"/>
                </a:lnTo>
                <a:lnTo>
                  <a:pt x="908" y="184"/>
                </a:lnTo>
                <a:lnTo>
                  <a:pt x="908" y="192"/>
                </a:lnTo>
                <a:lnTo>
                  <a:pt x="906" y="200"/>
                </a:lnTo>
                <a:lnTo>
                  <a:pt x="904" y="207"/>
                </a:lnTo>
                <a:lnTo>
                  <a:pt x="900" y="215"/>
                </a:lnTo>
                <a:lnTo>
                  <a:pt x="897" y="225"/>
                </a:lnTo>
                <a:lnTo>
                  <a:pt x="891" y="234"/>
                </a:lnTo>
                <a:lnTo>
                  <a:pt x="885" y="244"/>
                </a:lnTo>
                <a:lnTo>
                  <a:pt x="877" y="254"/>
                </a:lnTo>
                <a:lnTo>
                  <a:pt x="870" y="265"/>
                </a:lnTo>
                <a:lnTo>
                  <a:pt x="860" y="277"/>
                </a:lnTo>
                <a:lnTo>
                  <a:pt x="849" y="290"/>
                </a:lnTo>
                <a:lnTo>
                  <a:pt x="837" y="303"/>
                </a:lnTo>
                <a:lnTo>
                  <a:pt x="826" y="317"/>
                </a:lnTo>
                <a:lnTo>
                  <a:pt x="812" y="332"/>
                </a:lnTo>
                <a:lnTo>
                  <a:pt x="797" y="348"/>
                </a:lnTo>
                <a:lnTo>
                  <a:pt x="781" y="365"/>
                </a:lnTo>
                <a:lnTo>
                  <a:pt x="764" y="382"/>
                </a:lnTo>
                <a:lnTo>
                  <a:pt x="747" y="399"/>
                </a:lnTo>
                <a:lnTo>
                  <a:pt x="732" y="419"/>
                </a:lnTo>
                <a:lnTo>
                  <a:pt x="714" y="436"/>
                </a:lnTo>
                <a:lnTo>
                  <a:pt x="680" y="476"/>
                </a:lnTo>
                <a:lnTo>
                  <a:pt x="645" y="517"/>
                </a:lnTo>
                <a:lnTo>
                  <a:pt x="611" y="557"/>
                </a:lnTo>
                <a:lnTo>
                  <a:pt x="574" y="599"/>
                </a:lnTo>
                <a:lnTo>
                  <a:pt x="538" y="643"/>
                </a:lnTo>
                <a:lnTo>
                  <a:pt x="501" y="687"/>
                </a:lnTo>
                <a:lnTo>
                  <a:pt x="482" y="710"/>
                </a:lnTo>
                <a:lnTo>
                  <a:pt x="465" y="733"/>
                </a:lnTo>
                <a:lnTo>
                  <a:pt x="449" y="753"/>
                </a:lnTo>
                <a:lnTo>
                  <a:pt x="434" y="772"/>
                </a:lnTo>
                <a:lnTo>
                  <a:pt x="421" y="789"/>
                </a:lnTo>
                <a:lnTo>
                  <a:pt x="409" y="806"/>
                </a:lnTo>
                <a:lnTo>
                  <a:pt x="398" y="820"/>
                </a:lnTo>
                <a:lnTo>
                  <a:pt x="388" y="833"/>
                </a:lnTo>
                <a:lnTo>
                  <a:pt x="380" y="847"/>
                </a:lnTo>
                <a:lnTo>
                  <a:pt x="373" y="856"/>
                </a:lnTo>
                <a:lnTo>
                  <a:pt x="367" y="866"/>
                </a:lnTo>
                <a:lnTo>
                  <a:pt x="363" y="874"/>
                </a:lnTo>
                <a:lnTo>
                  <a:pt x="361" y="881"/>
                </a:lnTo>
                <a:lnTo>
                  <a:pt x="359" y="885"/>
                </a:lnTo>
                <a:lnTo>
                  <a:pt x="359" y="891"/>
                </a:lnTo>
                <a:lnTo>
                  <a:pt x="361" y="893"/>
                </a:lnTo>
                <a:lnTo>
                  <a:pt x="363" y="895"/>
                </a:lnTo>
                <a:lnTo>
                  <a:pt x="365" y="895"/>
                </a:lnTo>
                <a:lnTo>
                  <a:pt x="367" y="897"/>
                </a:lnTo>
                <a:lnTo>
                  <a:pt x="371" y="897"/>
                </a:lnTo>
                <a:lnTo>
                  <a:pt x="374" y="899"/>
                </a:lnTo>
                <a:lnTo>
                  <a:pt x="378" y="899"/>
                </a:lnTo>
                <a:lnTo>
                  <a:pt x="384" y="900"/>
                </a:lnTo>
                <a:lnTo>
                  <a:pt x="390" y="900"/>
                </a:lnTo>
                <a:lnTo>
                  <a:pt x="396" y="900"/>
                </a:lnTo>
                <a:lnTo>
                  <a:pt x="403" y="900"/>
                </a:lnTo>
                <a:lnTo>
                  <a:pt x="411" y="900"/>
                </a:lnTo>
                <a:lnTo>
                  <a:pt x="419" y="900"/>
                </a:lnTo>
                <a:lnTo>
                  <a:pt x="428" y="900"/>
                </a:lnTo>
                <a:lnTo>
                  <a:pt x="438" y="900"/>
                </a:lnTo>
                <a:lnTo>
                  <a:pt x="447" y="900"/>
                </a:lnTo>
                <a:lnTo>
                  <a:pt x="459" y="900"/>
                </a:lnTo>
                <a:lnTo>
                  <a:pt x="470" y="899"/>
                </a:lnTo>
                <a:lnTo>
                  <a:pt x="484" y="899"/>
                </a:lnTo>
                <a:lnTo>
                  <a:pt x="495" y="897"/>
                </a:lnTo>
                <a:lnTo>
                  <a:pt x="511" y="897"/>
                </a:lnTo>
                <a:lnTo>
                  <a:pt x="524" y="895"/>
                </a:lnTo>
                <a:lnTo>
                  <a:pt x="540" y="893"/>
                </a:lnTo>
                <a:lnTo>
                  <a:pt x="555" y="891"/>
                </a:lnTo>
                <a:lnTo>
                  <a:pt x="572" y="889"/>
                </a:lnTo>
                <a:lnTo>
                  <a:pt x="589" y="887"/>
                </a:lnTo>
                <a:lnTo>
                  <a:pt x="607" y="885"/>
                </a:lnTo>
                <a:lnTo>
                  <a:pt x="626" y="883"/>
                </a:lnTo>
                <a:lnTo>
                  <a:pt x="645" y="881"/>
                </a:lnTo>
                <a:lnTo>
                  <a:pt x="664" y="877"/>
                </a:lnTo>
                <a:lnTo>
                  <a:pt x="685" y="874"/>
                </a:lnTo>
                <a:lnTo>
                  <a:pt x="707" y="872"/>
                </a:lnTo>
                <a:lnTo>
                  <a:pt x="730" y="868"/>
                </a:lnTo>
                <a:lnTo>
                  <a:pt x="774" y="860"/>
                </a:lnTo>
                <a:lnTo>
                  <a:pt x="816" y="854"/>
                </a:lnTo>
                <a:lnTo>
                  <a:pt x="858" y="849"/>
                </a:lnTo>
                <a:lnTo>
                  <a:pt x="897" y="843"/>
                </a:lnTo>
                <a:lnTo>
                  <a:pt x="935" y="837"/>
                </a:lnTo>
                <a:lnTo>
                  <a:pt x="970" y="833"/>
                </a:lnTo>
                <a:lnTo>
                  <a:pt x="1004" y="829"/>
                </a:lnTo>
                <a:lnTo>
                  <a:pt x="1037" y="827"/>
                </a:lnTo>
                <a:lnTo>
                  <a:pt x="1067" y="824"/>
                </a:lnTo>
                <a:lnTo>
                  <a:pt x="1096" y="822"/>
                </a:lnTo>
                <a:lnTo>
                  <a:pt x="1125" y="820"/>
                </a:lnTo>
                <a:lnTo>
                  <a:pt x="1150" y="818"/>
                </a:lnTo>
                <a:lnTo>
                  <a:pt x="1175" y="818"/>
                </a:lnTo>
                <a:lnTo>
                  <a:pt x="1198" y="816"/>
                </a:lnTo>
                <a:lnTo>
                  <a:pt x="1219" y="816"/>
                </a:lnTo>
                <a:lnTo>
                  <a:pt x="1238" y="816"/>
                </a:lnTo>
                <a:lnTo>
                  <a:pt x="1261" y="841"/>
                </a:lnTo>
                <a:lnTo>
                  <a:pt x="1284" y="868"/>
                </a:lnTo>
                <a:lnTo>
                  <a:pt x="1305" y="893"/>
                </a:lnTo>
                <a:lnTo>
                  <a:pt x="1328" y="920"/>
                </a:lnTo>
                <a:lnTo>
                  <a:pt x="1290" y="920"/>
                </a:lnTo>
                <a:lnTo>
                  <a:pt x="1254" y="920"/>
                </a:lnTo>
                <a:lnTo>
                  <a:pt x="1219" y="920"/>
                </a:lnTo>
                <a:lnTo>
                  <a:pt x="1184" y="922"/>
                </a:lnTo>
                <a:lnTo>
                  <a:pt x="1152" y="922"/>
                </a:lnTo>
                <a:lnTo>
                  <a:pt x="1121" y="923"/>
                </a:lnTo>
                <a:lnTo>
                  <a:pt x="1090" y="925"/>
                </a:lnTo>
                <a:lnTo>
                  <a:pt x="1060" y="927"/>
                </a:lnTo>
                <a:lnTo>
                  <a:pt x="1033" y="929"/>
                </a:lnTo>
                <a:lnTo>
                  <a:pt x="1006" y="931"/>
                </a:lnTo>
                <a:lnTo>
                  <a:pt x="979" y="933"/>
                </a:lnTo>
                <a:lnTo>
                  <a:pt x="956" y="935"/>
                </a:lnTo>
                <a:lnTo>
                  <a:pt x="933" y="937"/>
                </a:lnTo>
                <a:lnTo>
                  <a:pt x="910" y="941"/>
                </a:lnTo>
                <a:lnTo>
                  <a:pt x="889" y="943"/>
                </a:lnTo>
                <a:lnTo>
                  <a:pt x="870" y="945"/>
                </a:lnTo>
                <a:lnTo>
                  <a:pt x="851" y="950"/>
                </a:lnTo>
                <a:lnTo>
                  <a:pt x="831" y="954"/>
                </a:lnTo>
                <a:lnTo>
                  <a:pt x="810" y="960"/>
                </a:lnTo>
                <a:lnTo>
                  <a:pt x="789" y="964"/>
                </a:lnTo>
                <a:lnTo>
                  <a:pt x="768" y="970"/>
                </a:lnTo>
                <a:lnTo>
                  <a:pt x="745" y="975"/>
                </a:lnTo>
                <a:lnTo>
                  <a:pt x="722" y="981"/>
                </a:lnTo>
                <a:lnTo>
                  <a:pt x="699" y="987"/>
                </a:lnTo>
                <a:lnTo>
                  <a:pt x="653" y="998"/>
                </a:lnTo>
                <a:lnTo>
                  <a:pt x="603" y="1014"/>
                </a:lnTo>
                <a:lnTo>
                  <a:pt x="578" y="1021"/>
                </a:lnTo>
                <a:lnTo>
                  <a:pt x="553" y="1029"/>
                </a:lnTo>
                <a:lnTo>
                  <a:pt x="526" y="1039"/>
                </a:lnTo>
                <a:lnTo>
                  <a:pt x="501" y="1048"/>
                </a:lnTo>
                <a:lnTo>
                  <a:pt x="472" y="1056"/>
                </a:lnTo>
                <a:lnTo>
                  <a:pt x="446" y="1062"/>
                </a:lnTo>
                <a:lnTo>
                  <a:pt x="421" y="1069"/>
                </a:lnTo>
                <a:lnTo>
                  <a:pt x="398" y="1075"/>
                </a:lnTo>
                <a:lnTo>
                  <a:pt x="376" y="1081"/>
                </a:lnTo>
                <a:lnTo>
                  <a:pt x="355" y="1087"/>
                </a:lnTo>
                <a:lnTo>
                  <a:pt x="336" y="1092"/>
                </a:lnTo>
                <a:lnTo>
                  <a:pt x="317" y="1098"/>
                </a:lnTo>
                <a:lnTo>
                  <a:pt x="302" y="1104"/>
                </a:lnTo>
                <a:lnTo>
                  <a:pt x="286" y="1108"/>
                </a:lnTo>
                <a:lnTo>
                  <a:pt x="271" y="1113"/>
                </a:lnTo>
                <a:lnTo>
                  <a:pt x="259" y="1119"/>
                </a:lnTo>
                <a:lnTo>
                  <a:pt x="248" y="1123"/>
                </a:lnTo>
                <a:lnTo>
                  <a:pt x="236" y="1129"/>
                </a:lnTo>
                <a:lnTo>
                  <a:pt x="229" y="1133"/>
                </a:lnTo>
                <a:lnTo>
                  <a:pt x="221" y="1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73"/>
          <p:cNvSpPr/>
          <p:nvPr/>
        </p:nvSpPr>
        <p:spPr>
          <a:xfrm>
            <a:off x="5481720" y="3521160"/>
            <a:ext cx="1262160" cy="1401840"/>
          </a:xfrm>
          <a:custGeom>
            <a:avLst/>
            <a:gdLst/>
            <a:ahLst/>
            <a:rect l="l" t="t" r="r" b="b"/>
            <a:pathLst>
              <a:path w="1591" h="1765">
                <a:moveTo>
                  <a:pt x="701" y="1387"/>
                </a:moveTo>
                <a:lnTo>
                  <a:pt x="670" y="1412"/>
                </a:lnTo>
                <a:lnTo>
                  <a:pt x="639" y="1435"/>
                </a:lnTo>
                <a:lnTo>
                  <a:pt x="609" y="1456"/>
                </a:lnTo>
                <a:lnTo>
                  <a:pt x="578" y="1478"/>
                </a:lnTo>
                <a:lnTo>
                  <a:pt x="547" y="1499"/>
                </a:lnTo>
                <a:lnTo>
                  <a:pt x="517" y="1518"/>
                </a:lnTo>
                <a:lnTo>
                  <a:pt x="486" y="1537"/>
                </a:lnTo>
                <a:lnTo>
                  <a:pt x="455" y="1554"/>
                </a:lnTo>
                <a:lnTo>
                  <a:pt x="426" y="1572"/>
                </a:lnTo>
                <a:lnTo>
                  <a:pt x="398" y="1587"/>
                </a:lnTo>
                <a:lnTo>
                  <a:pt x="367" y="1602"/>
                </a:lnTo>
                <a:lnTo>
                  <a:pt x="340" y="1618"/>
                </a:lnTo>
                <a:lnTo>
                  <a:pt x="311" y="1631"/>
                </a:lnTo>
                <a:lnTo>
                  <a:pt x="282" y="1646"/>
                </a:lnTo>
                <a:lnTo>
                  <a:pt x="256" y="1658"/>
                </a:lnTo>
                <a:lnTo>
                  <a:pt x="231" y="1671"/>
                </a:lnTo>
                <a:lnTo>
                  <a:pt x="204" y="1685"/>
                </a:lnTo>
                <a:lnTo>
                  <a:pt x="181" y="1698"/>
                </a:lnTo>
                <a:lnTo>
                  <a:pt x="158" y="1710"/>
                </a:lnTo>
                <a:lnTo>
                  <a:pt x="137" y="1721"/>
                </a:lnTo>
                <a:lnTo>
                  <a:pt x="117" y="1729"/>
                </a:lnTo>
                <a:lnTo>
                  <a:pt x="100" y="1739"/>
                </a:lnTo>
                <a:lnTo>
                  <a:pt x="83" y="1744"/>
                </a:lnTo>
                <a:lnTo>
                  <a:pt x="67" y="1750"/>
                </a:lnTo>
                <a:lnTo>
                  <a:pt x="54" y="1756"/>
                </a:lnTo>
                <a:lnTo>
                  <a:pt x="43" y="1760"/>
                </a:lnTo>
                <a:lnTo>
                  <a:pt x="31" y="1762"/>
                </a:lnTo>
                <a:lnTo>
                  <a:pt x="21" y="1764"/>
                </a:lnTo>
                <a:lnTo>
                  <a:pt x="14" y="1765"/>
                </a:lnTo>
                <a:lnTo>
                  <a:pt x="8" y="1765"/>
                </a:lnTo>
                <a:lnTo>
                  <a:pt x="4" y="1764"/>
                </a:lnTo>
                <a:lnTo>
                  <a:pt x="0" y="1762"/>
                </a:lnTo>
                <a:lnTo>
                  <a:pt x="0" y="1760"/>
                </a:lnTo>
                <a:lnTo>
                  <a:pt x="0" y="1758"/>
                </a:lnTo>
                <a:lnTo>
                  <a:pt x="0" y="1756"/>
                </a:lnTo>
                <a:lnTo>
                  <a:pt x="2" y="1754"/>
                </a:lnTo>
                <a:lnTo>
                  <a:pt x="4" y="1750"/>
                </a:lnTo>
                <a:lnTo>
                  <a:pt x="6" y="1748"/>
                </a:lnTo>
                <a:lnTo>
                  <a:pt x="8" y="1744"/>
                </a:lnTo>
                <a:lnTo>
                  <a:pt x="12" y="1741"/>
                </a:lnTo>
                <a:lnTo>
                  <a:pt x="18" y="1737"/>
                </a:lnTo>
                <a:lnTo>
                  <a:pt x="21" y="1731"/>
                </a:lnTo>
                <a:lnTo>
                  <a:pt x="27" y="1725"/>
                </a:lnTo>
                <a:lnTo>
                  <a:pt x="35" y="1721"/>
                </a:lnTo>
                <a:lnTo>
                  <a:pt x="41" y="1714"/>
                </a:lnTo>
                <a:lnTo>
                  <a:pt x="48" y="1708"/>
                </a:lnTo>
                <a:lnTo>
                  <a:pt x="56" y="1702"/>
                </a:lnTo>
                <a:lnTo>
                  <a:pt x="66" y="1694"/>
                </a:lnTo>
                <a:lnTo>
                  <a:pt x="75" y="1687"/>
                </a:lnTo>
                <a:lnTo>
                  <a:pt x="85" y="1679"/>
                </a:lnTo>
                <a:lnTo>
                  <a:pt x="94" y="1671"/>
                </a:lnTo>
                <a:lnTo>
                  <a:pt x="106" y="1662"/>
                </a:lnTo>
                <a:lnTo>
                  <a:pt x="117" y="1654"/>
                </a:lnTo>
                <a:lnTo>
                  <a:pt x="129" y="1645"/>
                </a:lnTo>
                <a:lnTo>
                  <a:pt x="142" y="1635"/>
                </a:lnTo>
                <a:lnTo>
                  <a:pt x="156" y="1625"/>
                </a:lnTo>
                <a:lnTo>
                  <a:pt x="169" y="1614"/>
                </a:lnTo>
                <a:lnTo>
                  <a:pt x="183" y="1602"/>
                </a:lnTo>
                <a:lnTo>
                  <a:pt x="198" y="1593"/>
                </a:lnTo>
                <a:lnTo>
                  <a:pt x="213" y="1579"/>
                </a:lnTo>
                <a:lnTo>
                  <a:pt x="231" y="1568"/>
                </a:lnTo>
                <a:lnTo>
                  <a:pt x="246" y="1556"/>
                </a:lnTo>
                <a:lnTo>
                  <a:pt x="263" y="1543"/>
                </a:lnTo>
                <a:lnTo>
                  <a:pt x="281" y="1529"/>
                </a:lnTo>
                <a:lnTo>
                  <a:pt x="315" y="1504"/>
                </a:lnTo>
                <a:lnTo>
                  <a:pt x="352" y="1479"/>
                </a:lnTo>
                <a:lnTo>
                  <a:pt x="386" y="1455"/>
                </a:lnTo>
                <a:lnTo>
                  <a:pt x="419" y="1430"/>
                </a:lnTo>
                <a:lnTo>
                  <a:pt x="453" y="1405"/>
                </a:lnTo>
                <a:lnTo>
                  <a:pt x="486" y="1378"/>
                </a:lnTo>
                <a:lnTo>
                  <a:pt x="549" y="1324"/>
                </a:lnTo>
                <a:lnTo>
                  <a:pt x="582" y="1297"/>
                </a:lnTo>
                <a:lnTo>
                  <a:pt x="613" y="1270"/>
                </a:lnTo>
                <a:lnTo>
                  <a:pt x="643" y="1241"/>
                </a:lnTo>
                <a:lnTo>
                  <a:pt x="674" y="1213"/>
                </a:lnTo>
                <a:lnTo>
                  <a:pt x="703" y="1184"/>
                </a:lnTo>
                <a:lnTo>
                  <a:pt x="732" y="1153"/>
                </a:lnTo>
                <a:lnTo>
                  <a:pt x="760" y="1122"/>
                </a:lnTo>
                <a:lnTo>
                  <a:pt x="789" y="1092"/>
                </a:lnTo>
                <a:lnTo>
                  <a:pt x="816" y="1061"/>
                </a:lnTo>
                <a:lnTo>
                  <a:pt x="841" y="1032"/>
                </a:lnTo>
                <a:lnTo>
                  <a:pt x="866" y="1003"/>
                </a:lnTo>
                <a:lnTo>
                  <a:pt x="889" y="975"/>
                </a:lnTo>
                <a:lnTo>
                  <a:pt x="914" y="946"/>
                </a:lnTo>
                <a:lnTo>
                  <a:pt x="937" y="917"/>
                </a:lnTo>
                <a:lnTo>
                  <a:pt x="958" y="888"/>
                </a:lnTo>
                <a:lnTo>
                  <a:pt x="981" y="859"/>
                </a:lnTo>
                <a:lnTo>
                  <a:pt x="1002" y="829"/>
                </a:lnTo>
                <a:lnTo>
                  <a:pt x="1023" y="800"/>
                </a:lnTo>
                <a:lnTo>
                  <a:pt x="1043" y="771"/>
                </a:lnTo>
                <a:lnTo>
                  <a:pt x="1062" y="742"/>
                </a:lnTo>
                <a:lnTo>
                  <a:pt x="1081" y="714"/>
                </a:lnTo>
                <a:lnTo>
                  <a:pt x="1100" y="685"/>
                </a:lnTo>
                <a:lnTo>
                  <a:pt x="1117" y="656"/>
                </a:lnTo>
                <a:lnTo>
                  <a:pt x="1135" y="627"/>
                </a:lnTo>
                <a:lnTo>
                  <a:pt x="1150" y="600"/>
                </a:lnTo>
                <a:lnTo>
                  <a:pt x="1165" y="575"/>
                </a:lnTo>
                <a:lnTo>
                  <a:pt x="1179" y="549"/>
                </a:lnTo>
                <a:lnTo>
                  <a:pt x="1194" y="525"/>
                </a:lnTo>
                <a:lnTo>
                  <a:pt x="1206" y="501"/>
                </a:lnTo>
                <a:lnTo>
                  <a:pt x="1219" y="477"/>
                </a:lnTo>
                <a:lnTo>
                  <a:pt x="1231" y="454"/>
                </a:lnTo>
                <a:lnTo>
                  <a:pt x="1242" y="433"/>
                </a:lnTo>
                <a:lnTo>
                  <a:pt x="1252" y="412"/>
                </a:lnTo>
                <a:lnTo>
                  <a:pt x="1261" y="391"/>
                </a:lnTo>
                <a:lnTo>
                  <a:pt x="1271" y="370"/>
                </a:lnTo>
                <a:lnTo>
                  <a:pt x="1281" y="351"/>
                </a:lnTo>
                <a:lnTo>
                  <a:pt x="1288" y="332"/>
                </a:lnTo>
                <a:lnTo>
                  <a:pt x="1298" y="314"/>
                </a:lnTo>
                <a:lnTo>
                  <a:pt x="1305" y="295"/>
                </a:lnTo>
                <a:lnTo>
                  <a:pt x="1311" y="278"/>
                </a:lnTo>
                <a:lnTo>
                  <a:pt x="1317" y="263"/>
                </a:lnTo>
                <a:lnTo>
                  <a:pt x="1321" y="247"/>
                </a:lnTo>
                <a:lnTo>
                  <a:pt x="1323" y="232"/>
                </a:lnTo>
                <a:lnTo>
                  <a:pt x="1327" y="218"/>
                </a:lnTo>
                <a:lnTo>
                  <a:pt x="1329" y="205"/>
                </a:lnTo>
                <a:lnTo>
                  <a:pt x="1329" y="191"/>
                </a:lnTo>
                <a:lnTo>
                  <a:pt x="1330" y="180"/>
                </a:lnTo>
                <a:lnTo>
                  <a:pt x="1330" y="168"/>
                </a:lnTo>
                <a:lnTo>
                  <a:pt x="1330" y="159"/>
                </a:lnTo>
                <a:lnTo>
                  <a:pt x="1329" y="149"/>
                </a:lnTo>
                <a:lnTo>
                  <a:pt x="1329" y="140"/>
                </a:lnTo>
                <a:lnTo>
                  <a:pt x="1327" y="130"/>
                </a:lnTo>
                <a:lnTo>
                  <a:pt x="1323" y="120"/>
                </a:lnTo>
                <a:lnTo>
                  <a:pt x="1321" y="113"/>
                </a:lnTo>
                <a:lnTo>
                  <a:pt x="1317" y="105"/>
                </a:lnTo>
                <a:lnTo>
                  <a:pt x="1311" y="97"/>
                </a:lnTo>
                <a:lnTo>
                  <a:pt x="1307" y="92"/>
                </a:lnTo>
                <a:lnTo>
                  <a:pt x="1304" y="84"/>
                </a:lnTo>
                <a:lnTo>
                  <a:pt x="1300" y="78"/>
                </a:lnTo>
                <a:lnTo>
                  <a:pt x="1298" y="71"/>
                </a:lnTo>
                <a:lnTo>
                  <a:pt x="1296" y="65"/>
                </a:lnTo>
                <a:lnTo>
                  <a:pt x="1294" y="59"/>
                </a:lnTo>
                <a:lnTo>
                  <a:pt x="1294" y="53"/>
                </a:lnTo>
                <a:lnTo>
                  <a:pt x="1292" y="48"/>
                </a:lnTo>
                <a:lnTo>
                  <a:pt x="1294" y="42"/>
                </a:lnTo>
                <a:lnTo>
                  <a:pt x="1294" y="38"/>
                </a:lnTo>
                <a:lnTo>
                  <a:pt x="1296" y="32"/>
                </a:lnTo>
                <a:lnTo>
                  <a:pt x="1298" y="26"/>
                </a:lnTo>
                <a:lnTo>
                  <a:pt x="1300" y="23"/>
                </a:lnTo>
                <a:lnTo>
                  <a:pt x="1304" y="17"/>
                </a:lnTo>
                <a:lnTo>
                  <a:pt x="1307" y="13"/>
                </a:lnTo>
                <a:lnTo>
                  <a:pt x="1311" y="7"/>
                </a:lnTo>
                <a:lnTo>
                  <a:pt x="1315" y="5"/>
                </a:lnTo>
                <a:lnTo>
                  <a:pt x="1319" y="3"/>
                </a:lnTo>
                <a:lnTo>
                  <a:pt x="1323" y="1"/>
                </a:lnTo>
                <a:lnTo>
                  <a:pt x="1329" y="1"/>
                </a:lnTo>
                <a:lnTo>
                  <a:pt x="1334" y="0"/>
                </a:lnTo>
                <a:lnTo>
                  <a:pt x="1342" y="0"/>
                </a:lnTo>
                <a:lnTo>
                  <a:pt x="1350" y="0"/>
                </a:lnTo>
                <a:lnTo>
                  <a:pt x="1359" y="1"/>
                </a:lnTo>
                <a:lnTo>
                  <a:pt x="1369" y="1"/>
                </a:lnTo>
                <a:lnTo>
                  <a:pt x="1380" y="3"/>
                </a:lnTo>
                <a:lnTo>
                  <a:pt x="1392" y="7"/>
                </a:lnTo>
                <a:lnTo>
                  <a:pt x="1405" y="11"/>
                </a:lnTo>
                <a:lnTo>
                  <a:pt x="1419" y="15"/>
                </a:lnTo>
                <a:lnTo>
                  <a:pt x="1432" y="21"/>
                </a:lnTo>
                <a:lnTo>
                  <a:pt x="1448" y="26"/>
                </a:lnTo>
                <a:lnTo>
                  <a:pt x="1465" y="34"/>
                </a:lnTo>
                <a:lnTo>
                  <a:pt x="1478" y="40"/>
                </a:lnTo>
                <a:lnTo>
                  <a:pt x="1492" y="48"/>
                </a:lnTo>
                <a:lnTo>
                  <a:pt x="1503" y="55"/>
                </a:lnTo>
                <a:lnTo>
                  <a:pt x="1515" y="63"/>
                </a:lnTo>
                <a:lnTo>
                  <a:pt x="1524" y="71"/>
                </a:lnTo>
                <a:lnTo>
                  <a:pt x="1534" y="76"/>
                </a:lnTo>
                <a:lnTo>
                  <a:pt x="1543" y="84"/>
                </a:lnTo>
                <a:lnTo>
                  <a:pt x="1551" y="92"/>
                </a:lnTo>
                <a:lnTo>
                  <a:pt x="1559" y="99"/>
                </a:lnTo>
                <a:lnTo>
                  <a:pt x="1567" y="105"/>
                </a:lnTo>
                <a:lnTo>
                  <a:pt x="1572" y="113"/>
                </a:lnTo>
                <a:lnTo>
                  <a:pt x="1578" y="120"/>
                </a:lnTo>
                <a:lnTo>
                  <a:pt x="1582" y="128"/>
                </a:lnTo>
                <a:lnTo>
                  <a:pt x="1586" y="134"/>
                </a:lnTo>
                <a:lnTo>
                  <a:pt x="1590" y="142"/>
                </a:lnTo>
                <a:lnTo>
                  <a:pt x="1591" y="149"/>
                </a:lnTo>
                <a:lnTo>
                  <a:pt x="1591" y="157"/>
                </a:lnTo>
                <a:lnTo>
                  <a:pt x="1590" y="167"/>
                </a:lnTo>
                <a:lnTo>
                  <a:pt x="1588" y="178"/>
                </a:lnTo>
                <a:lnTo>
                  <a:pt x="1584" y="190"/>
                </a:lnTo>
                <a:lnTo>
                  <a:pt x="1580" y="205"/>
                </a:lnTo>
                <a:lnTo>
                  <a:pt x="1574" y="220"/>
                </a:lnTo>
                <a:lnTo>
                  <a:pt x="1568" y="236"/>
                </a:lnTo>
                <a:lnTo>
                  <a:pt x="1563" y="255"/>
                </a:lnTo>
                <a:lnTo>
                  <a:pt x="1555" y="274"/>
                </a:lnTo>
                <a:lnTo>
                  <a:pt x="1545" y="293"/>
                </a:lnTo>
                <a:lnTo>
                  <a:pt x="1538" y="316"/>
                </a:lnTo>
                <a:lnTo>
                  <a:pt x="1526" y="339"/>
                </a:lnTo>
                <a:lnTo>
                  <a:pt x="1515" y="364"/>
                </a:lnTo>
                <a:lnTo>
                  <a:pt x="1503" y="391"/>
                </a:lnTo>
                <a:lnTo>
                  <a:pt x="1492" y="418"/>
                </a:lnTo>
                <a:lnTo>
                  <a:pt x="1478" y="447"/>
                </a:lnTo>
                <a:lnTo>
                  <a:pt x="1444" y="508"/>
                </a:lnTo>
                <a:lnTo>
                  <a:pt x="1407" y="570"/>
                </a:lnTo>
                <a:lnTo>
                  <a:pt x="1371" y="631"/>
                </a:lnTo>
                <a:lnTo>
                  <a:pt x="1332" y="691"/>
                </a:lnTo>
                <a:lnTo>
                  <a:pt x="1292" y="752"/>
                </a:lnTo>
                <a:lnTo>
                  <a:pt x="1250" y="811"/>
                </a:lnTo>
                <a:lnTo>
                  <a:pt x="1206" y="873"/>
                </a:lnTo>
                <a:lnTo>
                  <a:pt x="1160" y="936"/>
                </a:lnTo>
                <a:lnTo>
                  <a:pt x="1135" y="967"/>
                </a:lnTo>
                <a:lnTo>
                  <a:pt x="1110" y="998"/>
                </a:lnTo>
                <a:lnTo>
                  <a:pt x="1085" y="1028"/>
                </a:lnTo>
                <a:lnTo>
                  <a:pt x="1060" y="1057"/>
                </a:lnTo>
                <a:lnTo>
                  <a:pt x="1033" y="1086"/>
                </a:lnTo>
                <a:lnTo>
                  <a:pt x="1006" y="1115"/>
                </a:lnTo>
                <a:lnTo>
                  <a:pt x="977" y="1144"/>
                </a:lnTo>
                <a:lnTo>
                  <a:pt x="948" y="1172"/>
                </a:lnTo>
                <a:lnTo>
                  <a:pt x="920" y="1199"/>
                </a:lnTo>
                <a:lnTo>
                  <a:pt x="891" y="1226"/>
                </a:lnTo>
                <a:lnTo>
                  <a:pt x="860" y="1253"/>
                </a:lnTo>
                <a:lnTo>
                  <a:pt x="829" y="1280"/>
                </a:lnTo>
                <a:lnTo>
                  <a:pt x="799" y="1307"/>
                </a:lnTo>
                <a:lnTo>
                  <a:pt x="766" y="1334"/>
                </a:lnTo>
                <a:lnTo>
                  <a:pt x="733" y="1360"/>
                </a:lnTo>
                <a:lnTo>
                  <a:pt x="701" y="13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74"/>
          <p:cNvSpPr/>
          <p:nvPr/>
        </p:nvSpPr>
        <p:spPr>
          <a:xfrm>
            <a:off x="6056280" y="3701880"/>
            <a:ext cx="1244520" cy="246240"/>
          </a:xfrm>
          <a:custGeom>
            <a:avLst/>
            <a:gdLst/>
            <a:ahLst/>
            <a:rect l="l" t="t" r="r" b="b"/>
            <a:pathLst>
              <a:path w="1566" h="309">
                <a:moveTo>
                  <a:pt x="90" y="282"/>
                </a:moveTo>
                <a:lnTo>
                  <a:pt x="79" y="278"/>
                </a:lnTo>
                <a:lnTo>
                  <a:pt x="67" y="273"/>
                </a:lnTo>
                <a:lnTo>
                  <a:pt x="57" y="269"/>
                </a:lnTo>
                <a:lnTo>
                  <a:pt x="48" y="263"/>
                </a:lnTo>
                <a:lnTo>
                  <a:pt x="40" y="259"/>
                </a:lnTo>
                <a:lnTo>
                  <a:pt x="32" y="253"/>
                </a:lnTo>
                <a:lnTo>
                  <a:pt x="27" y="248"/>
                </a:lnTo>
                <a:lnTo>
                  <a:pt x="21" y="244"/>
                </a:lnTo>
                <a:lnTo>
                  <a:pt x="15" y="238"/>
                </a:lnTo>
                <a:lnTo>
                  <a:pt x="11" y="234"/>
                </a:lnTo>
                <a:lnTo>
                  <a:pt x="7" y="228"/>
                </a:lnTo>
                <a:lnTo>
                  <a:pt x="6" y="225"/>
                </a:lnTo>
                <a:lnTo>
                  <a:pt x="4" y="219"/>
                </a:lnTo>
                <a:lnTo>
                  <a:pt x="2" y="215"/>
                </a:lnTo>
                <a:lnTo>
                  <a:pt x="0" y="211"/>
                </a:lnTo>
                <a:lnTo>
                  <a:pt x="0" y="205"/>
                </a:lnTo>
                <a:lnTo>
                  <a:pt x="40" y="200"/>
                </a:lnTo>
                <a:lnTo>
                  <a:pt x="80" y="196"/>
                </a:lnTo>
                <a:lnTo>
                  <a:pt x="121" y="190"/>
                </a:lnTo>
                <a:lnTo>
                  <a:pt x="165" y="184"/>
                </a:lnTo>
                <a:lnTo>
                  <a:pt x="209" y="177"/>
                </a:lnTo>
                <a:lnTo>
                  <a:pt x="257" y="171"/>
                </a:lnTo>
                <a:lnTo>
                  <a:pt x="305" y="163"/>
                </a:lnTo>
                <a:lnTo>
                  <a:pt x="353" y="155"/>
                </a:lnTo>
                <a:lnTo>
                  <a:pt x="405" y="148"/>
                </a:lnTo>
                <a:lnTo>
                  <a:pt x="457" y="138"/>
                </a:lnTo>
                <a:lnTo>
                  <a:pt x="510" y="130"/>
                </a:lnTo>
                <a:lnTo>
                  <a:pt x="566" y="121"/>
                </a:lnTo>
                <a:lnTo>
                  <a:pt x="624" y="111"/>
                </a:lnTo>
                <a:lnTo>
                  <a:pt x="681" y="100"/>
                </a:lnTo>
                <a:lnTo>
                  <a:pt x="741" y="88"/>
                </a:lnTo>
                <a:lnTo>
                  <a:pt x="802" y="77"/>
                </a:lnTo>
                <a:lnTo>
                  <a:pt x="831" y="71"/>
                </a:lnTo>
                <a:lnTo>
                  <a:pt x="860" y="67"/>
                </a:lnTo>
                <a:lnTo>
                  <a:pt x="889" y="61"/>
                </a:lnTo>
                <a:lnTo>
                  <a:pt x="915" y="58"/>
                </a:lnTo>
                <a:lnTo>
                  <a:pt x="942" y="54"/>
                </a:lnTo>
                <a:lnTo>
                  <a:pt x="967" y="50"/>
                </a:lnTo>
                <a:lnTo>
                  <a:pt x="992" y="46"/>
                </a:lnTo>
                <a:lnTo>
                  <a:pt x="1017" y="42"/>
                </a:lnTo>
                <a:lnTo>
                  <a:pt x="1040" y="38"/>
                </a:lnTo>
                <a:lnTo>
                  <a:pt x="1063" y="35"/>
                </a:lnTo>
                <a:lnTo>
                  <a:pt x="1084" y="33"/>
                </a:lnTo>
                <a:lnTo>
                  <a:pt x="1105" y="29"/>
                </a:lnTo>
                <a:lnTo>
                  <a:pt x="1127" y="25"/>
                </a:lnTo>
                <a:lnTo>
                  <a:pt x="1146" y="23"/>
                </a:lnTo>
                <a:lnTo>
                  <a:pt x="1165" y="21"/>
                </a:lnTo>
                <a:lnTo>
                  <a:pt x="1182" y="17"/>
                </a:lnTo>
                <a:lnTo>
                  <a:pt x="1199" y="15"/>
                </a:lnTo>
                <a:lnTo>
                  <a:pt x="1217" y="13"/>
                </a:lnTo>
                <a:lnTo>
                  <a:pt x="1232" y="11"/>
                </a:lnTo>
                <a:lnTo>
                  <a:pt x="1247" y="10"/>
                </a:lnTo>
                <a:lnTo>
                  <a:pt x="1261" y="8"/>
                </a:lnTo>
                <a:lnTo>
                  <a:pt x="1274" y="6"/>
                </a:lnTo>
                <a:lnTo>
                  <a:pt x="1286" y="6"/>
                </a:lnTo>
                <a:lnTo>
                  <a:pt x="1297" y="4"/>
                </a:lnTo>
                <a:lnTo>
                  <a:pt x="1309" y="2"/>
                </a:lnTo>
                <a:lnTo>
                  <a:pt x="1318" y="2"/>
                </a:lnTo>
                <a:lnTo>
                  <a:pt x="1328" y="0"/>
                </a:lnTo>
                <a:lnTo>
                  <a:pt x="1336" y="0"/>
                </a:lnTo>
                <a:lnTo>
                  <a:pt x="1343" y="0"/>
                </a:lnTo>
                <a:lnTo>
                  <a:pt x="1351" y="0"/>
                </a:lnTo>
                <a:lnTo>
                  <a:pt x="1357" y="0"/>
                </a:lnTo>
                <a:lnTo>
                  <a:pt x="1363" y="0"/>
                </a:lnTo>
                <a:lnTo>
                  <a:pt x="1376" y="0"/>
                </a:lnTo>
                <a:lnTo>
                  <a:pt x="1393" y="2"/>
                </a:lnTo>
                <a:lnTo>
                  <a:pt x="1411" y="4"/>
                </a:lnTo>
                <a:lnTo>
                  <a:pt x="1428" y="8"/>
                </a:lnTo>
                <a:lnTo>
                  <a:pt x="1445" y="11"/>
                </a:lnTo>
                <a:lnTo>
                  <a:pt x="1464" y="15"/>
                </a:lnTo>
                <a:lnTo>
                  <a:pt x="1503" y="25"/>
                </a:lnTo>
                <a:lnTo>
                  <a:pt x="1516" y="35"/>
                </a:lnTo>
                <a:lnTo>
                  <a:pt x="1528" y="42"/>
                </a:lnTo>
                <a:lnTo>
                  <a:pt x="1539" y="50"/>
                </a:lnTo>
                <a:lnTo>
                  <a:pt x="1549" y="56"/>
                </a:lnTo>
                <a:lnTo>
                  <a:pt x="1553" y="58"/>
                </a:lnTo>
                <a:lnTo>
                  <a:pt x="1556" y="61"/>
                </a:lnTo>
                <a:lnTo>
                  <a:pt x="1558" y="63"/>
                </a:lnTo>
                <a:lnTo>
                  <a:pt x="1560" y="67"/>
                </a:lnTo>
                <a:lnTo>
                  <a:pt x="1562" y="69"/>
                </a:lnTo>
                <a:lnTo>
                  <a:pt x="1564" y="71"/>
                </a:lnTo>
                <a:lnTo>
                  <a:pt x="1566" y="75"/>
                </a:lnTo>
                <a:lnTo>
                  <a:pt x="1566" y="77"/>
                </a:lnTo>
                <a:lnTo>
                  <a:pt x="1564" y="82"/>
                </a:lnTo>
                <a:lnTo>
                  <a:pt x="1562" y="88"/>
                </a:lnTo>
                <a:lnTo>
                  <a:pt x="1560" y="94"/>
                </a:lnTo>
                <a:lnTo>
                  <a:pt x="1555" y="102"/>
                </a:lnTo>
                <a:lnTo>
                  <a:pt x="1551" y="106"/>
                </a:lnTo>
                <a:lnTo>
                  <a:pt x="1547" y="109"/>
                </a:lnTo>
                <a:lnTo>
                  <a:pt x="1543" y="113"/>
                </a:lnTo>
                <a:lnTo>
                  <a:pt x="1539" y="115"/>
                </a:lnTo>
                <a:lnTo>
                  <a:pt x="1533" y="119"/>
                </a:lnTo>
                <a:lnTo>
                  <a:pt x="1528" y="123"/>
                </a:lnTo>
                <a:lnTo>
                  <a:pt x="1522" y="125"/>
                </a:lnTo>
                <a:lnTo>
                  <a:pt x="1514" y="129"/>
                </a:lnTo>
                <a:lnTo>
                  <a:pt x="1507" y="132"/>
                </a:lnTo>
                <a:lnTo>
                  <a:pt x="1497" y="138"/>
                </a:lnTo>
                <a:lnTo>
                  <a:pt x="1485" y="142"/>
                </a:lnTo>
                <a:lnTo>
                  <a:pt x="1472" y="148"/>
                </a:lnTo>
                <a:lnTo>
                  <a:pt x="1457" y="152"/>
                </a:lnTo>
                <a:lnTo>
                  <a:pt x="1439" y="157"/>
                </a:lnTo>
                <a:lnTo>
                  <a:pt x="1430" y="159"/>
                </a:lnTo>
                <a:lnTo>
                  <a:pt x="1420" y="161"/>
                </a:lnTo>
                <a:lnTo>
                  <a:pt x="1409" y="165"/>
                </a:lnTo>
                <a:lnTo>
                  <a:pt x="1399" y="167"/>
                </a:lnTo>
                <a:lnTo>
                  <a:pt x="1388" y="169"/>
                </a:lnTo>
                <a:lnTo>
                  <a:pt x="1376" y="171"/>
                </a:lnTo>
                <a:lnTo>
                  <a:pt x="1363" y="175"/>
                </a:lnTo>
                <a:lnTo>
                  <a:pt x="1351" y="177"/>
                </a:lnTo>
                <a:lnTo>
                  <a:pt x="1338" y="178"/>
                </a:lnTo>
                <a:lnTo>
                  <a:pt x="1324" y="180"/>
                </a:lnTo>
                <a:lnTo>
                  <a:pt x="1309" y="184"/>
                </a:lnTo>
                <a:lnTo>
                  <a:pt x="1295" y="186"/>
                </a:lnTo>
                <a:lnTo>
                  <a:pt x="1280" y="188"/>
                </a:lnTo>
                <a:lnTo>
                  <a:pt x="1263" y="190"/>
                </a:lnTo>
                <a:lnTo>
                  <a:pt x="1247" y="194"/>
                </a:lnTo>
                <a:lnTo>
                  <a:pt x="1230" y="196"/>
                </a:lnTo>
                <a:lnTo>
                  <a:pt x="1213" y="198"/>
                </a:lnTo>
                <a:lnTo>
                  <a:pt x="1196" y="200"/>
                </a:lnTo>
                <a:lnTo>
                  <a:pt x="1176" y="203"/>
                </a:lnTo>
                <a:lnTo>
                  <a:pt x="1159" y="205"/>
                </a:lnTo>
                <a:lnTo>
                  <a:pt x="1006" y="225"/>
                </a:lnTo>
                <a:lnTo>
                  <a:pt x="931" y="234"/>
                </a:lnTo>
                <a:lnTo>
                  <a:pt x="854" y="242"/>
                </a:lnTo>
                <a:lnTo>
                  <a:pt x="779" y="249"/>
                </a:lnTo>
                <a:lnTo>
                  <a:pt x="706" y="257"/>
                </a:lnTo>
                <a:lnTo>
                  <a:pt x="633" y="265"/>
                </a:lnTo>
                <a:lnTo>
                  <a:pt x="560" y="271"/>
                </a:lnTo>
                <a:lnTo>
                  <a:pt x="526" y="274"/>
                </a:lnTo>
                <a:lnTo>
                  <a:pt x="493" y="278"/>
                </a:lnTo>
                <a:lnTo>
                  <a:pt x="460" y="282"/>
                </a:lnTo>
                <a:lnTo>
                  <a:pt x="432" y="286"/>
                </a:lnTo>
                <a:lnTo>
                  <a:pt x="405" y="290"/>
                </a:lnTo>
                <a:lnTo>
                  <a:pt x="378" y="294"/>
                </a:lnTo>
                <a:lnTo>
                  <a:pt x="366" y="296"/>
                </a:lnTo>
                <a:lnTo>
                  <a:pt x="355" y="296"/>
                </a:lnTo>
                <a:lnTo>
                  <a:pt x="343" y="297"/>
                </a:lnTo>
                <a:lnTo>
                  <a:pt x="332" y="299"/>
                </a:lnTo>
                <a:lnTo>
                  <a:pt x="322" y="299"/>
                </a:lnTo>
                <a:lnTo>
                  <a:pt x="313" y="301"/>
                </a:lnTo>
                <a:lnTo>
                  <a:pt x="303" y="303"/>
                </a:lnTo>
                <a:lnTo>
                  <a:pt x="295" y="303"/>
                </a:lnTo>
                <a:lnTo>
                  <a:pt x="286" y="303"/>
                </a:lnTo>
                <a:lnTo>
                  <a:pt x="278" y="305"/>
                </a:lnTo>
                <a:lnTo>
                  <a:pt x="272" y="305"/>
                </a:lnTo>
                <a:lnTo>
                  <a:pt x="265" y="307"/>
                </a:lnTo>
                <a:lnTo>
                  <a:pt x="259" y="307"/>
                </a:lnTo>
                <a:lnTo>
                  <a:pt x="253" y="307"/>
                </a:lnTo>
                <a:lnTo>
                  <a:pt x="247" y="307"/>
                </a:lnTo>
                <a:lnTo>
                  <a:pt x="244" y="307"/>
                </a:lnTo>
                <a:lnTo>
                  <a:pt x="238" y="309"/>
                </a:lnTo>
                <a:lnTo>
                  <a:pt x="236" y="309"/>
                </a:lnTo>
                <a:lnTo>
                  <a:pt x="232" y="309"/>
                </a:lnTo>
                <a:lnTo>
                  <a:pt x="230" y="309"/>
                </a:lnTo>
                <a:lnTo>
                  <a:pt x="215" y="307"/>
                </a:lnTo>
                <a:lnTo>
                  <a:pt x="199" y="307"/>
                </a:lnTo>
                <a:lnTo>
                  <a:pt x="186" y="303"/>
                </a:lnTo>
                <a:lnTo>
                  <a:pt x="169" y="301"/>
                </a:lnTo>
                <a:lnTo>
                  <a:pt x="151" y="297"/>
                </a:lnTo>
                <a:lnTo>
                  <a:pt x="132" y="292"/>
                </a:lnTo>
                <a:lnTo>
                  <a:pt x="123" y="290"/>
                </a:lnTo>
                <a:lnTo>
                  <a:pt x="111" y="288"/>
                </a:lnTo>
                <a:lnTo>
                  <a:pt x="102" y="286"/>
                </a:lnTo>
                <a:lnTo>
                  <a:pt x="90" y="2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75"/>
          <p:cNvSpPr/>
          <p:nvPr/>
        </p:nvSpPr>
        <p:spPr>
          <a:xfrm>
            <a:off x="5764320" y="3157560"/>
            <a:ext cx="299880" cy="534960"/>
          </a:xfrm>
          <a:custGeom>
            <a:avLst/>
            <a:gdLst/>
            <a:ahLst/>
            <a:rect l="l" t="t" r="r" b="b"/>
            <a:pathLst>
              <a:path w="378" h="674">
                <a:moveTo>
                  <a:pt x="192" y="583"/>
                </a:moveTo>
                <a:lnTo>
                  <a:pt x="179" y="595"/>
                </a:lnTo>
                <a:lnTo>
                  <a:pt x="169" y="604"/>
                </a:lnTo>
                <a:lnTo>
                  <a:pt x="158" y="616"/>
                </a:lnTo>
                <a:lnTo>
                  <a:pt x="148" y="624"/>
                </a:lnTo>
                <a:lnTo>
                  <a:pt x="138" y="633"/>
                </a:lnTo>
                <a:lnTo>
                  <a:pt x="129" y="639"/>
                </a:lnTo>
                <a:lnTo>
                  <a:pt x="121" y="647"/>
                </a:lnTo>
                <a:lnTo>
                  <a:pt x="112" y="652"/>
                </a:lnTo>
                <a:lnTo>
                  <a:pt x="104" y="658"/>
                </a:lnTo>
                <a:lnTo>
                  <a:pt x="96" y="662"/>
                </a:lnTo>
                <a:lnTo>
                  <a:pt x="89" y="666"/>
                </a:lnTo>
                <a:lnTo>
                  <a:pt x="81" y="668"/>
                </a:lnTo>
                <a:lnTo>
                  <a:pt x="73" y="670"/>
                </a:lnTo>
                <a:lnTo>
                  <a:pt x="66" y="672"/>
                </a:lnTo>
                <a:lnTo>
                  <a:pt x="58" y="674"/>
                </a:lnTo>
                <a:lnTo>
                  <a:pt x="52" y="674"/>
                </a:lnTo>
                <a:lnTo>
                  <a:pt x="44" y="674"/>
                </a:lnTo>
                <a:lnTo>
                  <a:pt x="39" y="672"/>
                </a:lnTo>
                <a:lnTo>
                  <a:pt x="33" y="670"/>
                </a:lnTo>
                <a:lnTo>
                  <a:pt x="27" y="666"/>
                </a:lnTo>
                <a:lnTo>
                  <a:pt x="23" y="662"/>
                </a:lnTo>
                <a:lnTo>
                  <a:pt x="18" y="658"/>
                </a:lnTo>
                <a:lnTo>
                  <a:pt x="14" y="652"/>
                </a:lnTo>
                <a:lnTo>
                  <a:pt x="12" y="645"/>
                </a:lnTo>
                <a:lnTo>
                  <a:pt x="8" y="639"/>
                </a:lnTo>
                <a:lnTo>
                  <a:pt x="6" y="631"/>
                </a:lnTo>
                <a:lnTo>
                  <a:pt x="4" y="622"/>
                </a:lnTo>
                <a:lnTo>
                  <a:pt x="2" y="614"/>
                </a:lnTo>
                <a:lnTo>
                  <a:pt x="2" y="603"/>
                </a:lnTo>
                <a:lnTo>
                  <a:pt x="0" y="593"/>
                </a:lnTo>
                <a:lnTo>
                  <a:pt x="0" y="581"/>
                </a:lnTo>
                <a:lnTo>
                  <a:pt x="0" y="570"/>
                </a:lnTo>
                <a:lnTo>
                  <a:pt x="0" y="547"/>
                </a:lnTo>
                <a:lnTo>
                  <a:pt x="0" y="524"/>
                </a:lnTo>
                <a:lnTo>
                  <a:pt x="0" y="503"/>
                </a:lnTo>
                <a:lnTo>
                  <a:pt x="2" y="483"/>
                </a:lnTo>
                <a:lnTo>
                  <a:pt x="2" y="476"/>
                </a:lnTo>
                <a:lnTo>
                  <a:pt x="4" y="466"/>
                </a:lnTo>
                <a:lnTo>
                  <a:pt x="4" y="459"/>
                </a:lnTo>
                <a:lnTo>
                  <a:pt x="6" y="453"/>
                </a:lnTo>
                <a:lnTo>
                  <a:pt x="8" y="445"/>
                </a:lnTo>
                <a:lnTo>
                  <a:pt x="8" y="439"/>
                </a:lnTo>
                <a:lnTo>
                  <a:pt x="10" y="434"/>
                </a:lnTo>
                <a:lnTo>
                  <a:pt x="14" y="428"/>
                </a:lnTo>
                <a:lnTo>
                  <a:pt x="16" y="426"/>
                </a:lnTo>
                <a:lnTo>
                  <a:pt x="18" y="422"/>
                </a:lnTo>
                <a:lnTo>
                  <a:pt x="21" y="418"/>
                </a:lnTo>
                <a:lnTo>
                  <a:pt x="25" y="414"/>
                </a:lnTo>
                <a:lnTo>
                  <a:pt x="33" y="405"/>
                </a:lnTo>
                <a:lnTo>
                  <a:pt x="43" y="393"/>
                </a:lnTo>
                <a:lnTo>
                  <a:pt x="48" y="386"/>
                </a:lnTo>
                <a:lnTo>
                  <a:pt x="54" y="380"/>
                </a:lnTo>
                <a:lnTo>
                  <a:pt x="62" y="374"/>
                </a:lnTo>
                <a:lnTo>
                  <a:pt x="67" y="366"/>
                </a:lnTo>
                <a:lnTo>
                  <a:pt x="75" y="359"/>
                </a:lnTo>
                <a:lnTo>
                  <a:pt x="85" y="353"/>
                </a:lnTo>
                <a:lnTo>
                  <a:pt x="92" y="345"/>
                </a:lnTo>
                <a:lnTo>
                  <a:pt x="102" y="338"/>
                </a:lnTo>
                <a:lnTo>
                  <a:pt x="112" y="330"/>
                </a:lnTo>
                <a:lnTo>
                  <a:pt x="121" y="322"/>
                </a:lnTo>
                <a:lnTo>
                  <a:pt x="129" y="313"/>
                </a:lnTo>
                <a:lnTo>
                  <a:pt x="138" y="303"/>
                </a:lnTo>
                <a:lnTo>
                  <a:pt x="146" y="293"/>
                </a:lnTo>
                <a:lnTo>
                  <a:pt x="154" y="284"/>
                </a:lnTo>
                <a:lnTo>
                  <a:pt x="163" y="272"/>
                </a:lnTo>
                <a:lnTo>
                  <a:pt x="171" y="261"/>
                </a:lnTo>
                <a:lnTo>
                  <a:pt x="179" y="247"/>
                </a:lnTo>
                <a:lnTo>
                  <a:pt x="186" y="234"/>
                </a:lnTo>
                <a:lnTo>
                  <a:pt x="194" y="221"/>
                </a:lnTo>
                <a:lnTo>
                  <a:pt x="200" y="207"/>
                </a:lnTo>
                <a:lnTo>
                  <a:pt x="208" y="192"/>
                </a:lnTo>
                <a:lnTo>
                  <a:pt x="215" y="176"/>
                </a:lnTo>
                <a:lnTo>
                  <a:pt x="223" y="161"/>
                </a:lnTo>
                <a:lnTo>
                  <a:pt x="229" y="144"/>
                </a:lnTo>
                <a:lnTo>
                  <a:pt x="234" y="128"/>
                </a:lnTo>
                <a:lnTo>
                  <a:pt x="238" y="113"/>
                </a:lnTo>
                <a:lnTo>
                  <a:pt x="244" y="98"/>
                </a:lnTo>
                <a:lnTo>
                  <a:pt x="248" y="86"/>
                </a:lnTo>
                <a:lnTo>
                  <a:pt x="252" y="75"/>
                </a:lnTo>
                <a:lnTo>
                  <a:pt x="257" y="63"/>
                </a:lnTo>
                <a:lnTo>
                  <a:pt x="261" y="54"/>
                </a:lnTo>
                <a:lnTo>
                  <a:pt x="265" y="44"/>
                </a:lnTo>
                <a:lnTo>
                  <a:pt x="269" y="36"/>
                </a:lnTo>
                <a:lnTo>
                  <a:pt x="273" y="29"/>
                </a:lnTo>
                <a:lnTo>
                  <a:pt x="277" y="23"/>
                </a:lnTo>
                <a:lnTo>
                  <a:pt x="281" y="17"/>
                </a:lnTo>
                <a:lnTo>
                  <a:pt x="284" y="13"/>
                </a:lnTo>
                <a:lnTo>
                  <a:pt x="288" y="7"/>
                </a:lnTo>
                <a:lnTo>
                  <a:pt x="290" y="6"/>
                </a:lnTo>
                <a:lnTo>
                  <a:pt x="294" y="2"/>
                </a:lnTo>
                <a:lnTo>
                  <a:pt x="296" y="0"/>
                </a:lnTo>
                <a:lnTo>
                  <a:pt x="298" y="0"/>
                </a:lnTo>
                <a:lnTo>
                  <a:pt x="300" y="0"/>
                </a:lnTo>
                <a:lnTo>
                  <a:pt x="304" y="0"/>
                </a:lnTo>
                <a:lnTo>
                  <a:pt x="305" y="2"/>
                </a:lnTo>
                <a:lnTo>
                  <a:pt x="309" y="4"/>
                </a:lnTo>
                <a:lnTo>
                  <a:pt x="311" y="6"/>
                </a:lnTo>
                <a:lnTo>
                  <a:pt x="315" y="9"/>
                </a:lnTo>
                <a:lnTo>
                  <a:pt x="319" y="15"/>
                </a:lnTo>
                <a:lnTo>
                  <a:pt x="323" y="21"/>
                </a:lnTo>
                <a:lnTo>
                  <a:pt x="329" y="27"/>
                </a:lnTo>
                <a:lnTo>
                  <a:pt x="332" y="32"/>
                </a:lnTo>
                <a:lnTo>
                  <a:pt x="338" y="40"/>
                </a:lnTo>
                <a:lnTo>
                  <a:pt x="344" y="48"/>
                </a:lnTo>
                <a:lnTo>
                  <a:pt x="350" y="57"/>
                </a:lnTo>
                <a:lnTo>
                  <a:pt x="357" y="67"/>
                </a:lnTo>
                <a:lnTo>
                  <a:pt x="363" y="78"/>
                </a:lnTo>
                <a:lnTo>
                  <a:pt x="369" y="92"/>
                </a:lnTo>
                <a:lnTo>
                  <a:pt x="373" y="105"/>
                </a:lnTo>
                <a:lnTo>
                  <a:pt x="376" y="119"/>
                </a:lnTo>
                <a:lnTo>
                  <a:pt x="378" y="132"/>
                </a:lnTo>
                <a:lnTo>
                  <a:pt x="378" y="146"/>
                </a:lnTo>
                <a:lnTo>
                  <a:pt x="378" y="161"/>
                </a:lnTo>
                <a:lnTo>
                  <a:pt x="378" y="176"/>
                </a:lnTo>
                <a:lnTo>
                  <a:pt x="376" y="192"/>
                </a:lnTo>
                <a:lnTo>
                  <a:pt x="375" y="209"/>
                </a:lnTo>
                <a:lnTo>
                  <a:pt x="371" y="226"/>
                </a:lnTo>
                <a:lnTo>
                  <a:pt x="367" y="244"/>
                </a:lnTo>
                <a:lnTo>
                  <a:pt x="363" y="263"/>
                </a:lnTo>
                <a:lnTo>
                  <a:pt x="357" y="284"/>
                </a:lnTo>
                <a:lnTo>
                  <a:pt x="352" y="303"/>
                </a:lnTo>
                <a:lnTo>
                  <a:pt x="344" y="324"/>
                </a:lnTo>
                <a:lnTo>
                  <a:pt x="336" y="345"/>
                </a:lnTo>
                <a:lnTo>
                  <a:pt x="329" y="366"/>
                </a:lnTo>
                <a:lnTo>
                  <a:pt x="321" y="386"/>
                </a:lnTo>
                <a:lnTo>
                  <a:pt x="313" y="405"/>
                </a:lnTo>
                <a:lnTo>
                  <a:pt x="305" y="422"/>
                </a:lnTo>
                <a:lnTo>
                  <a:pt x="296" y="439"/>
                </a:lnTo>
                <a:lnTo>
                  <a:pt x="286" y="457"/>
                </a:lnTo>
                <a:lnTo>
                  <a:pt x="277" y="472"/>
                </a:lnTo>
                <a:lnTo>
                  <a:pt x="267" y="487"/>
                </a:lnTo>
                <a:lnTo>
                  <a:pt x="257" y="503"/>
                </a:lnTo>
                <a:lnTo>
                  <a:pt x="248" y="518"/>
                </a:lnTo>
                <a:lnTo>
                  <a:pt x="236" y="531"/>
                </a:lnTo>
                <a:lnTo>
                  <a:pt x="215" y="558"/>
                </a:lnTo>
                <a:lnTo>
                  <a:pt x="192" y="5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76"/>
          <p:cNvSpPr/>
          <p:nvPr/>
        </p:nvSpPr>
        <p:spPr>
          <a:xfrm>
            <a:off x="5986440" y="3129120"/>
            <a:ext cx="1768320" cy="409320"/>
          </a:xfrm>
          <a:custGeom>
            <a:avLst/>
            <a:gdLst/>
            <a:ahLst/>
            <a:rect l="l" t="t" r="r" b="b"/>
            <a:pathLst>
              <a:path w="2226" h="517">
                <a:moveTo>
                  <a:pt x="2036" y="142"/>
                </a:moveTo>
                <a:lnTo>
                  <a:pt x="2059" y="160"/>
                </a:lnTo>
                <a:lnTo>
                  <a:pt x="2080" y="175"/>
                </a:lnTo>
                <a:lnTo>
                  <a:pt x="2099" y="190"/>
                </a:lnTo>
                <a:lnTo>
                  <a:pt x="2119" y="204"/>
                </a:lnTo>
                <a:lnTo>
                  <a:pt x="2136" y="217"/>
                </a:lnTo>
                <a:lnTo>
                  <a:pt x="2151" y="229"/>
                </a:lnTo>
                <a:lnTo>
                  <a:pt x="2167" y="242"/>
                </a:lnTo>
                <a:lnTo>
                  <a:pt x="2178" y="252"/>
                </a:lnTo>
                <a:lnTo>
                  <a:pt x="2190" y="263"/>
                </a:lnTo>
                <a:lnTo>
                  <a:pt x="2199" y="273"/>
                </a:lnTo>
                <a:lnTo>
                  <a:pt x="2207" y="282"/>
                </a:lnTo>
                <a:lnTo>
                  <a:pt x="2215" y="292"/>
                </a:lnTo>
                <a:lnTo>
                  <a:pt x="2220" y="300"/>
                </a:lnTo>
                <a:lnTo>
                  <a:pt x="2224" y="307"/>
                </a:lnTo>
                <a:lnTo>
                  <a:pt x="2226" y="315"/>
                </a:lnTo>
                <a:lnTo>
                  <a:pt x="2226" y="323"/>
                </a:lnTo>
                <a:lnTo>
                  <a:pt x="2226" y="330"/>
                </a:lnTo>
                <a:lnTo>
                  <a:pt x="2224" y="336"/>
                </a:lnTo>
                <a:lnTo>
                  <a:pt x="2222" y="342"/>
                </a:lnTo>
                <a:lnTo>
                  <a:pt x="2220" y="348"/>
                </a:lnTo>
                <a:lnTo>
                  <a:pt x="2216" y="352"/>
                </a:lnTo>
                <a:lnTo>
                  <a:pt x="2211" y="355"/>
                </a:lnTo>
                <a:lnTo>
                  <a:pt x="2205" y="359"/>
                </a:lnTo>
                <a:lnTo>
                  <a:pt x="2199" y="361"/>
                </a:lnTo>
                <a:lnTo>
                  <a:pt x="2193" y="363"/>
                </a:lnTo>
                <a:lnTo>
                  <a:pt x="2186" y="365"/>
                </a:lnTo>
                <a:lnTo>
                  <a:pt x="2176" y="367"/>
                </a:lnTo>
                <a:lnTo>
                  <a:pt x="2167" y="367"/>
                </a:lnTo>
                <a:lnTo>
                  <a:pt x="2157" y="367"/>
                </a:lnTo>
                <a:lnTo>
                  <a:pt x="2147" y="365"/>
                </a:lnTo>
                <a:lnTo>
                  <a:pt x="2136" y="363"/>
                </a:lnTo>
                <a:lnTo>
                  <a:pt x="2124" y="361"/>
                </a:lnTo>
                <a:lnTo>
                  <a:pt x="2111" y="359"/>
                </a:lnTo>
                <a:lnTo>
                  <a:pt x="2096" y="359"/>
                </a:lnTo>
                <a:lnTo>
                  <a:pt x="2080" y="359"/>
                </a:lnTo>
                <a:lnTo>
                  <a:pt x="2065" y="359"/>
                </a:lnTo>
                <a:lnTo>
                  <a:pt x="2049" y="361"/>
                </a:lnTo>
                <a:lnTo>
                  <a:pt x="2032" y="363"/>
                </a:lnTo>
                <a:lnTo>
                  <a:pt x="2017" y="365"/>
                </a:lnTo>
                <a:lnTo>
                  <a:pt x="2000" y="369"/>
                </a:lnTo>
                <a:lnTo>
                  <a:pt x="1982" y="375"/>
                </a:lnTo>
                <a:lnTo>
                  <a:pt x="1963" y="378"/>
                </a:lnTo>
                <a:lnTo>
                  <a:pt x="1944" y="386"/>
                </a:lnTo>
                <a:lnTo>
                  <a:pt x="1927" y="392"/>
                </a:lnTo>
                <a:lnTo>
                  <a:pt x="1906" y="400"/>
                </a:lnTo>
                <a:lnTo>
                  <a:pt x="1886" y="407"/>
                </a:lnTo>
                <a:lnTo>
                  <a:pt x="1865" y="417"/>
                </a:lnTo>
                <a:lnTo>
                  <a:pt x="1844" y="426"/>
                </a:lnTo>
                <a:lnTo>
                  <a:pt x="1823" y="438"/>
                </a:lnTo>
                <a:lnTo>
                  <a:pt x="1804" y="449"/>
                </a:lnTo>
                <a:lnTo>
                  <a:pt x="1787" y="459"/>
                </a:lnTo>
                <a:lnTo>
                  <a:pt x="1769" y="469"/>
                </a:lnTo>
                <a:lnTo>
                  <a:pt x="1752" y="476"/>
                </a:lnTo>
                <a:lnTo>
                  <a:pt x="1737" y="484"/>
                </a:lnTo>
                <a:lnTo>
                  <a:pt x="1723" y="490"/>
                </a:lnTo>
                <a:lnTo>
                  <a:pt x="1712" y="496"/>
                </a:lnTo>
                <a:lnTo>
                  <a:pt x="1700" y="501"/>
                </a:lnTo>
                <a:lnTo>
                  <a:pt x="1691" y="505"/>
                </a:lnTo>
                <a:lnTo>
                  <a:pt x="1681" y="509"/>
                </a:lnTo>
                <a:lnTo>
                  <a:pt x="1673" y="511"/>
                </a:lnTo>
                <a:lnTo>
                  <a:pt x="1666" y="513"/>
                </a:lnTo>
                <a:lnTo>
                  <a:pt x="1662" y="515"/>
                </a:lnTo>
                <a:lnTo>
                  <a:pt x="1656" y="517"/>
                </a:lnTo>
                <a:lnTo>
                  <a:pt x="1654" y="517"/>
                </a:lnTo>
                <a:lnTo>
                  <a:pt x="1650" y="515"/>
                </a:lnTo>
                <a:lnTo>
                  <a:pt x="1646" y="515"/>
                </a:lnTo>
                <a:lnTo>
                  <a:pt x="1643" y="511"/>
                </a:lnTo>
                <a:lnTo>
                  <a:pt x="1643" y="507"/>
                </a:lnTo>
                <a:lnTo>
                  <a:pt x="1641" y="501"/>
                </a:lnTo>
                <a:lnTo>
                  <a:pt x="1643" y="496"/>
                </a:lnTo>
                <a:lnTo>
                  <a:pt x="1643" y="488"/>
                </a:lnTo>
                <a:lnTo>
                  <a:pt x="1646" y="480"/>
                </a:lnTo>
                <a:lnTo>
                  <a:pt x="1650" y="471"/>
                </a:lnTo>
                <a:lnTo>
                  <a:pt x="1654" y="459"/>
                </a:lnTo>
                <a:lnTo>
                  <a:pt x="1660" y="448"/>
                </a:lnTo>
                <a:lnTo>
                  <a:pt x="1666" y="434"/>
                </a:lnTo>
                <a:lnTo>
                  <a:pt x="1675" y="421"/>
                </a:lnTo>
                <a:lnTo>
                  <a:pt x="1683" y="407"/>
                </a:lnTo>
                <a:lnTo>
                  <a:pt x="1692" y="392"/>
                </a:lnTo>
                <a:lnTo>
                  <a:pt x="1704" y="375"/>
                </a:lnTo>
                <a:lnTo>
                  <a:pt x="1715" y="357"/>
                </a:lnTo>
                <a:lnTo>
                  <a:pt x="1725" y="342"/>
                </a:lnTo>
                <a:lnTo>
                  <a:pt x="1735" y="329"/>
                </a:lnTo>
                <a:lnTo>
                  <a:pt x="1742" y="313"/>
                </a:lnTo>
                <a:lnTo>
                  <a:pt x="1750" y="302"/>
                </a:lnTo>
                <a:lnTo>
                  <a:pt x="1756" y="288"/>
                </a:lnTo>
                <a:lnTo>
                  <a:pt x="1760" y="279"/>
                </a:lnTo>
                <a:lnTo>
                  <a:pt x="1765" y="267"/>
                </a:lnTo>
                <a:lnTo>
                  <a:pt x="1767" y="259"/>
                </a:lnTo>
                <a:lnTo>
                  <a:pt x="1769" y="250"/>
                </a:lnTo>
                <a:lnTo>
                  <a:pt x="1771" y="242"/>
                </a:lnTo>
                <a:lnTo>
                  <a:pt x="1773" y="236"/>
                </a:lnTo>
                <a:lnTo>
                  <a:pt x="1773" y="231"/>
                </a:lnTo>
                <a:lnTo>
                  <a:pt x="1771" y="227"/>
                </a:lnTo>
                <a:lnTo>
                  <a:pt x="1771" y="223"/>
                </a:lnTo>
                <a:lnTo>
                  <a:pt x="1769" y="219"/>
                </a:lnTo>
                <a:lnTo>
                  <a:pt x="1765" y="217"/>
                </a:lnTo>
                <a:lnTo>
                  <a:pt x="1762" y="215"/>
                </a:lnTo>
                <a:lnTo>
                  <a:pt x="1756" y="213"/>
                </a:lnTo>
                <a:lnTo>
                  <a:pt x="1750" y="210"/>
                </a:lnTo>
                <a:lnTo>
                  <a:pt x="1742" y="208"/>
                </a:lnTo>
                <a:lnTo>
                  <a:pt x="1735" y="206"/>
                </a:lnTo>
                <a:lnTo>
                  <a:pt x="1725" y="204"/>
                </a:lnTo>
                <a:lnTo>
                  <a:pt x="1714" y="202"/>
                </a:lnTo>
                <a:lnTo>
                  <a:pt x="1704" y="200"/>
                </a:lnTo>
                <a:lnTo>
                  <a:pt x="1691" y="198"/>
                </a:lnTo>
                <a:lnTo>
                  <a:pt x="1679" y="198"/>
                </a:lnTo>
                <a:lnTo>
                  <a:pt x="1664" y="196"/>
                </a:lnTo>
                <a:lnTo>
                  <a:pt x="1650" y="194"/>
                </a:lnTo>
                <a:lnTo>
                  <a:pt x="1635" y="194"/>
                </a:lnTo>
                <a:lnTo>
                  <a:pt x="1620" y="194"/>
                </a:lnTo>
                <a:lnTo>
                  <a:pt x="1602" y="194"/>
                </a:lnTo>
                <a:lnTo>
                  <a:pt x="1593" y="194"/>
                </a:lnTo>
                <a:lnTo>
                  <a:pt x="1583" y="196"/>
                </a:lnTo>
                <a:lnTo>
                  <a:pt x="1572" y="198"/>
                </a:lnTo>
                <a:lnTo>
                  <a:pt x="1558" y="198"/>
                </a:lnTo>
                <a:lnTo>
                  <a:pt x="1547" y="200"/>
                </a:lnTo>
                <a:lnTo>
                  <a:pt x="1531" y="202"/>
                </a:lnTo>
                <a:lnTo>
                  <a:pt x="1518" y="202"/>
                </a:lnTo>
                <a:lnTo>
                  <a:pt x="1502" y="204"/>
                </a:lnTo>
                <a:lnTo>
                  <a:pt x="1487" y="206"/>
                </a:lnTo>
                <a:lnTo>
                  <a:pt x="1470" y="208"/>
                </a:lnTo>
                <a:lnTo>
                  <a:pt x="1453" y="208"/>
                </a:lnTo>
                <a:lnTo>
                  <a:pt x="1435" y="210"/>
                </a:lnTo>
                <a:lnTo>
                  <a:pt x="1416" y="211"/>
                </a:lnTo>
                <a:lnTo>
                  <a:pt x="1397" y="213"/>
                </a:lnTo>
                <a:lnTo>
                  <a:pt x="1376" y="215"/>
                </a:lnTo>
                <a:lnTo>
                  <a:pt x="1355" y="217"/>
                </a:lnTo>
                <a:lnTo>
                  <a:pt x="1334" y="219"/>
                </a:lnTo>
                <a:lnTo>
                  <a:pt x="1310" y="221"/>
                </a:lnTo>
                <a:lnTo>
                  <a:pt x="1287" y="223"/>
                </a:lnTo>
                <a:lnTo>
                  <a:pt x="1262" y="225"/>
                </a:lnTo>
                <a:lnTo>
                  <a:pt x="1238" y="227"/>
                </a:lnTo>
                <a:lnTo>
                  <a:pt x="1213" y="229"/>
                </a:lnTo>
                <a:lnTo>
                  <a:pt x="1186" y="231"/>
                </a:lnTo>
                <a:lnTo>
                  <a:pt x="1159" y="234"/>
                </a:lnTo>
                <a:lnTo>
                  <a:pt x="1132" y="236"/>
                </a:lnTo>
                <a:lnTo>
                  <a:pt x="1103" y="238"/>
                </a:lnTo>
                <a:lnTo>
                  <a:pt x="1072" y="242"/>
                </a:lnTo>
                <a:lnTo>
                  <a:pt x="1044" y="244"/>
                </a:lnTo>
                <a:lnTo>
                  <a:pt x="1013" y="248"/>
                </a:lnTo>
                <a:lnTo>
                  <a:pt x="980" y="252"/>
                </a:lnTo>
                <a:lnTo>
                  <a:pt x="948" y="256"/>
                </a:lnTo>
                <a:lnTo>
                  <a:pt x="915" y="259"/>
                </a:lnTo>
                <a:lnTo>
                  <a:pt x="848" y="265"/>
                </a:lnTo>
                <a:lnTo>
                  <a:pt x="781" y="273"/>
                </a:lnTo>
                <a:lnTo>
                  <a:pt x="715" y="279"/>
                </a:lnTo>
                <a:lnTo>
                  <a:pt x="650" y="286"/>
                </a:lnTo>
                <a:lnTo>
                  <a:pt x="589" y="292"/>
                </a:lnTo>
                <a:lnTo>
                  <a:pt x="527" y="296"/>
                </a:lnTo>
                <a:lnTo>
                  <a:pt x="468" y="302"/>
                </a:lnTo>
                <a:lnTo>
                  <a:pt x="410" y="307"/>
                </a:lnTo>
                <a:lnTo>
                  <a:pt x="353" y="311"/>
                </a:lnTo>
                <a:lnTo>
                  <a:pt x="299" y="315"/>
                </a:lnTo>
                <a:lnTo>
                  <a:pt x="245" y="321"/>
                </a:lnTo>
                <a:lnTo>
                  <a:pt x="193" y="325"/>
                </a:lnTo>
                <a:lnTo>
                  <a:pt x="142" y="327"/>
                </a:lnTo>
                <a:lnTo>
                  <a:pt x="94" y="330"/>
                </a:lnTo>
                <a:lnTo>
                  <a:pt x="46" y="332"/>
                </a:lnTo>
                <a:lnTo>
                  <a:pt x="0" y="336"/>
                </a:lnTo>
                <a:lnTo>
                  <a:pt x="11" y="271"/>
                </a:lnTo>
                <a:lnTo>
                  <a:pt x="24" y="208"/>
                </a:lnTo>
                <a:lnTo>
                  <a:pt x="32" y="210"/>
                </a:lnTo>
                <a:lnTo>
                  <a:pt x="42" y="211"/>
                </a:lnTo>
                <a:lnTo>
                  <a:pt x="51" y="213"/>
                </a:lnTo>
                <a:lnTo>
                  <a:pt x="63" y="213"/>
                </a:lnTo>
                <a:lnTo>
                  <a:pt x="74" y="215"/>
                </a:lnTo>
                <a:lnTo>
                  <a:pt x="88" y="215"/>
                </a:lnTo>
                <a:lnTo>
                  <a:pt x="101" y="217"/>
                </a:lnTo>
                <a:lnTo>
                  <a:pt x="117" y="217"/>
                </a:lnTo>
                <a:lnTo>
                  <a:pt x="134" y="217"/>
                </a:lnTo>
                <a:lnTo>
                  <a:pt x="149" y="215"/>
                </a:lnTo>
                <a:lnTo>
                  <a:pt x="167" y="215"/>
                </a:lnTo>
                <a:lnTo>
                  <a:pt x="186" y="213"/>
                </a:lnTo>
                <a:lnTo>
                  <a:pt x="205" y="213"/>
                </a:lnTo>
                <a:lnTo>
                  <a:pt x="224" y="211"/>
                </a:lnTo>
                <a:lnTo>
                  <a:pt x="245" y="210"/>
                </a:lnTo>
                <a:lnTo>
                  <a:pt x="266" y="208"/>
                </a:lnTo>
                <a:lnTo>
                  <a:pt x="278" y="206"/>
                </a:lnTo>
                <a:lnTo>
                  <a:pt x="289" y="204"/>
                </a:lnTo>
                <a:lnTo>
                  <a:pt x="303" y="202"/>
                </a:lnTo>
                <a:lnTo>
                  <a:pt x="316" y="202"/>
                </a:lnTo>
                <a:lnTo>
                  <a:pt x="330" y="200"/>
                </a:lnTo>
                <a:lnTo>
                  <a:pt x="345" y="198"/>
                </a:lnTo>
                <a:lnTo>
                  <a:pt x="362" y="196"/>
                </a:lnTo>
                <a:lnTo>
                  <a:pt x="380" y="194"/>
                </a:lnTo>
                <a:lnTo>
                  <a:pt x="397" y="192"/>
                </a:lnTo>
                <a:lnTo>
                  <a:pt x="416" y="190"/>
                </a:lnTo>
                <a:lnTo>
                  <a:pt x="435" y="188"/>
                </a:lnTo>
                <a:lnTo>
                  <a:pt x="454" y="187"/>
                </a:lnTo>
                <a:lnTo>
                  <a:pt x="476" y="185"/>
                </a:lnTo>
                <a:lnTo>
                  <a:pt x="499" y="183"/>
                </a:lnTo>
                <a:lnTo>
                  <a:pt x="522" y="181"/>
                </a:lnTo>
                <a:lnTo>
                  <a:pt x="545" y="179"/>
                </a:lnTo>
                <a:lnTo>
                  <a:pt x="570" y="175"/>
                </a:lnTo>
                <a:lnTo>
                  <a:pt x="595" y="173"/>
                </a:lnTo>
                <a:lnTo>
                  <a:pt x="621" y="171"/>
                </a:lnTo>
                <a:lnTo>
                  <a:pt x="648" y="167"/>
                </a:lnTo>
                <a:lnTo>
                  <a:pt x="677" y="165"/>
                </a:lnTo>
                <a:lnTo>
                  <a:pt x="706" y="162"/>
                </a:lnTo>
                <a:lnTo>
                  <a:pt x="735" y="160"/>
                </a:lnTo>
                <a:lnTo>
                  <a:pt x="765" y="156"/>
                </a:lnTo>
                <a:lnTo>
                  <a:pt x="798" y="154"/>
                </a:lnTo>
                <a:lnTo>
                  <a:pt x="829" y="150"/>
                </a:lnTo>
                <a:lnTo>
                  <a:pt x="863" y="146"/>
                </a:lnTo>
                <a:lnTo>
                  <a:pt x="898" y="144"/>
                </a:lnTo>
                <a:lnTo>
                  <a:pt x="932" y="140"/>
                </a:lnTo>
                <a:lnTo>
                  <a:pt x="969" y="137"/>
                </a:lnTo>
                <a:lnTo>
                  <a:pt x="1005" y="133"/>
                </a:lnTo>
                <a:lnTo>
                  <a:pt x="1044" y="129"/>
                </a:lnTo>
                <a:lnTo>
                  <a:pt x="1080" y="125"/>
                </a:lnTo>
                <a:lnTo>
                  <a:pt x="1117" y="121"/>
                </a:lnTo>
                <a:lnTo>
                  <a:pt x="1153" y="119"/>
                </a:lnTo>
                <a:lnTo>
                  <a:pt x="1186" y="115"/>
                </a:lnTo>
                <a:lnTo>
                  <a:pt x="1220" y="112"/>
                </a:lnTo>
                <a:lnTo>
                  <a:pt x="1251" y="108"/>
                </a:lnTo>
                <a:lnTo>
                  <a:pt x="1284" y="104"/>
                </a:lnTo>
                <a:lnTo>
                  <a:pt x="1312" y="100"/>
                </a:lnTo>
                <a:lnTo>
                  <a:pt x="1341" y="96"/>
                </a:lnTo>
                <a:lnTo>
                  <a:pt x="1370" y="92"/>
                </a:lnTo>
                <a:lnTo>
                  <a:pt x="1395" y="91"/>
                </a:lnTo>
                <a:lnTo>
                  <a:pt x="1422" y="87"/>
                </a:lnTo>
                <a:lnTo>
                  <a:pt x="1445" y="83"/>
                </a:lnTo>
                <a:lnTo>
                  <a:pt x="1470" y="79"/>
                </a:lnTo>
                <a:lnTo>
                  <a:pt x="1491" y="77"/>
                </a:lnTo>
                <a:lnTo>
                  <a:pt x="1512" y="73"/>
                </a:lnTo>
                <a:lnTo>
                  <a:pt x="1533" y="69"/>
                </a:lnTo>
                <a:lnTo>
                  <a:pt x="1550" y="66"/>
                </a:lnTo>
                <a:lnTo>
                  <a:pt x="1570" y="64"/>
                </a:lnTo>
                <a:lnTo>
                  <a:pt x="1585" y="60"/>
                </a:lnTo>
                <a:lnTo>
                  <a:pt x="1602" y="58"/>
                </a:lnTo>
                <a:lnTo>
                  <a:pt x="1616" y="54"/>
                </a:lnTo>
                <a:lnTo>
                  <a:pt x="1629" y="50"/>
                </a:lnTo>
                <a:lnTo>
                  <a:pt x="1643" y="48"/>
                </a:lnTo>
                <a:lnTo>
                  <a:pt x="1654" y="44"/>
                </a:lnTo>
                <a:lnTo>
                  <a:pt x="1664" y="43"/>
                </a:lnTo>
                <a:lnTo>
                  <a:pt x="1673" y="39"/>
                </a:lnTo>
                <a:lnTo>
                  <a:pt x="1681" y="37"/>
                </a:lnTo>
                <a:lnTo>
                  <a:pt x="1689" y="35"/>
                </a:lnTo>
                <a:lnTo>
                  <a:pt x="1694" y="31"/>
                </a:lnTo>
                <a:lnTo>
                  <a:pt x="1700" y="29"/>
                </a:lnTo>
                <a:lnTo>
                  <a:pt x="1704" y="27"/>
                </a:lnTo>
                <a:lnTo>
                  <a:pt x="1717" y="21"/>
                </a:lnTo>
                <a:lnTo>
                  <a:pt x="1731" y="18"/>
                </a:lnTo>
                <a:lnTo>
                  <a:pt x="1744" y="12"/>
                </a:lnTo>
                <a:lnTo>
                  <a:pt x="1756" y="8"/>
                </a:lnTo>
                <a:lnTo>
                  <a:pt x="1767" y="6"/>
                </a:lnTo>
                <a:lnTo>
                  <a:pt x="1781" y="2"/>
                </a:lnTo>
                <a:lnTo>
                  <a:pt x="1792" y="0"/>
                </a:lnTo>
                <a:lnTo>
                  <a:pt x="1808" y="0"/>
                </a:lnTo>
                <a:lnTo>
                  <a:pt x="1811" y="2"/>
                </a:lnTo>
                <a:lnTo>
                  <a:pt x="1819" y="6"/>
                </a:lnTo>
                <a:lnTo>
                  <a:pt x="1827" y="10"/>
                </a:lnTo>
                <a:lnTo>
                  <a:pt x="1834" y="16"/>
                </a:lnTo>
                <a:lnTo>
                  <a:pt x="1846" y="21"/>
                </a:lnTo>
                <a:lnTo>
                  <a:pt x="1858" y="27"/>
                </a:lnTo>
                <a:lnTo>
                  <a:pt x="1869" y="35"/>
                </a:lnTo>
                <a:lnTo>
                  <a:pt x="1882" y="43"/>
                </a:lnTo>
                <a:lnTo>
                  <a:pt x="1898" y="50"/>
                </a:lnTo>
                <a:lnTo>
                  <a:pt x="1913" y="60"/>
                </a:lnTo>
                <a:lnTo>
                  <a:pt x="1930" y="71"/>
                </a:lnTo>
                <a:lnTo>
                  <a:pt x="1950" y="83"/>
                </a:lnTo>
                <a:lnTo>
                  <a:pt x="1969" y="96"/>
                </a:lnTo>
                <a:lnTo>
                  <a:pt x="1990" y="110"/>
                </a:lnTo>
                <a:lnTo>
                  <a:pt x="2013" y="125"/>
                </a:lnTo>
                <a:lnTo>
                  <a:pt x="2036" y="1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77"/>
          <p:cNvSpPr/>
          <p:nvPr/>
        </p:nvSpPr>
        <p:spPr>
          <a:xfrm>
            <a:off x="6532560" y="2782800"/>
            <a:ext cx="333360" cy="366840"/>
          </a:xfrm>
          <a:custGeom>
            <a:avLst/>
            <a:gdLst/>
            <a:ahLst/>
            <a:rect l="l" t="t" r="r" b="b"/>
            <a:pathLst>
              <a:path w="420" h="462">
                <a:moveTo>
                  <a:pt x="0" y="9"/>
                </a:moveTo>
                <a:lnTo>
                  <a:pt x="2" y="7"/>
                </a:lnTo>
                <a:lnTo>
                  <a:pt x="5" y="5"/>
                </a:lnTo>
                <a:lnTo>
                  <a:pt x="9" y="3"/>
                </a:lnTo>
                <a:lnTo>
                  <a:pt x="15" y="2"/>
                </a:lnTo>
                <a:lnTo>
                  <a:pt x="19" y="2"/>
                </a:lnTo>
                <a:lnTo>
                  <a:pt x="27" y="2"/>
                </a:lnTo>
                <a:lnTo>
                  <a:pt x="32" y="0"/>
                </a:lnTo>
                <a:lnTo>
                  <a:pt x="40" y="0"/>
                </a:lnTo>
                <a:lnTo>
                  <a:pt x="50" y="0"/>
                </a:lnTo>
                <a:lnTo>
                  <a:pt x="59" y="2"/>
                </a:lnTo>
                <a:lnTo>
                  <a:pt x="71" y="2"/>
                </a:lnTo>
                <a:lnTo>
                  <a:pt x="82" y="2"/>
                </a:lnTo>
                <a:lnTo>
                  <a:pt x="94" y="3"/>
                </a:lnTo>
                <a:lnTo>
                  <a:pt x="109" y="5"/>
                </a:lnTo>
                <a:lnTo>
                  <a:pt x="123" y="7"/>
                </a:lnTo>
                <a:lnTo>
                  <a:pt x="140" y="9"/>
                </a:lnTo>
                <a:lnTo>
                  <a:pt x="167" y="21"/>
                </a:lnTo>
                <a:lnTo>
                  <a:pt x="195" y="32"/>
                </a:lnTo>
                <a:lnTo>
                  <a:pt x="220" y="46"/>
                </a:lnTo>
                <a:lnTo>
                  <a:pt x="245" y="59"/>
                </a:lnTo>
                <a:lnTo>
                  <a:pt x="259" y="67"/>
                </a:lnTo>
                <a:lnTo>
                  <a:pt x="270" y="76"/>
                </a:lnTo>
                <a:lnTo>
                  <a:pt x="284" y="86"/>
                </a:lnTo>
                <a:lnTo>
                  <a:pt x="295" y="96"/>
                </a:lnTo>
                <a:lnTo>
                  <a:pt x="307" y="105"/>
                </a:lnTo>
                <a:lnTo>
                  <a:pt x="320" y="115"/>
                </a:lnTo>
                <a:lnTo>
                  <a:pt x="332" y="126"/>
                </a:lnTo>
                <a:lnTo>
                  <a:pt x="343" y="140"/>
                </a:lnTo>
                <a:lnTo>
                  <a:pt x="353" y="151"/>
                </a:lnTo>
                <a:lnTo>
                  <a:pt x="361" y="163"/>
                </a:lnTo>
                <a:lnTo>
                  <a:pt x="368" y="174"/>
                </a:lnTo>
                <a:lnTo>
                  <a:pt x="376" y="186"/>
                </a:lnTo>
                <a:lnTo>
                  <a:pt x="384" y="195"/>
                </a:lnTo>
                <a:lnTo>
                  <a:pt x="389" y="207"/>
                </a:lnTo>
                <a:lnTo>
                  <a:pt x="395" y="216"/>
                </a:lnTo>
                <a:lnTo>
                  <a:pt x="401" y="228"/>
                </a:lnTo>
                <a:lnTo>
                  <a:pt x="405" y="238"/>
                </a:lnTo>
                <a:lnTo>
                  <a:pt x="409" y="247"/>
                </a:lnTo>
                <a:lnTo>
                  <a:pt x="412" y="259"/>
                </a:lnTo>
                <a:lnTo>
                  <a:pt x="414" y="268"/>
                </a:lnTo>
                <a:lnTo>
                  <a:pt x="416" y="278"/>
                </a:lnTo>
                <a:lnTo>
                  <a:pt x="418" y="288"/>
                </a:lnTo>
                <a:lnTo>
                  <a:pt x="420" y="297"/>
                </a:lnTo>
                <a:lnTo>
                  <a:pt x="420" y="307"/>
                </a:lnTo>
                <a:lnTo>
                  <a:pt x="420" y="318"/>
                </a:lnTo>
                <a:lnTo>
                  <a:pt x="418" y="330"/>
                </a:lnTo>
                <a:lnTo>
                  <a:pt x="418" y="339"/>
                </a:lnTo>
                <a:lnTo>
                  <a:pt x="418" y="351"/>
                </a:lnTo>
                <a:lnTo>
                  <a:pt x="416" y="359"/>
                </a:lnTo>
                <a:lnTo>
                  <a:pt x="414" y="368"/>
                </a:lnTo>
                <a:lnTo>
                  <a:pt x="412" y="376"/>
                </a:lnTo>
                <a:lnTo>
                  <a:pt x="412" y="383"/>
                </a:lnTo>
                <a:lnTo>
                  <a:pt x="410" y="391"/>
                </a:lnTo>
                <a:lnTo>
                  <a:pt x="409" y="397"/>
                </a:lnTo>
                <a:lnTo>
                  <a:pt x="405" y="403"/>
                </a:lnTo>
                <a:lnTo>
                  <a:pt x="403" y="408"/>
                </a:lnTo>
                <a:lnTo>
                  <a:pt x="401" y="412"/>
                </a:lnTo>
                <a:lnTo>
                  <a:pt x="399" y="416"/>
                </a:lnTo>
                <a:lnTo>
                  <a:pt x="397" y="420"/>
                </a:lnTo>
                <a:lnTo>
                  <a:pt x="395" y="422"/>
                </a:lnTo>
                <a:lnTo>
                  <a:pt x="385" y="431"/>
                </a:lnTo>
                <a:lnTo>
                  <a:pt x="376" y="439"/>
                </a:lnTo>
                <a:lnTo>
                  <a:pt x="366" y="447"/>
                </a:lnTo>
                <a:lnTo>
                  <a:pt x="357" y="453"/>
                </a:lnTo>
                <a:lnTo>
                  <a:pt x="347" y="456"/>
                </a:lnTo>
                <a:lnTo>
                  <a:pt x="337" y="458"/>
                </a:lnTo>
                <a:lnTo>
                  <a:pt x="328" y="460"/>
                </a:lnTo>
                <a:lnTo>
                  <a:pt x="318" y="462"/>
                </a:lnTo>
                <a:lnTo>
                  <a:pt x="313" y="460"/>
                </a:lnTo>
                <a:lnTo>
                  <a:pt x="307" y="460"/>
                </a:lnTo>
                <a:lnTo>
                  <a:pt x="301" y="456"/>
                </a:lnTo>
                <a:lnTo>
                  <a:pt x="295" y="455"/>
                </a:lnTo>
                <a:lnTo>
                  <a:pt x="290" y="451"/>
                </a:lnTo>
                <a:lnTo>
                  <a:pt x="284" y="445"/>
                </a:lnTo>
                <a:lnTo>
                  <a:pt x="276" y="439"/>
                </a:lnTo>
                <a:lnTo>
                  <a:pt x="270" y="431"/>
                </a:lnTo>
                <a:lnTo>
                  <a:pt x="263" y="424"/>
                </a:lnTo>
                <a:lnTo>
                  <a:pt x="255" y="416"/>
                </a:lnTo>
                <a:lnTo>
                  <a:pt x="247" y="407"/>
                </a:lnTo>
                <a:lnTo>
                  <a:pt x="238" y="397"/>
                </a:lnTo>
                <a:lnTo>
                  <a:pt x="230" y="385"/>
                </a:lnTo>
                <a:lnTo>
                  <a:pt x="220" y="372"/>
                </a:lnTo>
                <a:lnTo>
                  <a:pt x="213" y="359"/>
                </a:lnTo>
                <a:lnTo>
                  <a:pt x="203" y="345"/>
                </a:lnTo>
                <a:lnTo>
                  <a:pt x="192" y="330"/>
                </a:lnTo>
                <a:lnTo>
                  <a:pt x="180" y="316"/>
                </a:lnTo>
                <a:lnTo>
                  <a:pt x="161" y="288"/>
                </a:lnTo>
                <a:lnTo>
                  <a:pt x="142" y="259"/>
                </a:lnTo>
                <a:lnTo>
                  <a:pt x="124" y="230"/>
                </a:lnTo>
                <a:lnTo>
                  <a:pt x="107" y="203"/>
                </a:lnTo>
                <a:lnTo>
                  <a:pt x="92" y="176"/>
                </a:lnTo>
                <a:lnTo>
                  <a:pt x="76" y="151"/>
                </a:lnTo>
                <a:lnTo>
                  <a:pt x="63" y="126"/>
                </a:lnTo>
                <a:lnTo>
                  <a:pt x="55" y="115"/>
                </a:lnTo>
                <a:lnTo>
                  <a:pt x="50" y="103"/>
                </a:lnTo>
                <a:lnTo>
                  <a:pt x="44" y="92"/>
                </a:lnTo>
                <a:lnTo>
                  <a:pt x="38" y="82"/>
                </a:lnTo>
                <a:lnTo>
                  <a:pt x="32" y="73"/>
                </a:lnTo>
                <a:lnTo>
                  <a:pt x="27" y="65"/>
                </a:lnTo>
                <a:lnTo>
                  <a:pt x="21" y="55"/>
                </a:lnTo>
                <a:lnTo>
                  <a:pt x="17" y="48"/>
                </a:lnTo>
                <a:lnTo>
                  <a:pt x="13" y="42"/>
                </a:lnTo>
                <a:lnTo>
                  <a:pt x="9" y="34"/>
                </a:lnTo>
                <a:lnTo>
                  <a:pt x="7" y="28"/>
                </a:lnTo>
                <a:lnTo>
                  <a:pt x="4" y="25"/>
                </a:lnTo>
                <a:lnTo>
                  <a:pt x="2" y="19"/>
                </a:lnTo>
                <a:lnTo>
                  <a:pt x="0" y="15"/>
                </a:lnTo>
                <a:lnTo>
                  <a:pt x="0" y="13"/>
                </a:lnTo>
                <a:lnTo>
                  <a:pt x="0" y="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任意多边形 8"/>
          <p:cNvSpPr/>
          <p:nvPr/>
        </p:nvSpPr>
        <p:spPr>
          <a:xfrm>
            <a:off x="1690560" y="2568600"/>
            <a:ext cx="6039000" cy="271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巍     损     垠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媲     橇     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563120" y="23414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ē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3738600" y="234144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ǔ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9"/>
          <p:cNvSpPr/>
          <p:nvPr/>
        </p:nvSpPr>
        <p:spPr>
          <a:xfrm>
            <a:off x="5908320" y="234144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í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0"/>
          <p:cNvSpPr/>
          <p:nvPr/>
        </p:nvSpPr>
        <p:spPr>
          <a:xfrm>
            <a:off x="1749600" y="374508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1"/>
          <p:cNvSpPr/>
          <p:nvPr/>
        </p:nvSpPr>
        <p:spPr>
          <a:xfrm>
            <a:off x="3665160" y="37450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5886360" y="37450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01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2054160" y="314964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屹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砌          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2070360" y="259236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4694040" y="259236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09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矩形 9"/>
          <p:cNvSpPr/>
          <p:nvPr/>
        </p:nvSpPr>
        <p:spPr>
          <a:xfrm>
            <a:off x="6150240" y="258912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1494000" y="28702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4"/>
          <p:cNvGrpSpPr/>
          <p:nvPr/>
        </p:nvGrpSpPr>
        <p:grpSpPr>
          <a:xfrm>
            <a:off x="2019240" y="2438280"/>
            <a:ext cx="2773440" cy="1373400"/>
            <a:chOff x="2019240" y="2438280"/>
            <a:chExt cx="2773440" cy="1373400"/>
          </a:xfrm>
        </p:grpSpPr>
        <p:sp>
          <p:nvSpPr>
            <p:cNvPr id="215" name="左大括号 2"/>
            <p:cNvSpPr/>
            <p:nvPr/>
          </p:nvSpPr>
          <p:spPr>
            <a:xfrm>
              <a:off x="2019240" y="268092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3"/>
            <p:cNvSpPr/>
            <p:nvPr/>
          </p:nvSpPr>
          <p:spPr>
            <a:xfrm>
              <a:off x="2185920" y="243828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qí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奇迹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ī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奇数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Box 13"/>
          <p:cNvSpPr/>
          <p:nvPr/>
        </p:nvSpPr>
        <p:spPr>
          <a:xfrm>
            <a:off x="4564080" y="29019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组合 5"/>
          <p:cNvGrpSpPr/>
          <p:nvPr/>
        </p:nvGrpSpPr>
        <p:grpSpPr>
          <a:xfrm>
            <a:off x="5025960" y="2462040"/>
            <a:ext cx="2741760" cy="1373400"/>
            <a:chOff x="5025960" y="2462040"/>
            <a:chExt cx="2741760" cy="1373400"/>
          </a:xfrm>
        </p:grpSpPr>
        <p:sp>
          <p:nvSpPr>
            <p:cNvPr id="219" name="左大括号 14"/>
            <p:cNvSpPr/>
            <p:nvPr/>
          </p:nvSpPr>
          <p:spPr>
            <a:xfrm>
              <a:off x="5025960" y="2680920"/>
              <a:ext cx="150840" cy="951120"/>
            </a:xfrm>
            <a:custGeom>
              <a:avLst/>
              <a:gdLst>
                <a:gd name="textAreaLeft" fmla="*/ 96480 w 150840"/>
                <a:gd name="textAreaRight" fmla="*/ 151200 w 15084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15"/>
            <p:cNvSpPr/>
            <p:nvPr/>
          </p:nvSpPr>
          <p:spPr>
            <a:xfrm>
              <a:off x="5160600" y="2462040"/>
              <a:ext cx="2607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à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大厦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à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厦门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22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TextBox 1"/>
          <p:cNvSpPr/>
          <p:nvPr/>
        </p:nvSpPr>
        <p:spPr>
          <a:xfrm>
            <a:off x="1492200" y="428940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组合 18"/>
          <p:cNvGrpSpPr/>
          <p:nvPr/>
        </p:nvGrpSpPr>
        <p:grpSpPr>
          <a:xfrm>
            <a:off x="2017800" y="3857760"/>
            <a:ext cx="4078080" cy="1373400"/>
            <a:chOff x="2017800" y="3857760"/>
            <a:chExt cx="4078080" cy="1373400"/>
          </a:xfrm>
        </p:grpSpPr>
        <p:sp>
          <p:nvSpPr>
            <p:cNvPr id="227" name="左大括号 19"/>
            <p:cNvSpPr/>
            <p:nvPr/>
          </p:nvSpPr>
          <p:spPr>
            <a:xfrm>
              <a:off x="2017800" y="4100400"/>
              <a:ext cx="267480" cy="928440"/>
            </a:xfrm>
            <a:custGeom>
              <a:avLst/>
              <a:gdLst>
                <a:gd name="textAreaLeft" fmla="*/ 171000 w 267480"/>
                <a:gd name="textAreaRight" fmla="*/ 267840 w 267480"/>
                <a:gd name="textAreaTop" fmla="*/ 5400 h 928440"/>
                <a:gd name="textAreaBottom" fmla="*/ 92304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Box 20"/>
            <p:cNvSpPr/>
            <p:nvPr/>
          </p:nvSpPr>
          <p:spPr>
            <a:xfrm>
              <a:off x="2220840" y="3857760"/>
              <a:ext cx="38750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fé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缝补 缝衣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fè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缝隙 门缝儿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1"/>
          <p:cNvSpPr/>
          <p:nvPr/>
        </p:nvSpPr>
        <p:spPr>
          <a:xfrm>
            <a:off x="1227240" y="182412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矗立：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摩天大厦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遗址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媲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巍然屹立：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3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矩形 1"/>
          <p:cNvSpPr/>
          <p:nvPr/>
        </p:nvSpPr>
        <p:spPr>
          <a:xfrm>
            <a:off x="2471760" y="1778040"/>
            <a:ext cx="66722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高耸地立着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雄伟的人民英雄纪念碑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矗立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在天安门广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高耸入云的大楼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毁损的年代较久的建筑物所在的地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圆明园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遗址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记录了一段中华民族的屈辱史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美好的程度差不多；比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个产品可与世界名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媲美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山或建筑物十分雄伟，高耸而稳固地立着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东方明珠塔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巍然屹立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在上海黄浦江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"/>
          <p:cNvSpPr/>
          <p:nvPr/>
        </p:nvSpPr>
        <p:spPr>
          <a:xfrm>
            <a:off x="865080" y="1824120"/>
            <a:ext cx="745668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举世闻名：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浑然一体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匠心独具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不可思议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3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矩形 1"/>
          <p:cNvSpPr/>
          <p:nvPr/>
        </p:nvSpPr>
        <p:spPr>
          <a:xfrm>
            <a:off x="2136600" y="1844640"/>
            <a:ext cx="64249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全世界都知道，形容非常有名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Calibri"/>
              </a:rPr>
              <a:t>举世闻名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的万里长城是中华民族的象征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融合成一个整体，形容完整不可分割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造句：王维的诗与画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Calibri"/>
              </a:rPr>
              <a:t>浑然一体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，诗中有画，画中有诗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形容艺术构思运用得很独特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造句：赵州桥的设计真是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Calibri"/>
              </a:rPr>
              <a:t>匠心独具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！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形容对事物、情况或言行不可想象或难以理解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造句：他能在这么短的时间里完成这件事，太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Calibri"/>
              </a:rPr>
              <a:t>不可思议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了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1"/>
          <p:cNvSpPr/>
          <p:nvPr/>
        </p:nvSpPr>
        <p:spPr>
          <a:xfrm>
            <a:off x="3948120" y="1982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屹立 矗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"/>
          <p:cNvSpPr/>
          <p:nvPr/>
        </p:nvSpPr>
        <p:spPr>
          <a:xfrm>
            <a:off x="2162160" y="2522520"/>
            <a:ext cx="66200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都有“高高地立着”的意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屹立”原指山峰稳固而高高地立着，后来指人或物像山峰一样高耸而稳固地立着，常用来比喻坚定不可动摇。“矗立”是指直而高地立着，一般用于物，不用于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青松不畏严寒，依然苍翠，</a:t>
            </a:r>
            <a:r>
              <a:rPr b="1" lang="zh-CN" sz="2200" spc="-1" strike="noStrike">
                <a:solidFill>
                  <a:srgbClr val="ff33cc"/>
                </a:solidFill>
                <a:latin typeface="宋体"/>
              </a:rPr>
              <a:t>屹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寒风之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金字塔</a:t>
            </a:r>
            <a:r>
              <a:rPr b="1" lang="zh-CN" sz="2200" spc="-1" strike="noStrike">
                <a:solidFill>
                  <a:srgbClr val="ff33cc"/>
                </a:solidFill>
                <a:latin typeface="宋体"/>
              </a:rPr>
              <a:t>矗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起伏的黄沙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4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4"/>
          <p:cNvGrpSpPr/>
          <p:nvPr/>
        </p:nvGrpSpPr>
        <p:grpSpPr>
          <a:xfrm>
            <a:off x="681120" y="2587680"/>
            <a:ext cx="1670040" cy="459720"/>
            <a:chOff x="681120" y="2587680"/>
            <a:chExt cx="1670040" cy="459720"/>
          </a:xfrm>
        </p:grpSpPr>
        <p:pic>
          <p:nvPicPr>
            <p:cNvPr id="248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0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3"/>
            <p:cNvSpPr/>
            <p:nvPr/>
          </p:nvSpPr>
          <p:spPr>
            <a:xfrm>
              <a:off x="1024200" y="25876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20"/>
          <p:cNvGrpSpPr/>
          <p:nvPr/>
        </p:nvGrpSpPr>
        <p:grpSpPr>
          <a:xfrm>
            <a:off x="681120" y="3218040"/>
            <a:ext cx="1670040" cy="459720"/>
            <a:chOff x="681120" y="3218040"/>
            <a:chExt cx="1670040" cy="459720"/>
          </a:xfrm>
        </p:grpSpPr>
        <p:pic>
          <p:nvPicPr>
            <p:cNvPr id="251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72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22"/>
            <p:cNvSpPr/>
            <p:nvPr/>
          </p:nvSpPr>
          <p:spPr>
            <a:xfrm>
              <a:off x="1024200" y="3218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23"/>
          <p:cNvGrpSpPr/>
          <p:nvPr/>
        </p:nvGrpSpPr>
        <p:grpSpPr>
          <a:xfrm>
            <a:off x="681120" y="5237280"/>
            <a:ext cx="1670040" cy="459720"/>
            <a:chOff x="681120" y="5237280"/>
            <a:chExt cx="1670040" cy="459720"/>
          </a:xfrm>
        </p:grpSpPr>
        <p:pic>
          <p:nvPicPr>
            <p:cNvPr id="254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52916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25"/>
            <p:cNvSpPr/>
            <p:nvPr/>
          </p:nvSpPr>
          <p:spPr>
            <a:xfrm>
              <a:off x="1024200" y="52372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1"/>
          <p:cNvSpPr/>
          <p:nvPr/>
        </p:nvSpPr>
        <p:spPr>
          <a:xfrm>
            <a:off x="887400" y="164628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位置和概貌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交代埃及金字塔所处的地理位置及概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地位、用途和名称的由来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金字塔的历史地位、用途和名称的由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-7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吉萨大金字塔最著名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以吉萨大金字塔为例，介绍金字塔的规模宏大、结构精巧、外形雄伟、建筑设计精密、技术水平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7"/>
          <p:cNvSpPr/>
          <p:nvPr/>
        </p:nvSpPr>
        <p:spPr>
          <a:xfrm>
            <a:off x="1281240" y="2503440"/>
            <a:ext cx="710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埃及首都开罗西南面金黄色的沙漠中，可以看到一座座巨大的角锥形建筑物。它们巍然屹立，傲对碧空。这就是举世闻名的埃及金字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金字塔是古埃及法老的坟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它的轮廓有点像汉字的“金”字，所以称为金字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741240" y="1424160"/>
            <a:ext cx="76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金字塔坐落在哪儿？是什么样子的？金字塔为何而建？为什么叫金字塔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9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"/>
          <p:cNvPicPr/>
          <p:nvPr/>
        </p:nvPicPr>
        <p:blipFill>
          <a:blip r:embed="rId1"/>
          <a:stretch/>
        </p:blipFill>
        <p:spPr>
          <a:xfrm>
            <a:off x="2170080" y="2017800"/>
            <a:ext cx="4834080" cy="360828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940040" y="5640480"/>
            <a:ext cx="5351400" cy="717480"/>
            <a:chOff x="1940040" y="5640480"/>
            <a:chExt cx="5351400" cy="717480"/>
          </a:xfrm>
        </p:grpSpPr>
        <p:pic>
          <p:nvPicPr>
            <p:cNvPr id="62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94004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6912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41584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40"/>
            <p:cNvSpPr/>
            <p:nvPr/>
          </p:nvSpPr>
          <p:spPr>
            <a:xfrm rot="5400000">
              <a:off x="366624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1"/>
            <p:cNvSpPr/>
            <p:nvPr/>
          </p:nvSpPr>
          <p:spPr>
            <a:xfrm rot="5400000">
              <a:off x="541548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8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组合 13338"/>
          <p:cNvGrpSpPr/>
          <p:nvPr/>
        </p:nvGrpSpPr>
        <p:grpSpPr>
          <a:xfrm>
            <a:off x="1798560" y="905040"/>
            <a:ext cx="5896080" cy="1180800"/>
            <a:chOff x="1798560" y="905040"/>
            <a:chExt cx="5896080" cy="1180800"/>
          </a:xfrm>
        </p:grpSpPr>
        <p:sp>
          <p:nvSpPr>
            <p:cNvPr id="72" name="Text Box 2"/>
            <p:cNvSpPr/>
            <p:nvPr/>
          </p:nvSpPr>
          <p:spPr>
            <a:xfrm>
              <a:off x="3357360" y="1011240"/>
              <a:ext cx="433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埃及金字塔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" name="组合 13337"/>
            <p:cNvGrpSpPr/>
            <p:nvPr/>
          </p:nvGrpSpPr>
          <p:grpSpPr>
            <a:xfrm>
              <a:off x="1798560" y="905040"/>
              <a:ext cx="1181160" cy="1180800"/>
              <a:chOff x="1798560" y="905040"/>
              <a:chExt cx="1181160" cy="1180800"/>
            </a:xfrm>
          </p:grpSpPr>
          <p:sp>
            <p:nvSpPr>
              <p:cNvPr id="74" name="AutoShape 11"/>
              <p:cNvSpPr/>
              <p:nvPr/>
            </p:nvSpPr>
            <p:spPr>
              <a:xfrm>
                <a:off x="179856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文本框 13"/>
              <p:cNvSpPr/>
              <p:nvPr/>
            </p:nvSpPr>
            <p:spPr>
              <a:xfrm>
                <a:off x="202176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11"/>
          <p:cNvSpPr/>
          <p:nvPr/>
        </p:nvSpPr>
        <p:spPr>
          <a:xfrm>
            <a:off x="1017720" y="261000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是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金字塔的地理位置及概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地位、用途和名字的由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几个著名的金字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这些金字塔是怎样建成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金字塔历史悠久吸引各国游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方面介绍金字塔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7167"/>
          <p:cNvSpPr/>
          <p:nvPr/>
        </p:nvSpPr>
        <p:spPr>
          <a:xfrm>
            <a:off x="1020600" y="2300400"/>
            <a:ext cx="7548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ónɡ  wě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ì   lì        fén    mù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ì  zhǐ       qì   chéng      ɡū    j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3" name="图片 1" descr=""/>
          <p:cNvPicPr/>
          <p:nvPr/>
        </p:nvPicPr>
        <p:blipFill>
          <a:blip r:embed="rId2"/>
          <a:stretch/>
        </p:blipFill>
        <p:spPr>
          <a:xfrm>
            <a:off x="1427040" y="3432240"/>
            <a:ext cx="1494000" cy="76176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1" descr=""/>
          <p:cNvPicPr/>
          <p:nvPr/>
        </p:nvPicPr>
        <p:blipFill>
          <a:blip r:embed="rId3"/>
          <a:stretch/>
        </p:blipFill>
        <p:spPr>
          <a:xfrm>
            <a:off x="3784680" y="3408480"/>
            <a:ext cx="1493640" cy="76176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22" descr=""/>
          <p:cNvPicPr/>
          <p:nvPr/>
        </p:nvPicPr>
        <p:blipFill>
          <a:blip r:embed="rId4"/>
          <a:stretch/>
        </p:blipFill>
        <p:spPr>
          <a:xfrm>
            <a:off x="6176880" y="3408480"/>
            <a:ext cx="1494000" cy="76176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23" descr=""/>
          <p:cNvPicPr/>
          <p:nvPr/>
        </p:nvPicPr>
        <p:blipFill>
          <a:blip r:embed="rId5"/>
          <a:stretch/>
        </p:blipFill>
        <p:spPr>
          <a:xfrm>
            <a:off x="1494000" y="5084640"/>
            <a:ext cx="1493640" cy="7621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24" descr=""/>
          <p:cNvPicPr/>
          <p:nvPr/>
        </p:nvPicPr>
        <p:blipFill>
          <a:blip r:embed="rId6"/>
          <a:stretch/>
        </p:blipFill>
        <p:spPr>
          <a:xfrm>
            <a:off x="3780000" y="5084640"/>
            <a:ext cx="149364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25" descr=""/>
          <p:cNvPicPr/>
          <p:nvPr/>
        </p:nvPicPr>
        <p:blipFill>
          <a:blip r:embed="rId7"/>
          <a:stretch/>
        </p:blipFill>
        <p:spPr>
          <a:xfrm>
            <a:off x="6176880" y="5092560"/>
            <a:ext cx="1494000" cy="762120"/>
          </a:xfrm>
          <a:prstGeom prst="rect">
            <a:avLst/>
          </a:prstGeom>
          <a:ln w="0">
            <a:noFill/>
          </a:ln>
        </p:spPr>
      </p:pic>
      <p:sp>
        <p:nvSpPr>
          <p:cNvPr id="269" name="矩形 7"/>
          <p:cNvSpPr/>
          <p:nvPr/>
        </p:nvSpPr>
        <p:spPr>
          <a:xfrm>
            <a:off x="1486080" y="3500280"/>
            <a:ext cx="15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宏  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6"/>
          <p:cNvSpPr/>
          <p:nvPr/>
        </p:nvSpPr>
        <p:spPr>
          <a:xfrm>
            <a:off x="3780000" y="350028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屹  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27"/>
          <p:cNvSpPr/>
          <p:nvPr/>
        </p:nvSpPr>
        <p:spPr>
          <a:xfrm>
            <a:off x="6084720" y="350028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坟  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28"/>
          <p:cNvSpPr/>
          <p:nvPr/>
        </p:nvSpPr>
        <p:spPr>
          <a:xfrm>
            <a:off x="1494000" y="515772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地  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9"/>
          <p:cNvSpPr/>
          <p:nvPr/>
        </p:nvSpPr>
        <p:spPr>
          <a:xfrm>
            <a:off x="3924360" y="5157720"/>
            <a:ext cx="16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砌 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30"/>
          <p:cNvSpPr/>
          <p:nvPr/>
        </p:nvSpPr>
        <p:spPr>
          <a:xfrm>
            <a:off x="6227640" y="5157720"/>
            <a:ext cx="18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估  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1258920" y="157464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砌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彻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估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故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4659480" y="210996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址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趾（　　　）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墓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幕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左大括号 2"/>
          <p:cNvSpPr/>
          <p:nvPr/>
        </p:nvSpPr>
        <p:spPr>
          <a:xfrm>
            <a:off x="1636560" y="2325600"/>
            <a:ext cx="144720" cy="792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472"/>
                </a:lnTo>
                <a:cubicBezTo>
                  <a:pt x="10800" y="10636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8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左大括号 15"/>
          <p:cNvSpPr/>
          <p:nvPr/>
        </p:nvSpPr>
        <p:spPr>
          <a:xfrm>
            <a:off x="4587840" y="232560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16"/>
          <p:cNvSpPr/>
          <p:nvPr/>
        </p:nvSpPr>
        <p:spPr>
          <a:xfrm>
            <a:off x="1625760" y="3419640"/>
            <a:ext cx="142560" cy="79200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左大括号 17"/>
          <p:cNvSpPr/>
          <p:nvPr/>
        </p:nvSpPr>
        <p:spPr>
          <a:xfrm>
            <a:off x="4576680" y="3419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2593800" y="223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砌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9"/>
          <p:cNvSpPr/>
          <p:nvPr/>
        </p:nvSpPr>
        <p:spPr>
          <a:xfrm>
            <a:off x="2593800" y="278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彻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8"/>
          <p:cNvSpPr/>
          <p:nvPr/>
        </p:nvSpPr>
        <p:spPr>
          <a:xfrm>
            <a:off x="5515560" y="2219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9"/>
          <p:cNvSpPr/>
          <p:nvPr/>
        </p:nvSpPr>
        <p:spPr>
          <a:xfrm>
            <a:off x="5515560" y="278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脚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20"/>
          <p:cNvSpPr/>
          <p:nvPr/>
        </p:nvSpPr>
        <p:spPr>
          <a:xfrm>
            <a:off x="2593800" y="333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估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22"/>
          <p:cNvSpPr/>
          <p:nvPr/>
        </p:nvSpPr>
        <p:spPr>
          <a:xfrm>
            <a:off x="2591280" y="388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故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23"/>
          <p:cNvSpPr/>
          <p:nvPr/>
        </p:nvSpPr>
        <p:spPr>
          <a:xfrm>
            <a:off x="5528880" y="333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坟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4"/>
          <p:cNvSpPr/>
          <p:nvPr/>
        </p:nvSpPr>
        <p:spPr>
          <a:xfrm>
            <a:off x="5528880" y="3870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屏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"/>
          <p:cNvSpPr/>
          <p:nvPr/>
        </p:nvSpPr>
        <p:spPr>
          <a:xfrm>
            <a:off x="971640" y="185580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结合课文，补充词语，选择其中的两个造句。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巍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举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体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独具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风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未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"/>
          <p:cNvSpPr/>
          <p:nvPr/>
        </p:nvSpPr>
        <p:spPr>
          <a:xfrm>
            <a:off x="2469960" y="250524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屹　    立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3"/>
          <p:cNvSpPr/>
          <p:nvPr/>
        </p:nvSpPr>
        <p:spPr>
          <a:xfrm>
            <a:off x="5475240" y="2505240"/>
            <a:ext cx="13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闻　   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0"/>
          <p:cNvSpPr/>
          <p:nvPr/>
        </p:nvSpPr>
        <p:spPr>
          <a:xfrm>
            <a:off x="1763640" y="30621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浑　    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1"/>
          <p:cNvSpPr/>
          <p:nvPr/>
        </p:nvSpPr>
        <p:spPr>
          <a:xfrm>
            <a:off x="4788000" y="306864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匠          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12"/>
          <p:cNvSpPr/>
          <p:nvPr/>
        </p:nvSpPr>
        <p:spPr>
          <a:xfrm>
            <a:off x="2379600" y="36180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沧　    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13"/>
          <p:cNvSpPr/>
          <p:nvPr/>
        </p:nvSpPr>
        <p:spPr>
          <a:xfrm>
            <a:off x="5475240" y="361476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之　    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9"/>
          <p:cNvSpPr/>
          <p:nvPr/>
        </p:nvSpPr>
        <p:spPr>
          <a:xfrm>
            <a:off x="1403280" y="4005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巍然屹立：金字塔犹如人类智慧的丰碑，巍然屹立。举世闻名：金字塔是举世闻名的建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1"/>
          <p:cNvSpPr/>
          <p:nvPr/>
        </p:nvSpPr>
        <p:spPr>
          <a:xfrm>
            <a:off x="755640" y="1628640"/>
            <a:ext cx="777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能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校门口有一棵白杨树，很高，直指天空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运用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数字的说明方法改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代又一代的科学家、学者、探险家们怀着浓厚的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趣，对金字塔进行了一次又一次探索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5"/>
          <p:cNvSpPr/>
          <p:nvPr/>
        </p:nvSpPr>
        <p:spPr>
          <a:xfrm>
            <a:off x="1187280" y="3357720"/>
            <a:ext cx="72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学校门口有一棵白杨树，高十几米，直指天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7"/>
          <p:cNvSpPr/>
          <p:nvPr/>
        </p:nvSpPr>
        <p:spPr>
          <a:xfrm>
            <a:off x="4239000" y="49831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科学家、学者、探险家们对金字塔进行了探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611280" y="1109520"/>
            <a:ext cx="82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出说明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塔身由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块巨石砌成，这些石块平均每块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因为它的轮廓有点儿像汉字的“金”字，所以中国人把它称为金字塔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哈夫拉金字塔比胡夫金字塔略小，但其艺术风格的庄严与工程设计的准确，均可与胡夫金字塔媲美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因此，阿拉伯人有句俗语说：“人们怕时间，时间却怕金字塔。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5"/>
          <p:cNvSpPr/>
          <p:nvPr/>
        </p:nvSpPr>
        <p:spPr>
          <a:xfrm>
            <a:off x="1523520" y="231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列数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6"/>
          <p:cNvSpPr/>
          <p:nvPr/>
        </p:nvSpPr>
        <p:spPr>
          <a:xfrm>
            <a:off x="368424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打比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7"/>
          <p:cNvSpPr/>
          <p:nvPr/>
        </p:nvSpPr>
        <p:spPr>
          <a:xfrm>
            <a:off x="7716240" y="450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做比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8"/>
          <p:cNvSpPr/>
          <p:nvPr/>
        </p:nvSpPr>
        <p:spPr>
          <a:xfrm>
            <a:off x="3126960" y="560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作引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“损、垠”等生字；会写“坟、屹”等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展开丰富的联想，感受金字塔的雄伟壮丽和神秘莫测，从而对勤劳又有智慧的古代劳动人民产生赞美之情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2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86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山”三竖间隔均匀， 中竖较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57"/>
          <p:cNvSpPr/>
          <p:nvPr/>
        </p:nvSpPr>
        <p:spPr>
          <a:xfrm>
            <a:off x="6605640" y="3668760"/>
            <a:ext cx="1219320" cy="1360440"/>
          </a:xfrm>
          <a:custGeom>
            <a:avLst/>
            <a:gdLst/>
            <a:ahLst/>
            <a:rect l="l" t="t" r="r" b="b"/>
            <a:pathLst>
              <a:path w="1535" h="1714">
                <a:moveTo>
                  <a:pt x="499" y="56"/>
                </a:moveTo>
                <a:lnTo>
                  <a:pt x="503" y="48"/>
                </a:lnTo>
                <a:lnTo>
                  <a:pt x="506" y="42"/>
                </a:lnTo>
                <a:lnTo>
                  <a:pt x="512" y="34"/>
                </a:lnTo>
                <a:lnTo>
                  <a:pt x="516" y="29"/>
                </a:lnTo>
                <a:lnTo>
                  <a:pt x="520" y="25"/>
                </a:lnTo>
                <a:lnTo>
                  <a:pt x="526" y="19"/>
                </a:lnTo>
                <a:lnTo>
                  <a:pt x="530" y="15"/>
                </a:lnTo>
                <a:lnTo>
                  <a:pt x="535" y="11"/>
                </a:lnTo>
                <a:lnTo>
                  <a:pt x="539" y="10"/>
                </a:lnTo>
                <a:lnTo>
                  <a:pt x="543" y="6"/>
                </a:lnTo>
                <a:lnTo>
                  <a:pt x="553" y="2"/>
                </a:lnTo>
                <a:lnTo>
                  <a:pt x="562" y="0"/>
                </a:lnTo>
                <a:lnTo>
                  <a:pt x="572" y="0"/>
                </a:lnTo>
                <a:lnTo>
                  <a:pt x="574" y="0"/>
                </a:lnTo>
                <a:lnTo>
                  <a:pt x="577" y="0"/>
                </a:lnTo>
                <a:lnTo>
                  <a:pt x="581" y="2"/>
                </a:lnTo>
                <a:lnTo>
                  <a:pt x="587" y="4"/>
                </a:lnTo>
                <a:lnTo>
                  <a:pt x="593" y="8"/>
                </a:lnTo>
                <a:lnTo>
                  <a:pt x="599" y="10"/>
                </a:lnTo>
                <a:lnTo>
                  <a:pt x="606" y="13"/>
                </a:lnTo>
                <a:lnTo>
                  <a:pt x="614" y="19"/>
                </a:lnTo>
                <a:lnTo>
                  <a:pt x="622" y="23"/>
                </a:lnTo>
                <a:lnTo>
                  <a:pt x="631" y="29"/>
                </a:lnTo>
                <a:lnTo>
                  <a:pt x="639" y="34"/>
                </a:lnTo>
                <a:lnTo>
                  <a:pt x="649" y="40"/>
                </a:lnTo>
                <a:lnTo>
                  <a:pt x="670" y="54"/>
                </a:lnTo>
                <a:lnTo>
                  <a:pt x="693" y="71"/>
                </a:lnTo>
                <a:lnTo>
                  <a:pt x="704" y="79"/>
                </a:lnTo>
                <a:lnTo>
                  <a:pt x="714" y="86"/>
                </a:lnTo>
                <a:lnTo>
                  <a:pt x="723" y="94"/>
                </a:lnTo>
                <a:lnTo>
                  <a:pt x="733" y="102"/>
                </a:lnTo>
                <a:lnTo>
                  <a:pt x="741" y="109"/>
                </a:lnTo>
                <a:lnTo>
                  <a:pt x="748" y="117"/>
                </a:lnTo>
                <a:lnTo>
                  <a:pt x="756" y="123"/>
                </a:lnTo>
                <a:lnTo>
                  <a:pt x="762" y="130"/>
                </a:lnTo>
                <a:lnTo>
                  <a:pt x="768" y="136"/>
                </a:lnTo>
                <a:lnTo>
                  <a:pt x="771" y="144"/>
                </a:lnTo>
                <a:lnTo>
                  <a:pt x="775" y="148"/>
                </a:lnTo>
                <a:lnTo>
                  <a:pt x="777" y="153"/>
                </a:lnTo>
                <a:lnTo>
                  <a:pt x="779" y="159"/>
                </a:lnTo>
                <a:lnTo>
                  <a:pt x="779" y="163"/>
                </a:lnTo>
                <a:lnTo>
                  <a:pt x="779" y="167"/>
                </a:lnTo>
                <a:lnTo>
                  <a:pt x="777" y="169"/>
                </a:lnTo>
                <a:lnTo>
                  <a:pt x="771" y="180"/>
                </a:lnTo>
                <a:lnTo>
                  <a:pt x="766" y="190"/>
                </a:lnTo>
                <a:lnTo>
                  <a:pt x="758" y="200"/>
                </a:lnTo>
                <a:lnTo>
                  <a:pt x="750" y="209"/>
                </a:lnTo>
                <a:lnTo>
                  <a:pt x="741" y="219"/>
                </a:lnTo>
                <a:lnTo>
                  <a:pt x="729" y="226"/>
                </a:lnTo>
                <a:lnTo>
                  <a:pt x="718" y="234"/>
                </a:lnTo>
                <a:lnTo>
                  <a:pt x="704" y="240"/>
                </a:lnTo>
                <a:lnTo>
                  <a:pt x="695" y="244"/>
                </a:lnTo>
                <a:lnTo>
                  <a:pt x="685" y="248"/>
                </a:lnTo>
                <a:lnTo>
                  <a:pt x="673" y="253"/>
                </a:lnTo>
                <a:lnTo>
                  <a:pt x="664" y="261"/>
                </a:lnTo>
                <a:lnTo>
                  <a:pt x="652" y="271"/>
                </a:lnTo>
                <a:lnTo>
                  <a:pt x="639" y="280"/>
                </a:lnTo>
                <a:lnTo>
                  <a:pt x="627" y="292"/>
                </a:lnTo>
                <a:lnTo>
                  <a:pt x="614" y="303"/>
                </a:lnTo>
                <a:lnTo>
                  <a:pt x="601" y="317"/>
                </a:lnTo>
                <a:lnTo>
                  <a:pt x="587" y="332"/>
                </a:lnTo>
                <a:lnTo>
                  <a:pt x="574" y="349"/>
                </a:lnTo>
                <a:lnTo>
                  <a:pt x="558" y="367"/>
                </a:lnTo>
                <a:lnTo>
                  <a:pt x="545" y="386"/>
                </a:lnTo>
                <a:lnTo>
                  <a:pt x="530" y="407"/>
                </a:lnTo>
                <a:lnTo>
                  <a:pt x="514" y="430"/>
                </a:lnTo>
                <a:lnTo>
                  <a:pt x="499" y="453"/>
                </a:lnTo>
                <a:lnTo>
                  <a:pt x="482" y="476"/>
                </a:lnTo>
                <a:lnTo>
                  <a:pt x="466" y="501"/>
                </a:lnTo>
                <a:lnTo>
                  <a:pt x="453" y="528"/>
                </a:lnTo>
                <a:lnTo>
                  <a:pt x="437" y="553"/>
                </a:lnTo>
                <a:lnTo>
                  <a:pt x="409" y="606"/>
                </a:lnTo>
                <a:lnTo>
                  <a:pt x="380" y="662"/>
                </a:lnTo>
                <a:lnTo>
                  <a:pt x="353" y="718"/>
                </a:lnTo>
                <a:lnTo>
                  <a:pt x="328" y="775"/>
                </a:lnTo>
                <a:lnTo>
                  <a:pt x="303" y="833"/>
                </a:lnTo>
                <a:lnTo>
                  <a:pt x="280" y="892"/>
                </a:lnTo>
                <a:lnTo>
                  <a:pt x="268" y="919"/>
                </a:lnTo>
                <a:lnTo>
                  <a:pt x="259" y="948"/>
                </a:lnTo>
                <a:lnTo>
                  <a:pt x="251" y="975"/>
                </a:lnTo>
                <a:lnTo>
                  <a:pt x="244" y="1000"/>
                </a:lnTo>
                <a:lnTo>
                  <a:pt x="236" y="1025"/>
                </a:lnTo>
                <a:lnTo>
                  <a:pt x="232" y="1050"/>
                </a:lnTo>
                <a:lnTo>
                  <a:pt x="226" y="1071"/>
                </a:lnTo>
                <a:lnTo>
                  <a:pt x="222" y="1094"/>
                </a:lnTo>
                <a:lnTo>
                  <a:pt x="219" y="1115"/>
                </a:lnTo>
                <a:lnTo>
                  <a:pt x="217" y="1134"/>
                </a:lnTo>
                <a:lnTo>
                  <a:pt x="217" y="1153"/>
                </a:lnTo>
                <a:lnTo>
                  <a:pt x="215" y="1171"/>
                </a:lnTo>
                <a:lnTo>
                  <a:pt x="215" y="1188"/>
                </a:lnTo>
                <a:lnTo>
                  <a:pt x="217" y="1203"/>
                </a:lnTo>
                <a:lnTo>
                  <a:pt x="217" y="1217"/>
                </a:lnTo>
                <a:lnTo>
                  <a:pt x="219" y="1232"/>
                </a:lnTo>
                <a:lnTo>
                  <a:pt x="222" y="1244"/>
                </a:lnTo>
                <a:lnTo>
                  <a:pt x="224" y="1257"/>
                </a:lnTo>
                <a:lnTo>
                  <a:pt x="228" y="1271"/>
                </a:lnTo>
                <a:lnTo>
                  <a:pt x="232" y="1284"/>
                </a:lnTo>
                <a:lnTo>
                  <a:pt x="238" y="1297"/>
                </a:lnTo>
                <a:lnTo>
                  <a:pt x="244" y="1309"/>
                </a:lnTo>
                <a:lnTo>
                  <a:pt x="249" y="1322"/>
                </a:lnTo>
                <a:lnTo>
                  <a:pt x="257" y="1334"/>
                </a:lnTo>
                <a:lnTo>
                  <a:pt x="265" y="1345"/>
                </a:lnTo>
                <a:lnTo>
                  <a:pt x="272" y="1357"/>
                </a:lnTo>
                <a:lnTo>
                  <a:pt x="282" y="1368"/>
                </a:lnTo>
                <a:lnTo>
                  <a:pt x="292" y="1378"/>
                </a:lnTo>
                <a:lnTo>
                  <a:pt x="303" y="1388"/>
                </a:lnTo>
                <a:lnTo>
                  <a:pt x="315" y="1397"/>
                </a:lnTo>
                <a:lnTo>
                  <a:pt x="326" y="1407"/>
                </a:lnTo>
                <a:lnTo>
                  <a:pt x="339" y="1416"/>
                </a:lnTo>
                <a:lnTo>
                  <a:pt x="355" y="1424"/>
                </a:lnTo>
                <a:lnTo>
                  <a:pt x="368" y="1432"/>
                </a:lnTo>
                <a:lnTo>
                  <a:pt x="384" y="1438"/>
                </a:lnTo>
                <a:lnTo>
                  <a:pt x="399" y="1445"/>
                </a:lnTo>
                <a:lnTo>
                  <a:pt x="416" y="1451"/>
                </a:lnTo>
                <a:lnTo>
                  <a:pt x="434" y="1457"/>
                </a:lnTo>
                <a:lnTo>
                  <a:pt x="451" y="1463"/>
                </a:lnTo>
                <a:lnTo>
                  <a:pt x="468" y="1466"/>
                </a:lnTo>
                <a:lnTo>
                  <a:pt x="487" y="1472"/>
                </a:lnTo>
                <a:lnTo>
                  <a:pt x="508" y="1476"/>
                </a:lnTo>
                <a:lnTo>
                  <a:pt x="530" y="1478"/>
                </a:lnTo>
                <a:lnTo>
                  <a:pt x="551" y="1482"/>
                </a:lnTo>
                <a:lnTo>
                  <a:pt x="572" y="1484"/>
                </a:lnTo>
                <a:lnTo>
                  <a:pt x="595" y="1486"/>
                </a:lnTo>
                <a:lnTo>
                  <a:pt x="620" y="1486"/>
                </a:lnTo>
                <a:lnTo>
                  <a:pt x="645" y="1487"/>
                </a:lnTo>
                <a:lnTo>
                  <a:pt x="668" y="1486"/>
                </a:lnTo>
                <a:lnTo>
                  <a:pt x="693" y="1486"/>
                </a:lnTo>
                <a:lnTo>
                  <a:pt x="716" y="1486"/>
                </a:lnTo>
                <a:lnTo>
                  <a:pt x="739" y="1484"/>
                </a:lnTo>
                <a:lnTo>
                  <a:pt x="762" y="1484"/>
                </a:lnTo>
                <a:lnTo>
                  <a:pt x="783" y="1482"/>
                </a:lnTo>
                <a:lnTo>
                  <a:pt x="806" y="1480"/>
                </a:lnTo>
                <a:lnTo>
                  <a:pt x="825" y="1478"/>
                </a:lnTo>
                <a:lnTo>
                  <a:pt x="846" y="1476"/>
                </a:lnTo>
                <a:lnTo>
                  <a:pt x="865" y="1474"/>
                </a:lnTo>
                <a:lnTo>
                  <a:pt x="885" y="1472"/>
                </a:lnTo>
                <a:lnTo>
                  <a:pt x="904" y="1468"/>
                </a:lnTo>
                <a:lnTo>
                  <a:pt x="921" y="1466"/>
                </a:lnTo>
                <a:lnTo>
                  <a:pt x="938" y="1464"/>
                </a:lnTo>
                <a:lnTo>
                  <a:pt x="956" y="1461"/>
                </a:lnTo>
                <a:lnTo>
                  <a:pt x="971" y="1459"/>
                </a:lnTo>
                <a:lnTo>
                  <a:pt x="1004" y="1453"/>
                </a:lnTo>
                <a:lnTo>
                  <a:pt x="1034" y="1445"/>
                </a:lnTo>
                <a:lnTo>
                  <a:pt x="1065" y="1436"/>
                </a:lnTo>
                <a:lnTo>
                  <a:pt x="1096" y="1426"/>
                </a:lnTo>
                <a:lnTo>
                  <a:pt x="1125" y="1415"/>
                </a:lnTo>
                <a:lnTo>
                  <a:pt x="1153" y="1403"/>
                </a:lnTo>
                <a:lnTo>
                  <a:pt x="1167" y="1395"/>
                </a:lnTo>
                <a:lnTo>
                  <a:pt x="1178" y="1388"/>
                </a:lnTo>
                <a:lnTo>
                  <a:pt x="1190" y="1380"/>
                </a:lnTo>
                <a:lnTo>
                  <a:pt x="1203" y="1372"/>
                </a:lnTo>
                <a:lnTo>
                  <a:pt x="1207" y="1370"/>
                </a:lnTo>
                <a:lnTo>
                  <a:pt x="1213" y="1367"/>
                </a:lnTo>
                <a:lnTo>
                  <a:pt x="1219" y="1363"/>
                </a:lnTo>
                <a:lnTo>
                  <a:pt x="1224" y="1359"/>
                </a:lnTo>
                <a:lnTo>
                  <a:pt x="1228" y="1353"/>
                </a:lnTo>
                <a:lnTo>
                  <a:pt x="1234" y="1347"/>
                </a:lnTo>
                <a:lnTo>
                  <a:pt x="1244" y="1336"/>
                </a:lnTo>
                <a:lnTo>
                  <a:pt x="1253" y="1322"/>
                </a:lnTo>
                <a:lnTo>
                  <a:pt x="1261" y="1305"/>
                </a:lnTo>
                <a:lnTo>
                  <a:pt x="1270" y="1288"/>
                </a:lnTo>
                <a:lnTo>
                  <a:pt x="1278" y="1269"/>
                </a:lnTo>
                <a:lnTo>
                  <a:pt x="1286" y="1248"/>
                </a:lnTo>
                <a:lnTo>
                  <a:pt x="1293" y="1225"/>
                </a:lnTo>
                <a:lnTo>
                  <a:pt x="1301" y="1200"/>
                </a:lnTo>
                <a:lnTo>
                  <a:pt x="1309" y="1173"/>
                </a:lnTo>
                <a:lnTo>
                  <a:pt x="1315" y="1144"/>
                </a:lnTo>
                <a:lnTo>
                  <a:pt x="1322" y="1113"/>
                </a:lnTo>
                <a:lnTo>
                  <a:pt x="1328" y="1081"/>
                </a:lnTo>
                <a:lnTo>
                  <a:pt x="1336" y="1048"/>
                </a:lnTo>
                <a:lnTo>
                  <a:pt x="1338" y="1031"/>
                </a:lnTo>
                <a:lnTo>
                  <a:pt x="1340" y="1013"/>
                </a:lnTo>
                <a:lnTo>
                  <a:pt x="1343" y="998"/>
                </a:lnTo>
                <a:lnTo>
                  <a:pt x="1345" y="983"/>
                </a:lnTo>
                <a:lnTo>
                  <a:pt x="1347" y="967"/>
                </a:lnTo>
                <a:lnTo>
                  <a:pt x="1349" y="952"/>
                </a:lnTo>
                <a:lnTo>
                  <a:pt x="1351" y="939"/>
                </a:lnTo>
                <a:lnTo>
                  <a:pt x="1353" y="925"/>
                </a:lnTo>
                <a:lnTo>
                  <a:pt x="1355" y="912"/>
                </a:lnTo>
                <a:lnTo>
                  <a:pt x="1359" y="900"/>
                </a:lnTo>
                <a:lnTo>
                  <a:pt x="1361" y="889"/>
                </a:lnTo>
                <a:lnTo>
                  <a:pt x="1363" y="877"/>
                </a:lnTo>
                <a:lnTo>
                  <a:pt x="1364" y="866"/>
                </a:lnTo>
                <a:lnTo>
                  <a:pt x="1366" y="854"/>
                </a:lnTo>
                <a:lnTo>
                  <a:pt x="1368" y="844"/>
                </a:lnTo>
                <a:lnTo>
                  <a:pt x="1370" y="835"/>
                </a:lnTo>
                <a:lnTo>
                  <a:pt x="1372" y="825"/>
                </a:lnTo>
                <a:lnTo>
                  <a:pt x="1374" y="818"/>
                </a:lnTo>
                <a:lnTo>
                  <a:pt x="1376" y="810"/>
                </a:lnTo>
                <a:lnTo>
                  <a:pt x="1378" y="802"/>
                </a:lnTo>
                <a:lnTo>
                  <a:pt x="1380" y="795"/>
                </a:lnTo>
                <a:lnTo>
                  <a:pt x="1382" y="789"/>
                </a:lnTo>
                <a:lnTo>
                  <a:pt x="1384" y="783"/>
                </a:lnTo>
                <a:lnTo>
                  <a:pt x="1386" y="777"/>
                </a:lnTo>
                <a:lnTo>
                  <a:pt x="1387" y="772"/>
                </a:lnTo>
                <a:lnTo>
                  <a:pt x="1387" y="768"/>
                </a:lnTo>
                <a:lnTo>
                  <a:pt x="1389" y="764"/>
                </a:lnTo>
                <a:lnTo>
                  <a:pt x="1391" y="760"/>
                </a:lnTo>
                <a:lnTo>
                  <a:pt x="1393" y="756"/>
                </a:lnTo>
                <a:lnTo>
                  <a:pt x="1393" y="754"/>
                </a:lnTo>
                <a:lnTo>
                  <a:pt x="1395" y="752"/>
                </a:lnTo>
                <a:lnTo>
                  <a:pt x="1397" y="750"/>
                </a:lnTo>
                <a:lnTo>
                  <a:pt x="1399" y="750"/>
                </a:lnTo>
                <a:lnTo>
                  <a:pt x="1401" y="752"/>
                </a:lnTo>
                <a:lnTo>
                  <a:pt x="1401" y="754"/>
                </a:lnTo>
                <a:lnTo>
                  <a:pt x="1403" y="756"/>
                </a:lnTo>
                <a:lnTo>
                  <a:pt x="1405" y="758"/>
                </a:lnTo>
                <a:lnTo>
                  <a:pt x="1407" y="762"/>
                </a:lnTo>
                <a:lnTo>
                  <a:pt x="1407" y="766"/>
                </a:lnTo>
                <a:lnTo>
                  <a:pt x="1409" y="770"/>
                </a:lnTo>
                <a:lnTo>
                  <a:pt x="1411" y="775"/>
                </a:lnTo>
                <a:lnTo>
                  <a:pt x="1412" y="779"/>
                </a:lnTo>
                <a:lnTo>
                  <a:pt x="1414" y="785"/>
                </a:lnTo>
                <a:lnTo>
                  <a:pt x="1416" y="793"/>
                </a:lnTo>
                <a:lnTo>
                  <a:pt x="1418" y="798"/>
                </a:lnTo>
                <a:lnTo>
                  <a:pt x="1420" y="806"/>
                </a:lnTo>
                <a:lnTo>
                  <a:pt x="1422" y="814"/>
                </a:lnTo>
                <a:lnTo>
                  <a:pt x="1424" y="821"/>
                </a:lnTo>
                <a:lnTo>
                  <a:pt x="1426" y="831"/>
                </a:lnTo>
                <a:lnTo>
                  <a:pt x="1428" y="841"/>
                </a:lnTo>
                <a:lnTo>
                  <a:pt x="1430" y="850"/>
                </a:lnTo>
                <a:lnTo>
                  <a:pt x="1434" y="860"/>
                </a:lnTo>
                <a:lnTo>
                  <a:pt x="1435" y="871"/>
                </a:lnTo>
                <a:lnTo>
                  <a:pt x="1437" y="881"/>
                </a:lnTo>
                <a:lnTo>
                  <a:pt x="1439" y="892"/>
                </a:lnTo>
                <a:lnTo>
                  <a:pt x="1441" y="906"/>
                </a:lnTo>
                <a:lnTo>
                  <a:pt x="1443" y="917"/>
                </a:lnTo>
                <a:lnTo>
                  <a:pt x="1445" y="931"/>
                </a:lnTo>
                <a:lnTo>
                  <a:pt x="1449" y="944"/>
                </a:lnTo>
                <a:lnTo>
                  <a:pt x="1451" y="960"/>
                </a:lnTo>
                <a:lnTo>
                  <a:pt x="1453" y="973"/>
                </a:lnTo>
                <a:lnTo>
                  <a:pt x="1455" y="988"/>
                </a:lnTo>
                <a:lnTo>
                  <a:pt x="1457" y="1006"/>
                </a:lnTo>
                <a:lnTo>
                  <a:pt x="1460" y="1036"/>
                </a:lnTo>
                <a:lnTo>
                  <a:pt x="1462" y="1065"/>
                </a:lnTo>
                <a:lnTo>
                  <a:pt x="1464" y="1094"/>
                </a:lnTo>
                <a:lnTo>
                  <a:pt x="1468" y="1121"/>
                </a:lnTo>
                <a:lnTo>
                  <a:pt x="1472" y="1148"/>
                </a:lnTo>
                <a:lnTo>
                  <a:pt x="1476" y="1173"/>
                </a:lnTo>
                <a:lnTo>
                  <a:pt x="1480" y="1196"/>
                </a:lnTo>
                <a:lnTo>
                  <a:pt x="1483" y="1217"/>
                </a:lnTo>
                <a:lnTo>
                  <a:pt x="1487" y="1238"/>
                </a:lnTo>
                <a:lnTo>
                  <a:pt x="1491" y="1257"/>
                </a:lnTo>
                <a:lnTo>
                  <a:pt x="1495" y="1274"/>
                </a:lnTo>
                <a:lnTo>
                  <a:pt x="1501" y="1292"/>
                </a:lnTo>
                <a:lnTo>
                  <a:pt x="1505" y="1307"/>
                </a:lnTo>
                <a:lnTo>
                  <a:pt x="1508" y="1320"/>
                </a:lnTo>
                <a:lnTo>
                  <a:pt x="1512" y="1334"/>
                </a:lnTo>
                <a:lnTo>
                  <a:pt x="1518" y="1345"/>
                </a:lnTo>
                <a:lnTo>
                  <a:pt x="1522" y="1355"/>
                </a:lnTo>
                <a:lnTo>
                  <a:pt x="1526" y="1365"/>
                </a:lnTo>
                <a:lnTo>
                  <a:pt x="1528" y="1374"/>
                </a:lnTo>
                <a:lnTo>
                  <a:pt x="1531" y="1384"/>
                </a:lnTo>
                <a:lnTo>
                  <a:pt x="1533" y="1393"/>
                </a:lnTo>
                <a:lnTo>
                  <a:pt x="1535" y="1403"/>
                </a:lnTo>
                <a:lnTo>
                  <a:pt x="1535" y="1411"/>
                </a:lnTo>
                <a:lnTo>
                  <a:pt x="1535" y="1418"/>
                </a:lnTo>
                <a:lnTo>
                  <a:pt x="1535" y="1426"/>
                </a:lnTo>
                <a:lnTo>
                  <a:pt x="1535" y="1434"/>
                </a:lnTo>
                <a:lnTo>
                  <a:pt x="1533" y="1441"/>
                </a:lnTo>
                <a:lnTo>
                  <a:pt x="1531" y="1447"/>
                </a:lnTo>
                <a:lnTo>
                  <a:pt x="1528" y="1455"/>
                </a:lnTo>
                <a:lnTo>
                  <a:pt x="1526" y="1461"/>
                </a:lnTo>
                <a:lnTo>
                  <a:pt x="1522" y="1466"/>
                </a:lnTo>
                <a:lnTo>
                  <a:pt x="1518" y="1472"/>
                </a:lnTo>
                <a:lnTo>
                  <a:pt x="1505" y="1484"/>
                </a:lnTo>
                <a:lnTo>
                  <a:pt x="1489" y="1493"/>
                </a:lnTo>
                <a:lnTo>
                  <a:pt x="1476" y="1505"/>
                </a:lnTo>
                <a:lnTo>
                  <a:pt x="1460" y="1518"/>
                </a:lnTo>
                <a:lnTo>
                  <a:pt x="1443" y="1532"/>
                </a:lnTo>
                <a:lnTo>
                  <a:pt x="1434" y="1539"/>
                </a:lnTo>
                <a:lnTo>
                  <a:pt x="1426" y="1547"/>
                </a:lnTo>
                <a:lnTo>
                  <a:pt x="1416" y="1557"/>
                </a:lnTo>
                <a:lnTo>
                  <a:pt x="1405" y="1566"/>
                </a:lnTo>
                <a:lnTo>
                  <a:pt x="1395" y="1576"/>
                </a:lnTo>
                <a:lnTo>
                  <a:pt x="1384" y="1585"/>
                </a:lnTo>
                <a:lnTo>
                  <a:pt x="1372" y="1593"/>
                </a:lnTo>
                <a:lnTo>
                  <a:pt x="1361" y="1601"/>
                </a:lnTo>
                <a:lnTo>
                  <a:pt x="1347" y="1608"/>
                </a:lnTo>
                <a:lnTo>
                  <a:pt x="1334" y="1614"/>
                </a:lnTo>
                <a:lnTo>
                  <a:pt x="1320" y="1622"/>
                </a:lnTo>
                <a:lnTo>
                  <a:pt x="1307" y="1628"/>
                </a:lnTo>
                <a:lnTo>
                  <a:pt x="1276" y="1641"/>
                </a:lnTo>
                <a:lnTo>
                  <a:pt x="1245" y="1653"/>
                </a:lnTo>
                <a:lnTo>
                  <a:pt x="1211" y="1664"/>
                </a:lnTo>
                <a:lnTo>
                  <a:pt x="1176" y="1674"/>
                </a:lnTo>
                <a:lnTo>
                  <a:pt x="1142" y="1685"/>
                </a:lnTo>
                <a:lnTo>
                  <a:pt x="1100" y="1691"/>
                </a:lnTo>
                <a:lnTo>
                  <a:pt x="1057" y="1695"/>
                </a:lnTo>
                <a:lnTo>
                  <a:pt x="1013" y="1701"/>
                </a:lnTo>
                <a:lnTo>
                  <a:pt x="969" y="1704"/>
                </a:lnTo>
                <a:lnTo>
                  <a:pt x="923" y="1708"/>
                </a:lnTo>
                <a:lnTo>
                  <a:pt x="875" y="1710"/>
                </a:lnTo>
                <a:lnTo>
                  <a:pt x="827" y="1712"/>
                </a:lnTo>
                <a:lnTo>
                  <a:pt x="777" y="1714"/>
                </a:lnTo>
                <a:lnTo>
                  <a:pt x="727" y="1712"/>
                </a:lnTo>
                <a:lnTo>
                  <a:pt x="679" y="1710"/>
                </a:lnTo>
                <a:lnTo>
                  <a:pt x="656" y="1708"/>
                </a:lnTo>
                <a:lnTo>
                  <a:pt x="633" y="1706"/>
                </a:lnTo>
                <a:lnTo>
                  <a:pt x="610" y="1704"/>
                </a:lnTo>
                <a:lnTo>
                  <a:pt x="589" y="1702"/>
                </a:lnTo>
                <a:lnTo>
                  <a:pt x="568" y="1701"/>
                </a:lnTo>
                <a:lnTo>
                  <a:pt x="547" y="1697"/>
                </a:lnTo>
                <a:lnTo>
                  <a:pt x="528" y="1693"/>
                </a:lnTo>
                <a:lnTo>
                  <a:pt x="508" y="1689"/>
                </a:lnTo>
                <a:lnTo>
                  <a:pt x="489" y="1685"/>
                </a:lnTo>
                <a:lnTo>
                  <a:pt x="470" y="1681"/>
                </a:lnTo>
                <a:lnTo>
                  <a:pt x="455" y="1676"/>
                </a:lnTo>
                <a:lnTo>
                  <a:pt x="437" y="1670"/>
                </a:lnTo>
                <a:lnTo>
                  <a:pt x="420" y="1664"/>
                </a:lnTo>
                <a:lnTo>
                  <a:pt x="403" y="1658"/>
                </a:lnTo>
                <a:lnTo>
                  <a:pt x="386" y="1653"/>
                </a:lnTo>
                <a:lnTo>
                  <a:pt x="368" y="1647"/>
                </a:lnTo>
                <a:lnTo>
                  <a:pt x="353" y="1639"/>
                </a:lnTo>
                <a:lnTo>
                  <a:pt x="338" y="1631"/>
                </a:lnTo>
                <a:lnTo>
                  <a:pt x="322" y="1624"/>
                </a:lnTo>
                <a:lnTo>
                  <a:pt x="309" y="1616"/>
                </a:lnTo>
                <a:lnTo>
                  <a:pt x="293" y="1606"/>
                </a:lnTo>
                <a:lnTo>
                  <a:pt x="280" y="1597"/>
                </a:lnTo>
                <a:lnTo>
                  <a:pt x="267" y="1587"/>
                </a:lnTo>
                <a:lnTo>
                  <a:pt x="255" y="1578"/>
                </a:lnTo>
                <a:lnTo>
                  <a:pt x="242" y="1566"/>
                </a:lnTo>
                <a:lnTo>
                  <a:pt x="230" y="1555"/>
                </a:lnTo>
                <a:lnTo>
                  <a:pt x="219" y="1541"/>
                </a:lnTo>
                <a:lnTo>
                  <a:pt x="207" y="1530"/>
                </a:lnTo>
                <a:lnTo>
                  <a:pt x="184" y="1507"/>
                </a:lnTo>
                <a:lnTo>
                  <a:pt x="165" y="1484"/>
                </a:lnTo>
                <a:lnTo>
                  <a:pt x="155" y="1472"/>
                </a:lnTo>
                <a:lnTo>
                  <a:pt x="146" y="1459"/>
                </a:lnTo>
                <a:lnTo>
                  <a:pt x="136" y="1445"/>
                </a:lnTo>
                <a:lnTo>
                  <a:pt x="128" y="1434"/>
                </a:lnTo>
                <a:lnTo>
                  <a:pt x="121" y="1420"/>
                </a:lnTo>
                <a:lnTo>
                  <a:pt x="113" y="1405"/>
                </a:lnTo>
                <a:lnTo>
                  <a:pt x="107" y="1392"/>
                </a:lnTo>
                <a:lnTo>
                  <a:pt x="101" y="1378"/>
                </a:lnTo>
                <a:lnTo>
                  <a:pt x="96" y="1363"/>
                </a:lnTo>
                <a:lnTo>
                  <a:pt x="92" y="1347"/>
                </a:lnTo>
                <a:lnTo>
                  <a:pt x="88" y="1332"/>
                </a:lnTo>
                <a:lnTo>
                  <a:pt x="86" y="1317"/>
                </a:lnTo>
                <a:lnTo>
                  <a:pt x="80" y="1284"/>
                </a:lnTo>
                <a:lnTo>
                  <a:pt x="78" y="1249"/>
                </a:lnTo>
                <a:lnTo>
                  <a:pt x="77" y="1215"/>
                </a:lnTo>
                <a:lnTo>
                  <a:pt x="77" y="1180"/>
                </a:lnTo>
                <a:lnTo>
                  <a:pt x="77" y="1144"/>
                </a:lnTo>
                <a:lnTo>
                  <a:pt x="78" y="1107"/>
                </a:lnTo>
                <a:lnTo>
                  <a:pt x="80" y="1071"/>
                </a:lnTo>
                <a:lnTo>
                  <a:pt x="86" y="1033"/>
                </a:lnTo>
                <a:lnTo>
                  <a:pt x="88" y="1013"/>
                </a:lnTo>
                <a:lnTo>
                  <a:pt x="92" y="994"/>
                </a:lnTo>
                <a:lnTo>
                  <a:pt x="98" y="973"/>
                </a:lnTo>
                <a:lnTo>
                  <a:pt x="103" y="950"/>
                </a:lnTo>
                <a:lnTo>
                  <a:pt x="111" y="927"/>
                </a:lnTo>
                <a:lnTo>
                  <a:pt x="121" y="904"/>
                </a:lnTo>
                <a:lnTo>
                  <a:pt x="130" y="877"/>
                </a:lnTo>
                <a:lnTo>
                  <a:pt x="140" y="850"/>
                </a:lnTo>
                <a:lnTo>
                  <a:pt x="153" y="823"/>
                </a:lnTo>
                <a:lnTo>
                  <a:pt x="167" y="795"/>
                </a:lnTo>
                <a:lnTo>
                  <a:pt x="180" y="764"/>
                </a:lnTo>
                <a:lnTo>
                  <a:pt x="196" y="733"/>
                </a:lnTo>
                <a:lnTo>
                  <a:pt x="211" y="701"/>
                </a:lnTo>
                <a:lnTo>
                  <a:pt x="230" y="666"/>
                </a:lnTo>
                <a:lnTo>
                  <a:pt x="247" y="631"/>
                </a:lnTo>
                <a:lnTo>
                  <a:pt x="268" y="595"/>
                </a:lnTo>
                <a:lnTo>
                  <a:pt x="286" y="560"/>
                </a:lnTo>
                <a:lnTo>
                  <a:pt x="301" y="528"/>
                </a:lnTo>
                <a:lnTo>
                  <a:pt x="316" y="497"/>
                </a:lnTo>
                <a:lnTo>
                  <a:pt x="330" y="468"/>
                </a:lnTo>
                <a:lnTo>
                  <a:pt x="343" y="441"/>
                </a:lnTo>
                <a:lnTo>
                  <a:pt x="355" y="416"/>
                </a:lnTo>
                <a:lnTo>
                  <a:pt x="366" y="393"/>
                </a:lnTo>
                <a:lnTo>
                  <a:pt x="376" y="372"/>
                </a:lnTo>
                <a:lnTo>
                  <a:pt x="386" y="353"/>
                </a:lnTo>
                <a:lnTo>
                  <a:pt x="391" y="336"/>
                </a:lnTo>
                <a:lnTo>
                  <a:pt x="399" y="319"/>
                </a:lnTo>
                <a:lnTo>
                  <a:pt x="403" y="305"/>
                </a:lnTo>
                <a:lnTo>
                  <a:pt x="407" y="299"/>
                </a:lnTo>
                <a:lnTo>
                  <a:pt x="409" y="294"/>
                </a:lnTo>
                <a:lnTo>
                  <a:pt x="409" y="288"/>
                </a:lnTo>
                <a:lnTo>
                  <a:pt x="411" y="282"/>
                </a:lnTo>
                <a:lnTo>
                  <a:pt x="412" y="278"/>
                </a:lnTo>
                <a:lnTo>
                  <a:pt x="412" y="274"/>
                </a:lnTo>
                <a:lnTo>
                  <a:pt x="412" y="271"/>
                </a:lnTo>
                <a:lnTo>
                  <a:pt x="412" y="269"/>
                </a:lnTo>
                <a:lnTo>
                  <a:pt x="412" y="265"/>
                </a:lnTo>
                <a:lnTo>
                  <a:pt x="411" y="263"/>
                </a:lnTo>
                <a:lnTo>
                  <a:pt x="409" y="261"/>
                </a:lnTo>
                <a:lnTo>
                  <a:pt x="407" y="261"/>
                </a:lnTo>
                <a:lnTo>
                  <a:pt x="403" y="259"/>
                </a:lnTo>
                <a:lnTo>
                  <a:pt x="397" y="259"/>
                </a:lnTo>
                <a:lnTo>
                  <a:pt x="391" y="259"/>
                </a:lnTo>
                <a:lnTo>
                  <a:pt x="384" y="259"/>
                </a:lnTo>
                <a:lnTo>
                  <a:pt x="376" y="261"/>
                </a:lnTo>
                <a:lnTo>
                  <a:pt x="366" y="261"/>
                </a:lnTo>
                <a:lnTo>
                  <a:pt x="357" y="263"/>
                </a:lnTo>
                <a:lnTo>
                  <a:pt x="347" y="267"/>
                </a:lnTo>
                <a:lnTo>
                  <a:pt x="334" y="269"/>
                </a:lnTo>
                <a:lnTo>
                  <a:pt x="320" y="272"/>
                </a:lnTo>
                <a:lnTo>
                  <a:pt x="307" y="278"/>
                </a:lnTo>
                <a:lnTo>
                  <a:pt x="292" y="282"/>
                </a:lnTo>
                <a:lnTo>
                  <a:pt x="276" y="290"/>
                </a:lnTo>
                <a:lnTo>
                  <a:pt x="261" y="297"/>
                </a:lnTo>
                <a:lnTo>
                  <a:pt x="247" y="303"/>
                </a:lnTo>
                <a:lnTo>
                  <a:pt x="236" y="309"/>
                </a:lnTo>
                <a:lnTo>
                  <a:pt x="222" y="315"/>
                </a:lnTo>
                <a:lnTo>
                  <a:pt x="211" y="319"/>
                </a:lnTo>
                <a:lnTo>
                  <a:pt x="201" y="324"/>
                </a:lnTo>
                <a:lnTo>
                  <a:pt x="192" y="326"/>
                </a:lnTo>
                <a:lnTo>
                  <a:pt x="182" y="330"/>
                </a:lnTo>
                <a:lnTo>
                  <a:pt x="174" y="332"/>
                </a:lnTo>
                <a:lnTo>
                  <a:pt x="169" y="334"/>
                </a:lnTo>
                <a:lnTo>
                  <a:pt x="163" y="336"/>
                </a:lnTo>
                <a:lnTo>
                  <a:pt x="157" y="338"/>
                </a:lnTo>
                <a:lnTo>
                  <a:pt x="153" y="338"/>
                </a:lnTo>
                <a:lnTo>
                  <a:pt x="149" y="340"/>
                </a:lnTo>
                <a:lnTo>
                  <a:pt x="146" y="340"/>
                </a:lnTo>
                <a:lnTo>
                  <a:pt x="144" y="340"/>
                </a:lnTo>
                <a:lnTo>
                  <a:pt x="140" y="338"/>
                </a:lnTo>
                <a:lnTo>
                  <a:pt x="136" y="338"/>
                </a:lnTo>
                <a:lnTo>
                  <a:pt x="132" y="336"/>
                </a:lnTo>
                <a:lnTo>
                  <a:pt x="123" y="334"/>
                </a:lnTo>
                <a:lnTo>
                  <a:pt x="113" y="328"/>
                </a:lnTo>
                <a:lnTo>
                  <a:pt x="101" y="322"/>
                </a:lnTo>
                <a:lnTo>
                  <a:pt x="88" y="315"/>
                </a:lnTo>
                <a:lnTo>
                  <a:pt x="75" y="307"/>
                </a:lnTo>
                <a:lnTo>
                  <a:pt x="61" y="297"/>
                </a:lnTo>
                <a:lnTo>
                  <a:pt x="48" y="286"/>
                </a:lnTo>
                <a:lnTo>
                  <a:pt x="36" y="276"/>
                </a:lnTo>
                <a:lnTo>
                  <a:pt x="27" y="265"/>
                </a:lnTo>
                <a:lnTo>
                  <a:pt x="17" y="255"/>
                </a:lnTo>
                <a:lnTo>
                  <a:pt x="9" y="248"/>
                </a:lnTo>
                <a:lnTo>
                  <a:pt x="7" y="244"/>
                </a:lnTo>
                <a:lnTo>
                  <a:pt x="6" y="238"/>
                </a:lnTo>
                <a:lnTo>
                  <a:pt x="4" y="236"/>
                </a:lnTo>
                <a:lnTo>
                  <a:pt x="2" y="232"/>
                </a:lnTo>
                <a:lnTo>
                  <a:pt x="0" y="228"/>
                </a:lnTo>
                <a:lnTo>
                  <a:pt x="0" y="226"/>
                </a:lnTo>
                <a:lnTo>
                  <a:pt x="0" y="223"/>
                </a:lnTo>
                <a:lnTo>
                  <a:pt x="2" y="221"/>
                </a:lnTo>
                <a:lnTo>
                  <a:pt x="4" y="219"/>
                </a:lnTo>
                <a:lnTo>
                  <a:pt x="6" y="215"/>
                </a:lnTo>
                <a:lnTo>
                  <a:pt x="7" y="213"/>
                </a:lnTo>
                <a:lnTo>
                  <a:pt x="11" y="211"/>
                </a:lnTo>
                <a:lnTo>
                  <a:pt x="15" y="209"/>
                </a:lnTo>
                <a:lnTo>
                  <a:pt x="21" y="207"/>
                </a:lnTo>
                <a:lnTo>
                  <a:pt x="25" y="205"/>
                </a:lnTo>
                <a:lnTo>
                  <a:pt x="32" y="203"/>
                </a:lnTo>
                <a:lnTo>
                  <a:pt x="38" y="201"/>
                </a:lnTo>
                <a:lnTo>
                  <a:pt x="46" y="200"/>
                </a:lnTo>
                <a:lnTo>
                  <a:pt x="55" y="200"/>
                </a:lnTo>
                <a:lnTo>
                  <a:pt x="65" y="198"/>
                </a:lnTo>
                <a:lnTo>
                  <a:pt x="75" y="198"/>
                </a:lnTo>
                <a:lnTo>
                  <a:pt x="86" y="198"/>
                </a:lnTo>
                <a:lnTo>
                  <a:pt x="109" y="198"/>
                </a:lnTo>
                <a:lnTo>
                  <a:pt x="134" y="196"/>
                </a:lnTo>
                <a:lnTo>
                  <a:pt x="159" y="192"/>
                </a:lnTo>
                <a:lnTo>
                  <a:pt x="173" y="188"/>
                </a:lnTo>
                <a:lnTo>
                  <a:pt x="188" y="186"/>
                </a:lnTo>
                <a:lnTo>
                  <a:pt x="201" y="182"/>
                </a:lnTo>
                <a:lnTo>
                  <a:pt x="217" y="178"/>
                </a:lnTo>
                <a:lnTo>
                  <a:pt x="232" y="173"/>
                </a:lnTo>
                <a:lnTo>
                  <a:pt x="247" y="169"/>
                </a:lnTo>
                <a:lnTo>
                  <a:pt x="265" y="163"/>
                </a:lnTo>
                <a:lnTo>
                  <a:pt x="280" y="155"/>
                </a:lnTo>
                <a:lnTo>
                  <a:pt x="297" y="150"/>
                </a:lnTo>
                <a:lnTo>
                  <a:pt x="316" y="142"/>
                </a:lnTo>
                <a:lnTo>
                  <a:pt x="334" y="136"/>
                </a:lnTo>
                <a:lnTo>
                  <a:pt x="351" y="130"/>
                </a:lnTo>
                <a:lnTo>
                  <a:pt x="366" y="125"/>
                </a:lnTo>
                <a:lnTo>
                  <a:pt x="382" y="119"/>
                </a:lnTo>
                <a:lnTo>
                  <a:pt x="397" y="115"/>
                </a:lnTo>
                <a:lnTo>
                  <a:pt x="411" y="109"/>
                </a:lnTo>
                <a:lnTo>
                  <a:pt x="422" y="104"/>
                </a:lnTo>
                <a:lnTo>
                  <a:pt x="434" y="98"/>
                </a:lnTo>
                <a:lnTo>
                  <a:pt x="445" y="94"/>
                </a:lnTo>
                <a:lnTo>
                  <a:pt x="455" y="88"/>
                </a:lnTo>
                <a:lnTo>
                  <a:pt x="464" y="82"/>
                </a:lnTo>
                <a:lnTo>
                  <a:pt x="474" y="77"/>
                </a:lnTo>
                <a:lnTo>
                  <a:pt x="480" y="73"/>
                </a:lnTo>
                <a:lnTo>
                  <a:pt x="487" y="67"/>
                </a:lnTo>
                <a:lnTo>
                  <a:pt x="493" y="61"/>
                </a:lnTo>
                <a:lnTo>
                  <a:pt x="499" y="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58"/>
          <p:cNvSpPr/>
          <p:nvPr/>
        </p:nvSpPr>
        <p:spPr>
          <a:xfrm>
            <a:off x="6778800" y="3073320"/>
            <a:ext cx="742680" cy="270000"/>
          </a:xfrm>
          <a:custGeom>
            <a:avLst/>
            <a:gdLst/>
            <a:ahLst/>
            <a:rect l="l" t="t" r="r" b="b"/>
            <a:pathLst>
              <a:path w="934" h="340">
                <a:moveTo>
                  <a:pt x="449" y="114"/>
                </a:moveTo>
                <a:lnTo>
                  <a:pt x="468" y="106"/>
                </a:lnTo>
                <a:lnTo>
                  <a:pt x="485" y="100"/>
                </a:lnTo>
                <a:lnTo>
                  <a:pt x="501" y="93"/>
                </a:lnTo>
                <a:lnTo>
                  <a:pt x="518" y="87"/>
                </a:lnTo>
                <a:lnTo>
                  <a:pt x="533" y="81"/>
                </a:lnTo>
                <a:lnTo>
                  <a:pt x="549" y="75"/>
                </a:lnTo>
                <a:lnTo>
                  <a:pt x="564" y="70"/>
                </a:lnTo>
                <a:lnTo>
                  <a:pt x="579" y="64"/>
                </a:lnTo>
                <a:lnTo>
                  <a:pt x="593" y="60"/>
                </a:lnTo>
                <a:lnTo>
                  <a:pt x="606" y="54"/>
                </a:lnTo>
                <a:lnTo>
                  <a:pt x="620" y="50"/>
                </a:lnTo>
                <a:lnTo>
                  <a:pt x="631" y="45"/>
                </a:lnTo>
                <a:lnTo>
                  <a:pt x="643" y="41"/>
                </a:lnTo>
                <a:lnTo>
                  <a:pt x="654" y="37"/>
                </a:lnTo>
                <a:lnTo>
                  <a:pt x="666" y="33"/>
                </a:lnTo>
                <a:lnTo>
                  <a:pt x="677" y="29"/>
                </a:lnTo>
                <a:lnTo>
                  <a:pt x="687" y="25"/>
                </a:lnTo>
                <a:lnTo>
                  <a:pt x="696" y="22"/>
                </a:lnTo>
                <a:lnTo>
                  <a:pt x="706" y="20"/>
                </a:lnTo>
                <a:lnTo>
                  <a:pt x="714" y="16"/>
                </a:lnTo>
                <a:lnTo>
                  <a:pt x="721" y="14"/>
                </a:lnTo>
                <a:lnTo>
                  <a:pt x="729" y="12"/>
                </a:lnTo>
                <a:lnTo>
                  <a:pt x="737" y="10"/>
                </a:lnTo>
                <a:lnTo>
                  <a:pt x="742" y="6"/>
                </a:lnTo>
                <a:lnTo>
                  <a:pt x="748" y="6"/>
                </a:lnTo>
                <a:lnTo>
                  <a:pt x="754" y="4"/>
                </a:lnTo>
                <a:lnTo>
                  <a:pt x="760" y="2"/>
                </a:lnTo>
                <a:lnTo>
                  <a:pt x="763" y="2"/>
                </a:lnTo>
                <a:lnTo>
                  <a:pt x="767" y="0"/>
                </a:lnTo>
                <a:lnTo>
                  <a:pt x="771" y="0"/>
                </a:lnTo>
                <a:lnTo>
                  <a:pt x="775" y="0"/>
                </a:lnTo>
                <a:lnTo>
                  <a:pt x="777" y="0"/>
                </a:lnTo>
                <a:lnTo>
                  <a:pt x="787" y="0"/>
                </a:lnTo>
                <a:lnTo>
                  <a:pt x="798" y="2"/>
                </a:lnTo>
                <a:lnTo>
                  <a:pt x="808" y="4"/>
                </a:lnTo>
                <a:lnTo>
                  <a:pt x="821" y="8"/>
                </a:lnTo>
                <a:lnTo>
                  <a:pt x="833" y="12"/>
                </a:lnTo>
                <a:lnTo>
                  <a:pt x="846" y="18"/>
                </a:lnTo>
                <a:lnTo>
                  <a:pt x="875" y="27"/>
                </a:lnTo>
                <a:lnTo>
                  <a:pt x="886" y="39"/>
                </a:lnTo>
                <a:lnTo>
                  <a:pt x="898" y="48"/>
                </a:lnTo>
                <a:lnTo>
                  <a:pt x="909" y="60"/>
                </a:lnTo>
                <a:lnTo>
                  <a:pt x="917" y="70"/>
                </a:lnTo>
                <a:lnTo>
                  <a:pt x="925" y="81"/>
                </a:lnTo>
                <a:lnTo>
                  <a:pt x="927" y="87"/>
                </a:lnTo>
                <a:lnTo>
                  <a:pt x="930" y="91"/>
                </a:lnTo>
                <a:lnTo>
                  <a:pt x="932" y="96"/>
                </a:lnTo>
                <a:lnTo>
                  <a:pt x="932" y="102"/>
                </a:lnTo>
                <a:lnTo>
                  <a:pt x="934" y="108"/>
                </a:lnTo>
                <a:lnTo>
                  <a:pt x="934" y="114"/>
                </a:lnTo>
                <a:lnTo>
                  <a:pt x="934" y="116"/>
                </a:lnTo>
                <a:lnTo>
                  <a:pt x="932" y="118"/>
                </a:lnTo>
                <a:lnTo>
                  <a:pt x="932" y="121"/>
                </a:lnTo>
                <a:lnTo>
                  <a:pt x="930" y="123"/>
                </a:lnTo>
                <a:lnTo>
                  <a:pt x="927" y="127"/>
                </a:lnTo>
                <a:lnTo>
                  <a:pt x="925" y="131"/>
                </a:lnTo>
                <a:lnTo>
                  <a:pt x="921" y="133"/>
                </a:lnTo>
                <a:lnTo>
                  <a:pt x="915" y="137"/>
                </a:lnTo>
                <a:lnTo>
                  <a:pt x="911" y="141"/>
                </a:lnTo>
                <a:lnTo>
                  <a:pt x="906" y="142"/>
                </a:lnTo>
                <a:lnTo>
                  <a:pt x="900" y="146"/>
                </a:lnTo>
                <a:lnTo>
                  <a:pt x="892" y="150"/>
                </a:lnTo>
                <a:lnTo>
                  <a:pt x="886" y="154"/>
                </a:lnTo>
                <a:lnTo>
                  <a:pt x="877" y="158"/>
                </a:lnTo>
                <a:lnTo>
                  <a:pt x="869" y="162"/>
                </a:lnTo>
                <a:lnTo>
                  <a:pt x="859" y="166"/>
                </a:lnTo>
                <a:lnTo>
                  <a:pt x="850" y="169"/>
                </a:lnTo>
                <a:lnTo>
                  <a:pt x="840" y="173"/>
                </a:lnTo>
                <a:lnTo>
                  <a:pt x="829" y="177"/>
                </a:lnTo>
                <a:lnTo>
                  <a:pt x="817" y="183"/>
                </a:lnTo>
                <a:lnTo>
                  <a:pt x="806" y="187"/>
                </a:lnTo>
                <a:lnTo>
                  <a:pt x="792" y="190"/>
                </a:lnTo>
                <a:lnTo>
                  <a:pt x="779" y="196"/>
                </a:lnTo>
                <a:lnTo>
                  <a:pt x="765" y="200"/>
                </a:lnTo>
                <a:lnTo>
                  <a:pt x="750" y="206"/>
                </a:lnTo>
                <a:lnTo>
                  <a:pt x="735" y="210"/>
                </a:lnTo>
                <a:lnTo>
                  <a:pt x="719" y="215"/>
                </a:lnTo>
                <a:lnTo>
                  <a:pt x="704" y="219"/>
                </a:lnTo>
                <a:lnTo>
                  <a:pt x="687" y="225"/>
                </a:lnTo>
                <a:lnTo>
                  <a:pt x="668" y="229"/>
                </a:lnTo>
                <a:lnTo>
                  <a:pt x="650" y="235"/>
                </a:lnTo>
                <a:lnTo>
                  <a:pt x="631" y="240"/>
                </a:lnTo>
                <a:lnTo>
                  <a:pt x="612" y="246"/>
                </a:lnTo>
                <a:lnTo>
                  <a:pt x="593" y="254"/>
                </a:lnTo>
                <a:lnTo>
                  <a:pt x="575" y="260"/>
                </a:lnTo>
                <a:lnTo>
                  <a:pt x="558" y="265"/>
                </a:lnTo>
                <a:lnTo>
                  <a:pt x="541" y="271"/>
                </a:lnTo>
                <a:lnTo>
                  <a:pt x="524" y="277"/>
                </a:lnTo>
                <a:lnTo>
                  <a:pt x="508" y="281"/>
                </a:lnTo>
                <a:lnTo>
                  <a:pt x="493" y="286"/>
                </a:lnTo>
                <a:lnTo>
                  <a:pt x="478" y="290"/>
                </a:lnTo>
                <a:lnTo>
                  <a:pt x="462" y="296"/>
                </a:lnTo>
                <a:lnTo>
                  <a:pt x="449" y="300"/>
                </a:lnTo>
                <a:lnTo>
                  <a:pt x="435" y="304"/>
                </a:lnTo>
                <a:lnTo>
                  <a:pt x="422" y="308"/>
                </a:lnTo>
                <a:lnTo>
                  <a:pt x="408" y="311"/>
                </a:lnTo>
                <a:lnTo>
                  <a:pt x="397" y="313"/>
                </a:lnTo>
                <a:lnTo>
                  <a:pt x="385" y="317"/>
                </a:lnTo>
                <a:lnTo>
                  <a:pt x="374" y="319"/>
                </a:lnTo>
                <a:lnTo>
                  <a:pt x="364" y="323"/>
                </a:lnTo>
                <a:lnTo>
                  <a:pt x="353" y="325"/>
                </a:lnTo>
                <a:lnTo>
                  <a:pt x="343" y="327"/>
                </a:lnTo>
                <a:lnTo>
                  <a:pt x="335" y="329"/>
                </a:lnTo>
                <a:lnTo>
                  <a:pt x="326" y="331"/>
                </a:lnTo>
                <a:lnTo>
                  <a:pt x="318" y="332"/>
                </a:lnTo>
                <a:lnTo>
                  <a:pt x="311" y="334"/>
                </a:lnTo>
                <a:lnTo>
                  <a:pt x="303" y="336"/>
                </a:lnTo>
                <a:lnTo>
                  <a:pt x="297" y="336"/>
                </a:lnTo>
                <a:lnTo>
                  <a:pt x="289" y="338"/>
                </a:lnTo>
                <a:lnTo>
                  <a:pt x="284" y="338"/>
                </a:lnTo>
                <a:lnTo>
                  <a:pt x="280" y="338"/>
                </a:lnTo>
                <a:lnTo>
                  <a:pt x="274" y="340"/>
                </a:lnTo>
                <a:lnTo>
                  <a:pt x="270" y="340"/>
                </a:lnTo>
                <a:lnTo>
                  <a:pt x="266" y="340"/>
                </a:lnTo>
                <a:lnTo>
                  <a:pt x="249" y="338"/>
                </a:lnTo>
                <a:lnTo>
                  <a:pt x="230" y="338"/>
                </a:lnTo>
                <a:lnTo>
                  <a:pt x="213" y="334"/>
                </a:lnTo>
                <a:lnTo>
                  <a:pt x="193" y="331"/>
                </a:lnTo>
                <a:lnTo>
                  <a:pt x="176" y="327"/>
                </a:lnTo>
                <a:lnTo>
                  <a:pt x="157" y="321"/>
                </a:lnTo>
                <a:lnTo>
                  <a:pt x="120" y="311"/>
                </a:lnTo>
                <a:lnTo>
                  <a:pt x="111" y="309"/>
                </a:lnTo>
                <a:lnTo>
                  <a:pt x="99" y="306"/>
                </a:lnTo>
                <a:lnTo>
                  <a:pt x="90" y="302"/>
                </a:lnTo>
                <a:lnTo>
                  <a:pt x="80" y="298"/>
                </a:lnTo>
                <a:lnTo>
                  <a:pt x="71" y="294"/>
                </a:lnTo>
                <a:lnTo>
                  <a:pt x="63" y="290"/>
                </a:lnTo>
                <a:lnTo>
                  <a:pt x="48" y="279"/>
                </a:lnTo>
                <a:lnTo>
                  <a:pt x="32" y="267"/>
                </a:lnTo>
                <a:lnTo>
                  <a:pt x="21" y="256"/>
                </a:lnTo>
                <a:lnTo>
                  <a:pt x="9" y="242"/>
                </a:lnTo>
                <a:lnTo>
                  <a:pt x="0" y="227"/>
                </a:lnTo>
                <a:lnTo>
                  <a:pt x="21" y="223"/>
                </a:lnTo>
                <a:lnTo>
                  <a:pt x="44" y="221"/>
                </a:lnTo>
                <a:lnTo>
                  <a:pt x="67" y="217"/>
                </a:lnTo>
                <a:lnTo>
                  <a:pt x="90" y="213"/>
                </a:lnTo>
                <a:lnTo>
                  <a:pt x="117" y="208"/>
                </a:lnTo>
                <a:lnTo>
                  <a:pt x="142" y="204"/>
                </a:lnTo>
                <a:lnTo>
                  <a:pt x="168" y="198"/>
                </a:lnTo>
                <a:lnTo>
                  <a:pt x="197" y="190"/>
                </a:lnTo>
                <a:lnTo>
                  <a:pt x="226" y="185"/>
                </a:lnTo>
                <a:lnTo>
                  <a:pt x="257" y="177"/>
                </a:lnTo>
                <a:lnTo>
                  <a:pt x="286" y="167"/>
                </a:lnTo>
                <a:lnTo>
                  <a:pt x="318" y="160"/>
                </a:lnTo>
                <a:lnTo>
                  <a:pt x="349" y="148"/>
                </a:lnTo>
                <a:lnTo>
                  <a:pt x="382" y="139"/>
                </a:lnTo>
                <a:lnTo>
                  <a:pt x="416" y="125"/>
                </a:lnTo>
                <a:lnTo>
                  <a:pt x="449" y="1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59"/>
          <p:cNvSpPr/>
          <p:nvPr/>
        </p:nvSpPr>
        <p:spPr>
          <a:xfrm>
            <a:off x="6539040" y="2754360"/>
            <a:ext cx="509400" cy="838080"/>
          </a:xfrm>
          <a:custGeom>
            <a:avLst/>
            <a:gdLst/>
            <a:ahLst/>
            <a:rect l="l" t="t" r="r" b="b"/>
            <a:pathLst>
              <a:path w="643" h="1056">
                <a:moveTo>
                  <a:pt x="401" y="77"/>
                </a:moveTo>
                <a:lnTo>
                  <a:pt x="398" y="71"/>
                </a:lnTo>
                <a:lnTo>
                  <a:pt x="394" y="66"/>
                </a:lnTo>
                <a:lnTo>
                  <a:pt x="390" y="62"/>
                </a:lnTo>
                <a:lnTo>
                  <a:pt x="388" y="56"/>
                </a:lnTo>
                <a:lnTo>
                  <a:pt x="386" y="50"/>
                </a:lnTo>
                <a:lnTo>
                  <a:pt x="384" y="46"/>
                </a:lnTo>
                <a:lnTo>
                  <a:pt x="384" y="41"/>
                </a:lnTo>
                <a:lnTo>
                  <a:pt x="382" y="37"/>
                </a:lnTo>
                <a:lnTo>
                  <a:pt x="384" y="31"/>
                </a:lnTo>
                <a:lnTo>
                  <a:pt x="384" y="27"/>
                </a:lnTo>
                <a:lnTo>
                  <a:pt x="386" y="23"/>
                </a:lnTo>
                <a:lnTo>
                  <a:pt x="388" y="20"/>
                </a:lnTo>
                <a:lnTo>
                  <a:pt x="390" y="16"/>
                </a:lnTo>
                <a:lnTo>
                  <a:pt x="394" y="12"/>
                </a:lnTo>
                <a:lnTo>
                  <a:pt x="398" y="10"/>
                </a:lnTo>
                <a:lnTo>
                  <a:pt x="401" y="6"/>
                </a:lnTo>
                <a:lnTo>
                  <a:pt x="403" y="4"/>
                </a:lnTo>
                <a:lnTo>
                  <a:pt x="407" y="2"/>
                </a:lnTo>
                <a:lnTo>
                  <a:pt x="411" y="0"/>
                </a:lnTo>
                <a:lnTo>
                  <a:pt x="417" y="0"/>
                </a:lnTo>
                <a:lnTo>
                  <a:pt x="423" y="0"/>
                </a:lnTo>
                <a:lnTo>
                  <a:pt x="430" y="2"/>
                </a:lnTo>
                <a:lnTo>
                  <a:pt x="436" y="4"/>
                </a:lnTo>
                <a:lnTo>
                  <a:pt x="446" y="6"/>
                </a:lnTo>
                <a:lnTo>
                  <a:pt x="453" y="8"/>
                </a:lnTo>
                <a:lnTo>
                  <a:pt x="463" y="12"/>
                </a:lnTo>
                <a:lnTo>
                  <a:pt x="474" y="18"/>
                </a:lnTo>
                <a:lnTo>
                  <a:pt x="484" y="21"/>
                </a:lnTo>
                <a:lnTo>
                  <a:pt x="496" y="27"/>
                </a:lnTo>
                <a:lnTo>
                  <a:pt x="509" y="35"/>
                </a:lnTo>
                <a:lnTo>
                  <a:pt x="520" y="41"/>
                </a:lnTo>
                <a:lnTo>
                  <a:pt x="534" y="48"/>
                </a:lnTo>
                <a:lnTo>
                  <a:pt x="547" y="56"/>
                </a:lnTo>
                <a:lnTo>
                  <a:pt x="561" y="66"/>
                </a:lnTo>
                <a:lnTo>
                  <a:pt x="572" y="73"/>
                </a:lnTo>
                <a:lnTo>
                  <a:pt x="582" y="81"/>
                </a:lnTo>
                <a:lnTo>
                  <a:pt x="591" y="89"/>
                </a:lnTo>
                <a:lnTo>
                  <a:pt x="601" y="96"/>
                </a:lnTo>
                <a:lnTo>
                  <a:pt x="609" y="104"/>
                </a:lnTo>
                <a:lnTo>
                  <a:pt x="616" y="112"/>
                </a:lnTo>
                <a:lnTo>
                  <a:pt x="622" y="117"/>
                </a:lnTo>
                <a:lnTo>
                  <a:pt x="628" y="125"/>
                </a:lnTo>
                <a:lnTo>
                  <a:pt x="634" y="133"/>
                </a:lnTo>
                <a:lnTo>
                  <a:pt x="638" y="139"/>
                </a:lnTo>
                <a:lnTo>
                  <a:pt x="639" y="144"/>
                </a:lnTo>
                <a:lnTo>
                  <a:pt x="641" y="150"/>
                </a:lnTo>
                <a:lnTo>
                  <a:pt x="643" y="156"/>
                </a:lnTo>
                <a:lnTo>
                  <a:pt x="643" y="162"/>
                </a:lnTo>
                <a:lnTo>
                  <a:pt x="643" y="171"/>
                </a:lnTo>
                <a:lnTo>
                  <a:pt x="641" y="179"/>
                </a:lnTo>
                <a:lnTo>
                  <a:pt x="639" y="188"/>
                </a:lnTo>
                <a:lnTo>
                  <a:pt x="638" y="200"/>
                </a:lnTo>
                <a:lnTo>
                  <a:pt x="634" y="210"/>
                </a:lnTo>
                <a:lnTo>
                  <a:pt x="628" y="223"/>
                </a:lnTo>
                <a:lnTo>
                  <a:pt x="624" y="235"/>
                </a:lnTo>
                <a:lnTo>
                  <a:pt x="618" y="248"/>
                </a:lnTo>
                <a:lnTo>
                  <a:pt x="611" y="263"/>
                </a:lnTo>
                <a:lnTo>
                  <a:pt x="603" y="279"/>
                </a:lnTo>
                <a:lnTo>
                  <a:pt x="595" y="294"/>
                </a:lnTo>
                <a:lnTo>
                  <a:pt x="588" y="311"/>
                </a:lnTo>
                <a:lnTo>
                  <a:pt x="578" y="329"/>
                </a:lnTo>
                <a:lnTo>
                  <a:pt x="568" y="348"/>
                </a:lnTo>
                <a:lnTo>
                  <a:pt x="557" y="367"/>
                </a:lnTo>
                <a:lnTo>
                  <a:pt x="547" y="388"/>
                </a:lnTo>
                <a:lnTo>
                  <a:pt x="534" y="411"/>
                </a:lnTo>
                <a:lnTo>
                  <a:pt x="522" y="432"/>
                </a:lnTo>
                <a:lnTo>
                  <a:pt x="509" y="455"/>
                </a:lnTo>
                <a:lnTo>
                  <a:pt x="494" y="478"/>
                </a:lnTo>
                <a:lnTo>
                  <a:pt x="478" y="503"/>
                </a:lnTo>
                <a:lnTo>
                  <a:pt x="463" y="526"/>
                </a:lnTo>
                <a:lnTo>
                  <a:pt x="446" y="551"/>
                </a:lnTo>
                <a:lnTo>
                  <a:pt x="428" y="578"/>
                </a:lnTo>
                <a:lnTo>
                  <a:pt x="409" y="603"/>
                </a:lnTo>
                <a:lnTo>
                  <a:pt x="390" y="630"/>
                </a:lnTo>
                <a:lnTo>
                  <a:pt x="369" y="657"/>
                </a:lnTo>
                <a:lnTo>
                  <a:pt x="348" y="686"/>
                </a:lnTo>
                <a:lnTo>
                  <a:pt x="327" y="712"/>
                </a:lnTo>
                <a:lnTo>
                  <a:pt x="304" y="741"/>
                </a:lnTo>
                <a:lnTo>
                  <a:pt x="279" y="770"/>
                </a:lnTo>
                <a:lnTo>
                  <a:pt x="256" y="799"/>
                </a:lnTo>
                <a:lnTo>
                  <a:pt x="231" y="828"/>
                </a:lnTo>
                <a:lnTo>
                  <a:pt x="208" y="854"/>
                </a:lnTo>
                <a:lnTo>
                  <a:pt x="186" y="879"/>
                </a:lnTo>
                <a:lnTo>
                  <a:pt x="167" y="902"/>
                </a:lnTo>
                <a:lnTo>
                  <a:pt x="148" y="926"/>
                </a:lnTo>
                <a:lnTo>
                  <a:pt x="131" y="945"/>
                </a:lnTo>
                <a:lnTo>
                  <a:pt x="114" y="964"/>
                </a:lnTo>
                <a:lnTo>
                  <a:pt x="98" y="979"/>
                </a:lnTo>
                <a:lnTo>
                  <a:pt x="83" y="995"/>
                </a:lnTo>
                <a:lnTo>
                  <a:pt x="71" y="1008"/>
                </a:lnTo>
                <a:lnTo>
                  <a:pt x="58" y="1020"/>
                </a:lnTo>
                <a:lnTo>
                  <a:pt x="46" y="1031"/>
                </a:lnTo>
                <a:lnTo>
                  <a:pt x="37" y="1039"/>
                </a:lnTo>
                <a:lnTo>
                  <a:pt x="27" y="1046"/>
                </a:lnTo>
                <a:lnTo>
                  <a:pt x="19" y="1050"/>
                </a:lnTo>
                <a:lnTo>
                  <a:pt x="12" y="1054"/>
                </a:lnTo>
                <a:lnTo>
                  <a:pt x="10" y="1056"/>
                </a:lnTo>
                <a:lnTo>
                  <a:pt x="6" y="1056"/>
                </a:lnTo>
                <a:lnTo>
                  <a:pt x="4" y="1054"/>
                </a:lnTo>
                <a:lnTo>
                  <a:pt x="2" y="1054"/>
                </a:lnTo>
                <a:lnTo>
                  <a:pt x="2" y="1052"/>
                </a:lnTo>
                <a:lnTo>
                  <a:pt x="0" y="1048"/>
                </a:lnTo>
                <a:lnTo>
                  <a:pt x="0" y="1046"/>
                </a:lnTo>
                <a:lnTo>
                  <a:pt x="0" y="1041"/>
                </a:lnTo>
                <a:lnTo>
                  <a:pt x="2" y="1037"/>
                </a:lnTo>
                <a:lnTo>
                  <a:pt x="4" y="1031"/>
                </a:lnTo>
                <a:lnTo>
                  <a:pt x="4" y="1025"/>
                </a:lnTo>
                <a:lnTo>
                  <a:pt x="8" y="1018"/>
                </a:lnTo>
                <a:lnTo>
                  <a:pt x="10" y="1010"/>
                </a:lnTo>
                <a:lnTo>
                  <a:pt x="14" y="1002"/>
                </a:lnTo>
                <a:lnTo>
                  <a:pt x="18" y="993"/>
                </a:lnTo>
                <a:lnTo>
                  <a:pt x="21" y="983"/>
                </a:lnTo>
                <a:lnTo>
                  <a:pt x="25" y="974"/>
                </a:lnTo>
                <a:lnTo>
                  <a:pt x="31" y="962"/>
                </a:lnTo>
                <a:lnTo>
                  <a:pt x="35" y="950"/>
                </a:lnTo>
                <a:lnTo>
                  <a:pt x="43" y="939"/>
                </a:lnTo>
                <a:lnTo>
                  <a:pt x="48" y="926"/>
                </a:lnTo>
                <a:lnTo>
                  <a:pt x="54" y="912"/>
                </a:lnTo>
                <a:lnTo>
                  <a:pt x="62" y="899"/>
                </a:lnTo>
                <a:lnTo>
                  <a:pt x="69" y="883"/>
                </a:lnTo>
                <a:lnTo>
                  <a:pt x="77" y="868"/>
                </a:lnTo>
                <a:lnTo>
                  <a:pt x="87" y="853"/>
                </a:lnTo>
                <a:lnTo>
                  <a:pt x="94" y="835"/>
                </a:lnTo>
                <a:lnTo>
                  <a:pt x="104" y="818"/>
                </a:lnTo>
                <a:lnTo>
                  <a:pt x="114" y="801"/>
                </a:lnTo>
                <a:lnTo>
                  <a:pt x="125" y="782"/>
                </a:lnTo>
                <a:lnTo>
                  <a:pt x="135" y="762"/>
                </a:lnTo>
                <a:lnTo>
                  <a:pt x="146" y="743"/>
                </a:lnTo>
                <a:lnTo>
                  <a:pt x="167" y="703"/>
                </a:lnTo>
                <a:lnTo>
                  <a:pt x="190" y="664"/>
                </a:lnTo>
                <a:lnTo>
                  <a:pt x="210" y="628"/>
                </a:lnTo>
                <a:lnTo>
                  <a:pt x="229" y="593"/>
                </a:lnTo>
                <a:lnTo>
                  <a:pt x="248" y="559"/>
                </a:lnTo>
                <a:lnTo>
                  <a:pt x="265" y="526"/>
                </a:lnTo>
                <a:lnTo>
                  <a:pt x="282" y="496"/>
                </a:lnTo>
                <a:lnTo>
                  <a:pt x="300" y="467"/>
                </a:lnTo>
                <a:lnTo>
                  <a:pt x="313" y="438"/>
                </a:lnTo>
                <a:lnTo>
                  <a:pt x="329" y="411"/>
                </a:lnTo>
                <a:lnTo>
                  <a:pt x="340" y="384"/>
                </a:lnTo>
                <a:lnTo>
                  <a:pt x="353" y="361"/>
                </a:lnTo>
                <a:lnTo>
                  <a:pt x="363" y="336"/>
                </a:lnTo>
                <a:lnTo>
                  <a:pt x="373" y="315"/>
                </a:lnTo>
                <a:lnTo>
                  <a:pt x="382" y="294"/>
                </a:lnTo>
                <a:lnTo>
                  <a:pt x="390" y="275"/>
                </a:lnTo>
                <a:lnTo>
                  <a:pt x="396" y="258"/>
                </a:lnTo>
                <a:lnTo>
                  <a:pt x="401" y="240"/>
                </a:lnTo>
                <a:lnTo>
                  <a:pt x="405" y="223"/>
                </a:lnTo>
                <a:lnTo>
                  <a:pt x="409" y="206"/>
                </a:lnTo>
                <a:lnTo>
                  <a:pt x="413" y="190"/>
                </a:lnTo>
                <a:lnTo>
                  <a:pt x="415" y="177"/>
                </a:lnTo>
                <a:lnTo>
                  <a:pt x="417" y="164"/>
                </a:lnTo>
                <a:lnTo>
                  <a:pt x="417" y="150"/>
                </a:lnTo>
                <a:lnTo>
                  <a:pt x="417" y="137"/>
                </a:lnTo>
                <a:lnTo>
                  <a:pt x="417" y="127"/>
                </a:lnTo>
                <a:lnTo>
                  <a:pt x="417" y="116"/>
                </a:lnTo>
                <a:lnTo>
                  <a:pt x="415" y="106"/>
                </a:lnTo>
                <a:lnTo>
                  <a:pt x="411" y="98"/>
                </a:lnTo>
                <a:lnTo>
                  <a:pt x="409" y="91"/>
                </a:lnTo>
                <a:lnTo>
                  <a:pt x="405" y="83"/>
                </a:lnTo>
                <a:lnTo>
                  <a:pt x="401" y="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60"/>
          <p:cNvSpPr/>
          <p:nvPr/>
        </p:nvSpPr>
        <p:spPr>
          <a:xfrm>
            <a:off x="6313320" y="3627360"/>
            <a:ext cx="187560" cy="673200"/>
          </a:xfrm>
          <a:custGeom>
            <a:avLst/>
            <a:gdLst/>
            <a:ahLst/>
            <a:rect l="l" t="t" r="r" b="b"/>
            <a:pathLst>
              <a:path w="236" h="849">
                <a:moveTo>
                  <a:pt x="18" y="83"/>
                </a:moveTo>
                <a:lnTo>
                  <a:pt x="14" y="75"/>
                </a:lnTo>
                <a:lnTo>
                  <a:pt x="8" y="69"/>
                </a:lnTo>
                <a:lnTo>
                  <a:pt x="6" y="60"/>
                </a:lnTo>
                <a:lnTo>
                  <a:pt x="2" y="52"/>
                </a:lnTo>
                <a:lnTo>
                  <a:pt x="0" y="42"/>
                </a:lnTo>
                <a:lnTo>
                  <a:pt x="0" y="31"/>
                </a:lnTo>
                <a:lnTo>
                  <a:pt x="0" y="27"/>
                </a:lnTo>
                <a:lnTo>
                  <a:pt x="2" y="21"/>
                </a:lnTo>
                <a:lnTo>
                  <a:pt x="2" y="16"/>
                </a:lnTo>
                <a:lnTo>
                  <a:pt x="6" y="12"/>
                </a:lnTo>
                <a:lnTo>
                  <a:pt x="6" y="8"/>
                </a:lnTo>
                <a:lnTo>
                  <a:pt x="6" y="6"/>
                </a:lnTo>
                <a:lnTo>
                  <a:pt x="10" y="4"/>
                </a:lnTo>
                <a:lnTo>
                  <a:pt x="12" y="2"/>
                </a:lnTo>
                <a:lnTo>
                  <a:pt x="16" y="2"/>
                </a:lnTo>
                <a:lnTo>
                  <a:pt x="21" y="0"/>
                </a:lnTo>
                <a:lnTo>
                  <a:pt x="25" y="0"/>
                </a:lnTo>
                <a:lnTo>
                  <a:pt x="33" y="0"/>
                </a:lnTo>
                <a:lnTo>
                  <a:pt x="41" y="0"/>
                </a:lnTo>
                <a:lnTo>
                  <a:pt x="48" y="0"/>
                </a:lnTo>
                <a:lnTo>
                  <a:pt x="56" y="2"/>
                </a:lnTo>
                <a:lnTo>
                  <a:pt x="67" y="2"/>
                </a:lnTo>
                <a:lnTo>
                  <a:pt x="77" y="4"/>
                </a:lnTo>
                <a:lnTo>
                  <a:pt x="89" y="6"/>
                </a:lnTo>
                <a:lnTo>
                  <a:pt x="102" y="8"/>
                </a:lnTo>
                <a:lnTo>
                  <a:pt x="115" y="12"/>
                </a:lnTo>
                <a:lnTo>
                  <a:pt x="127" y="16"/>
                </a:lnTo>
                <a:lnTo>
                  <a:pt x="140" y="21"/>
                </a:lnTo>
                <a:lnTo>
                  <a:pt x="152" y="27"/>
                </a:lnTo>
                <a:lnTo>
                  <a:pt x="161" y="33"/>
                </a:lnTo>
                <a:lnTo>
                  <a:pt x="173" y="39"/>
                </a:lnTo>
                <a:lnTo>
                  <a:pt x="181" y="44"/>
                </a:lnTo>
                <a:lnTo>
                  <a:pt x="190" y="50"/>
                </a:lnTo>
                <a:lnTo>
                  <a:pt x="198" y="56"/>
                </a:lnTo>
                <a:lnTo>
                  <a:pt x="206" y="62"/>
                </a:lnTo>
                <a:lnTo>
                  <a:pt x="211" y="67"/>
                </a:lnTo>
                <a:lnTo>
                  <a:pt x="217" y="73"/>
                </a:lnTo>
                <a:lnTo>
                  <a:pt x="223" y="81"/>
                </a:lnTo>
                <a:lnTo>
                  <a:pt x="227" y="88"/>
                </a:lnTo>
                <a:lnTo>
                  <a:pt x="231" y="94"/>
                </a:lnTo>
                <a:lnTo>
                  <a:pt x="232" y="102"/>
                </a:lnTo>
                <a:lnTo>
                  <a:pt x="236" y="110"/>
                </a:lnTo>
                <a:lnTo>
                  <a:pt x="234" y="127"/>
                </a:lnTo>
                <a:lnTo>
                  <a:pt x="234" y="144"/>
                </a:lnTo>
                <a:lnTo>
                  <a:pt x="231" y="165"/>
                </a:lnTo>
                <a:lnTo>
                  <a:pt x="231" y="175"/>
                </a:lnTo>
                <a:lnTo>
                  <a:pt x="229" y="186"/>
                </a:lnTo>
                <a:lnTo>
                  <a:pt x="227" y="198"/>
                </a:lnTo>
                <a:lnTo>
                  <a:pt x="225" y="209"/>
                </a:lnTo>
                <a:lnTo>
                  <a:pt x="223" y="223"/>
                </a:lnTo>
                <a:lnTo>
                  <a:pt x="221" y="234"/>
                </a:lnTo>
                <a:lnTo>
                  <a:pt x="219" y="250"/>
                </a:lnTo>
                <a:lnTo>
                  <a:pt x="215" y="263"/>
                </a:lnTo>
                <a:lnTo>
                  <a:pt x="213" y="278"/>
                </a:lnTo>
                <a:lnTo>
                  <a:pt x="211" y="294"/>
                </a:lnTo>
                <a:lnTo>
                  <a:pt x="206" y="332"/>
                </a:lnTo>
                <a:lnTo>
                  <a:pt x="200" y="371"/>
                </a:lnTo>
                <a:lnTo>
                  <a:pt x="194" y="413"/>
                </a:lnTo>
                <a:lnTo>
                  <a:pt x="190" y="434"/>
                </a:lnTo>
                <a:lnTo>
                  <a:pt x="186" y="455"/>
                </a:lnTo>
                <a:lnTo>
                  <a:pt x="184" y="478"/>
                </a:lnTo>
                <a:lnTo>
                  <a:pt x="181" y="499"/>
                </a:lnTo>
                <a:lnTo>
                  <a:pt x="177" y="522"/>
                </a:lnTo>
                <a:lnTo>
                  <a:pt x="175" y="547"/>
                </a:lnTo>
                <a:lnTo>
                  <a:pt x="171" y="572"/>
                </a:lnTo>
                <a:lnTo>
                  <a:pt x="167" y="597"/>
                </a:lnTo>
                <a:lnTo>
                  <a:pt x="165" y="622"/>
                </a:lnTo>
                <a:lnTo>
                  <a:pt x="163" y="649"/>
                </a:lnTo>
                <a:lnTo>
                  <a:pt x="158" y="674"/>
                </a:lnTo>
                <a:lnTo>
                  <a:pt x="154" y="697"/>
                </a:lnTo>
                <a:lnTo>
                  <a:pt x="150" y="720"/>
                </a:lnTo>
                <a:lnTo>
                  <a:pt x="144" y="741"/>
                </a:lnTo>
                <a:lnTo>
                  <a:pt x="140" y="760"/>
                </a:lnTo>
                <a:lnTo>
                  <a:pt x="137" y="778"/>
                </a:lnTo>
                <a:lnTo>
                  <a:pt x="133" y="793"/>
                </a:lnTo>
                <a:lnTo>
                  <a:pt x="129" y="806"/>
                </a:lnTo>
                <a:lnTo>
                  <a:pt x="125" y="818"/>
                </a:lnTo>
                <a:lnTo>
                  <a:pt x="121" y="827"/>
                </a:lnTo>
                <a:lnTo>
                  <a:pt x="117" y="835"/>
                </a:lnTo>
                <a:lnTo>
                  <a:pt x="113" y="841"/>
                </a:lnTo>
                <a:lnTo>
                  <a:pt x="112" y="843"/>
                </a:lnTo>
                <a:lnTo>
                  <a:pt x="110" y="845"/>
                </a:lnTo>
                <a:lnTo>
                  <a:pt x="110" y="847"/>
                </a:lnTo>
                <a:lnTo>
                  <a:pt x="108" y="849"/>
                </a:lnTo>
                <a:lnTo>
                  <a:pt x="106" y="849"/>
                </a:lnTo>
                <a:lnTo>
                  <a:pt x="104" y="847"/>
                </a:lnTo>
                <a:lnTo>
                  <a:pt x="102" y="847"/>
                </a:lnTo>
                <a:lnTo>
                  <a:pt x="94" y="841"/>
                </a:lnTo>
                <a:lnTo>
                  <a:pt x="85" y="833"/>
                </a:lnTo>
                <a:lnTo>
                  <a:pt x="75" y="824"/>
                </a:lnTo>
                <a:lnTo>
                  <a:pt x="71" y="818"/>
                </a:lnTo>
                <a:lnTo>
                  <a:pt x="67" y="812"/>
                </a:lnTo>
                <a:lnTo>
                  <a:pt x="64" y="806"/>
                </a:lnTo>
                <a:lnTo>
                  <a:pt x="60" y="801"/>
                </a:lnTo>
                <a:lnTo>
                  <a:pt x="56" y="793"/>
                </a:lnTo>
                <a:lnTo>
                  <a:pt x="52" y="785"/>
                </a:lnTo>
                <a:lnTo>
                  <a:pt x="50" y="776"/>
                </a:lnTo>
                <a:lnTo>
                  <a:pt x="46" y="768"/>
                </a:lnTo>
                <a:lnTo>
                  <a:pt x="44" y="758"/>
                </a:lnTo>
                <a:lnTo>
                  <a:pt x="42" y="747"/>
                </a:lnTo>
                <a:lnTo>
                  <a:pt x="37" y="737"/>
                </a:lnTo>
                <a:lnTo>
                  <a:pt x="33" y="724"/>
                </a:lnTo>
                <a:lnTo>
                  <a:pt x="31" y="712"/>
                </a:lnTo>
                <a:lnTo>
                  <a:pt x="27" y="699"/>
                </a:lnTo>
                <a:lnTo>
                  <a:pt x="25" y="685"/>
                </a:lnTo>
                <a:lnTo>
                  <a:pt x="23" y="672"/>
                </a:lnTo>
                <a:lnTo>
                  <a:pt x="23" y="657"/>
                </a:lnTo>
                <a:lnTo>
                  <a:pt x="21" y="641"/>
                </a:lnTo>
                <a:lnTo>
                  <a:pt x="21" y="624"/>
                </a:lnTo>
                <a:lnTo>
                  <a:pt x="21" y="609"/>
                </a:lnTo>
                <a:lnTo>
                  <a:pt x="21" y="589"/>
                </a:lnTo>
                <a:lnTo>
                  <a:pt x="23" y="572"/>
                </a:lnTo>
                <a:lnTo>
                  <a:pt x="23" y="553"/>
                </a:lnTo>
                <a:lnTo>
                  <a:pt x="25" y="534"/>
                </a:lnTo>
                <a:lnTo>
                  <a:pt x="27" y="513"/>
                </a:lnTo>
                <a:lnTo>
                  <a:pt x="29" y="492"/>
                </a:lnTo>
                <a:lnTo>
                  <a:pt x="33" y="451"/>
                </a:lnTo>
                <a:lnTo>
                  <a:pt x="37" y="411"/>
                </a:lnTo>
                <a:lnTo>
                  <a:pt x="39" y="371"/>
                </a:lnTo>
                <a:lnTo>
                  <a:pt x="39" y="353"/>
                </a:lnTo>
                <a:lnTo>
                  <a:pt x="41" y="334"/>
                </a:lnTo>
                <a:lnTo>
                  <a:pt x="41" y="317"/>
                </a:lnTo>
                <a:lnTo>
                  <a:pt x="41" y="300"/>
                </a:lnTo>
                <a:lnTo>
                  <a:pt x="41" y="282"/>
                </a:lnTo>
                <a:lnTo>
                  <a:pt x="41" y="267"/>
                </a:lnTo>
                <a:lnTo>
                  <a:pt x="41" y="252"/>
                </a:lnTo>
                <a:lnTo>
                  <a:pt x="42" y="236"/>
                </a:lnTo>
                <a:lnTo>
                  <a:pt x="42" y="223"/>
                </a:lnTo>
                <a:lnTo>
                  <a:pt x="42" y="209"/>
                </a:lnTo>
                <a:lnTo>
                  <a:pt x="41" y="196"/>
                </a:lnTo>
                <a:lnTo>
                  <a:pt x="41" y="184"/>
                </a:lnTo>
                <a:lnTo>
                  <a:pt x="41" y="173"/>
                </a:lnTo>
                <a:lnTo>
                  <a:pt x="39" y="161"/>
                </a:lnTo>
                <a:lnTo>
                  <a:pt x="39" y="152"/>
                </a:lnTo>
                <a:lnTo>
                  <a:pt x="37" y="142"/>
                </a:lnTo>
                <a:lnTo>
                  <a:pt x="35" y="133"/>
                </a:lnTo>
                <a:lnTo>
                  <a:pt x="35" y="125"/>
                </a:lnTo>
                <a:lnTo>
                  <a:pt x="33" y="117"/>
                </a:lnTo>
                <a:lnTo>
                  <a:pt x="31" y="110"/>
                </a:lnTo>
                <a:lnTo>
                  <a:pt x="29" y="104"/>
                </a:lnTo>
                <a:lnTo>
                  <a:pt x="27" y="98"/>
                </a:lnTo>
                <a:lnTo>
                  <a:pt x="23" y="92"/>
                </a:lnTo>
                <a:lnTo>
                  <a:pt x="21" y="88"/>
                </a:lnTo>
                <a:lnTo>
                  <a:pt x="19" y="85"/>
                </a:lnTo>
                <a:lnTo>
                  <a:pt x="18" y="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1"/>
          <p:cNvSpPr/>
          <p:nvPr/>
        </p:nvSpPr>
        <p:spPr>
          <a:xfrm>
            <a:off x="5553000" y="3765600"/>
            <a:ext cx="831960" cy="749160"/>
          </a:xfrm>
          <a:custGeom>
            <a:avLst/>
            <a:gdLst/>
            <a:ahLst/>
            <a:rect l="l" t="t" r="r" b="b"/>
            <a:pathLst>
              <a:path w="1048" h="944">
                <a:moveTo>
                  <a:pt x="198" y="869"/>
                </a:moveTo>
                <a:lnTo>
                  <a:pt x="196" y="877"/>
                </a:lnTo>
                <a:lnTo>
                  <a:pt x="194" y="885"/>
                </a:lnTo>
                <a:lnTo>
                  <a:pt x="190" y="890"/>
                </a:lnTo>
                <a:lnTo>
                  <a:pt x="187" y="896"/>
                </a:lnTo>
                <a:lnTo>
                  <a:pt x="185" y="902"/>
                </a:lnTo>
                <a:lnTo>
                  <a:pt x="181" y="908"/>
                </a:lnTo>
                <a:lnTo>
                  <a:pt x="173" y="915"/>
                </a:lnTo>
                <a:lnTo>
                  <a:pt x="164" y="923"/>
                </a:lnTo>
                <a:lnTo>
                  <a:pt x="156" y="929"/>
                </a:lnTo>
                <a:lnTo>
                  <a:pt x="146" y="935"/>
                </a:lnTo>
                <a:lnTo>
                  <a:pt x="139" y="940"/>
                </a:lnTo>
                <a:lnTo>
                  <a:pt x="133" y="942"/>
                </a:lnTo>
                <a:lnTo>
                  <a:pt x="129" y="944"/>
                </a:lnTo>
                <a:lnTo>
                  <a:pt x="123" y="944"/>
                </a:lnTo>
                <a:lnTo>
                  <a:pt x="119" y="944"/>
                </a:lnTo>
                <a:lnTo>
                  <a:pt x="116" y="942"/>
                </a:lnTo>
                <a:lnTo>
                  <a:pt x="110" y="940"/>
                </a:lnTo>
                <a:lnTo>
                  <a:pt x="106" y="937"/>
                </a:lnTo>
                <a:lnTo>
                  <a:pt x="102" y="933"/>
                </a:lnTo>
                <a:lnTo>
                  <a:pt x="96" y="929"/>
                </a:lnTo>
                <a:lnTo>
                  <a:pt x="93" y="925"/>
                </a:lnTo>
                <a:lnTo>
                  <a:pt x="87" y="919"/>
                </a:lnTo>
                <a:lnTo>
                  <a:pt x="83" y="913"/>
                </a:lnTo>
                <a:lnTo>
                  <a:pt x="79" y="906"/>
                </a:lnTo>
                <a:lnTo>
                  <a:pt x="73" y="898"/>
                </a:lnTo>
                <a:lnTo>
                  <a:pt x="66" y="885"/>
                </a:lnTo>
                <a:lnTo>
                  <a:pt x="58" y="875"/>
                </a:lnTo>
                <a:lnTo>
                  <a:pt x="52" y="867"/>
                </a:lnTo>
                <a:lnTo>
                  <a:pt x="47" y="860"/>
                </a:lnTo>
                <a:lnTo>
                  <a:pt x="43" y="852"/>
                </a:lnTo>
                <a:lnTo>
                  <a:pt x="37" y="844"/>
                </a:lnTo>
                <a:lnTo>
                  <a:pt x="33" y="837"/>
                </a:lnTo>
                <a:lnTo>
                  <a:pt x="27" y="821"/>
                </a:lnTo>
                <a:lnTo>
                  <a:pt x="22" y="808"/>
                </a:lnTo>
                <a:lnTo>
                  <a:pt x="20" y="794"/>
                </a:lnTo>
                <a:lnTo>
                  <a:pt x="18" y="781"/>
                </a:lnTo>
                <a:lnTo>
                  <a:pt x="16" y="771"/>
                </a:lnTo>
                <a:lnTo>
                  <a:pt x="18" y="764"/>
                </a:lnTo>
                <a:lnTo>
                  <a:pt x="20" y="758"/>
                </a:lnTo>
                <a:lnTo>
                  <a:pt x="22" y="748"/>
                </a:lnTo>
                <a:lnTo>
                  <a:pt x="27" y="739"/>
                </a:lnTo>
                <a:lnTo>
                  <a:pt x="33" y="727"/>
                </a:lnTo>
                <a:lnTo>
                  <a:pt x="37" y="722"/>
                </a:lnTo>
                <a:lnTo>
                  <a:pt x="43" y="716"/>
                </a:lnTo>
                <a:lnTo>
                  <a:pt x="47" y="708"/>
                </a:lnTo>
                <a:lnTo>
                  <a:pt x="52" y="700"/>
                </a:lnTo>
                <a:lnTo>
                  <a:pt x="58" y="693"/>
                </a:lnTo>
                <a:lnTo>
                  <a:pt x="66" y="685"/>
                </a:lnTo>
                <a:lnTo>
                  <a:pt x="70" y="679"/>
                </a:lnTo>
                <a:lnTo>
                  <a:pt x="73" y="672"/>
                </a:lnTo>
                <a:lnTo>
                  <a:pt x="77" y="662"/>
                </a:lnTo>
                <a:lnTo>
                  <a:pt x="81" y="651"/>
                </a:lnTo>
                <a:lnTo>
                  <a:pt x="83" y="637"/>
                </a:lnTo>
                <a:lnTo>
                  <a:pt x="87" y="624"/>
                </a:lnTo>
                <a:lnTo>
                  <a:pt x="89" y="608"/>
                </a:lnTo>
                <a:lnTo>
                  <a:pt x="93" y="589"/>
                </a:lnTo>
                <a:lnTo>
                  <a:pt x="94" y="570"/>
                </a:lnTo>
                <a:lnTo>
                  <a:pt x="96" y="549"/>
                </a:lnTo>
                <a:lnTo>
                  <a:pt x="98" y="526"/>
                </a:lnTo>
                <a:lnTo>
                  <a:pt x="98" y="503"/>
                </a:lnTo>
                <a:lnTo>
                  <a:pt x="100" y="476"/>
                </a:lnTo>
                <a:lnTo>
                  <a:pt x="100" y="449"/>
                </a:lnTo>
                <a:lnTo>
                  <a:pt x="100" y="418"/>
                </a:lnTo>
                <a:lnTo>
                  <a:pt x="102" y="388"/>
                </a:lnTo>
                <a:lnTo>
                  <a:pt x="98" y="357"/>
                </a:lnTo>
                <a:lnTo>
                  <a:pt x="96" y="328"/>
                </a:lnTo>
                <a:lnTo>
                  <a:pt x="94" y="299"/>
                </a:lnTo>
                <a:lnTo>
                  <a:pt x="93" y="274"/>
                </a:lnTo>
                <a:lnTo>
                  <a:pt x="89" y="249"/>
                </a:lnTo>
                <a:lnTo>
                  <a:pt x="87" y="228"/>
                </a:lnTo>
                <a:lnTo>
                  <a:pt x="83" y="207"/>
                </a:lnTo>
                <a:lnTo>
                  <a:pt x="79" y="188"/>
                </a:lnTo>
                <a:lnTo>
                  <a:pt x="77" y="171"/>
                </a:lnTo>
                <a:lnTo>
                  <a:pt x="73" y="155"/>
                </a:lnTo>
                <a:lnTo>
                  <a:pt x="68" y="142"/>
                </a:lnTo>
                <a:lnTo>
                  <a:pt x="64" y="132"/>
                </a:lnTo>
                <a:lnTo>
                  <a:pt x="62" y="127"/>
                </a:lnTo>
                <a:lnTo>
                  <a:pt x="58" y="123"/>
                </a:lnTo>
                <a:lnTo>
                  <a:pt x="56" y="117"/>
                </a:lnTo>
                <a:lnTo>
                  <a:pt x="54" y="115"/>
                </a:lnTo>
                <a:lnTo>
                  <a:pt x="50" y="111"/>
                </a:lnTo>
                <a:lnTo>
                  <a:pt x="47" y="109"/>
                </a:lnTo>
                <a:lnTo>
                  <a:pt x="45" y="107"/>
                </a:lnTo>
                <a:lnTo>
                  <a:pt x="41" y="105"/>
                </a:lnTo>
                <a:lnTo>
                  <a:pt x="35" y="102"/>
                </a:lnTo>
                <a:lnTo>
                  <a:pt x="27" y="100"/>
                </a:lnTo>
                <a:lnTo>
                  <a:pt x="23" y="96"/>
                </a:lnTo>
                <a:lnTo>
                  <a:pt x="18" y="92"/>
                </a:lnTo>
                <a:lnTo>
                  <a:pt x="14" y="88"/>
                </a:lnTo>
                <a:lnTo>
                  <a:pt x="10" y="84"/>
                </a:lnTo>
                <a:lnTo>
                  <a:pt x="6" y="79"/>
                </a:lnTo>
                <a:lnTo>
                  <a:pt x="4" y="75"/>
                </a:lnTo>
                <a:lnTo>
                  <a:pt x="2" y="71"/>
                </a:lnTo>
                <a:lnTo>
                  <a:pt x="0" y="65"/>
                </a:lnTo>
                <a:lnTo>
                  <a:pt x="0" y="59"/>
                </a:lnTo>
                <a:lnTo>
                  <a:pt x="0" y="56"/>
                </a:lnTo>
                <a:lnTo>
                  <a:pt x="0" y="50"/>
                </a:lnTo>
                <a:lnTo>
                  <a:pt x="0" y="44"/>
                </a:lnTo>
                <a:lnTo>
                  <a:pt x="2" y="40"/>
                </a:lnTo>
                <a:lnTo>
                  <a:pt x="4" y="34"/>
                </a:lnTo>
                <a:lnTo>
                  <a:pt x="6" y="29"/>
                </a:lnTo>
                <a:lnTo>
                  <a:pt x="10" y="25"/>
                </a:lnTo>
                <a:lnTo>
                  <a:pt x="14" y="19"/>
                </a:lnTo>
                <a:lnTo>
                  <a:pt x="18" y="15"/>
                </a:lnTo>
                <a:lnTo>
                  <a:pt x="23" y="11"/>
                </a:lnTo>
                <a:lnTo>
                  <a:pt x="27" y="9"/>
                </a:lnTo>
                <a:lnTo>
                  <a:pt x="35" y="6"/>
                </a:lnTo>
                <a:lnTo>
                  <a:pt x="41" y="4"/>
                </a:lnTo>
                <a:lnTo>
                  <a:pt x="48" y="2"/>
                </a:lnTo>
                <a:lnTo>
                  <a:pt x="56" y="2"/>
                </a:lnTo>
                <a:lnTo>
                  <a:pt x="64" y="0"/>
                </a:lnTo>
                <a:lnTo>
                  <a:pt x="71" y="0"/>
                </a:lnTo>
                <a:lnTo>
                  <a:pt x="81" y="0"/>
                </a:lnTo>
                <a:lnTo>
                  <a:pt x="93" y="2"/>
                </a:lnTo>
                <a:lnTo>
                  <a:pt x="102" y="4"/>
                </a:lnTo>
                <a:lnTo>
                  <a:pt x="114" y="6"/>
                </a:lnTo>
                <a:lnTo>
                  <a:pt x="135" y="11"/>
                </a:lnTo>
                <a:lnTo>
                  <a:pt x="156" y="19"/>
                </a:lnTo>
                <a:lnTo>
                  <a:pt x="166" y="23"/>
                </a:lnTo>
                <a:lnTo>
                  <a:pt x="175" y="27"/>
                </a:lnTo>
                <a:lnTo>
                  <a:pt x="185" y="31"/>
                </a:lnTo>
                <a:lnTo>
                  <a:pt x="192" y="34"/>
                </a:lnTo>
                <a:lnTo>
                  <a:pt x="200" y="38"/>
                </a:lnTo>
                <a:lnTo>
                  <a:pt x="208" y="42"/>
                </a:lnTo>
                <a:lnTo>
                  <a:pt x="213" y="46"/>
                </a:lnTo>
                <a:lnTo>
                  <a:pt x="219" y="50"/>
                </a:lnTo>
                <a:lnTo>
                  <a:pt x="225" y="54"/>
                </a:lnTo>
                <a:lnTo>
                  <a:pt x="229" y="56"/>
                </a:lnTo>
                <a:lnTo>
                  <a:pt x="233" y="59"/>
                </a:lnTo>
                <a:lnTo>
                  <a:pt x="235" y="63"/>
                </a:lnTo>
                <a:lnTo>
                  <a:pt x="237" y="69"/>
                </a:lnTo>
                <a:lnTo>
                  <a:pt x="238" y="75"/>
                </a:lnTo>
                <a:lnTo>
                  <a:pt x="240" y="84"/>
                </a:lnTo>
                <a:lnTo>
                  <a:pt x="242" y="94"/>
                </a:lnTo>
                <a:lnTo>
                  <a:pt x="242" y="105"/>
                </a:lnTo>
                <a:lnTo>
                  <a:pt x="244" y="119"/>
                </a:lnTo>
                <a:lnTo>
                  <a:pt x="244" y="132"/>
                </a:lnTo>
                <a:lnTo>
                  <a:pt x="246" y="148"/>
                </a:lnTo>
                <a:lnTo>
                  <a:pt x="246" y="163"/>
                </a:lnTo>
                <a:lnTo>
                  <a:pt x="246" y="182"/>
                </a:lnTo>
                <a:lnTo>
                  <a:pt x="246" y="201"/>
                </a:lnTo>
                <a:lnTo>
                  <a:pt x="246" y="221"/>
                </a:lnTo>
                <a:lnTo>
                  <a:pt x="246" y="244"/>
                </a:lnTo>
                <a:lnTo>
                  <a:pt x="246" y="267"/>
                </a:lnTo>
                <a:lnTo>
                  <a:pt x="248" y="292"/>
                </a:lnTo>
                <a:lnTo>
                  <a:pt x="248" y="317"/>
                </a:lnTo>
                <a:lnTo>
                  <a:pt x="248" y="343"/>
                </a:lnTo>
                <a:lnTo>
                  <a:pt x="248" y="368"/>
                </a:lnTo>
                <a:lnTo>
                  <a:pt x="248" y="391"/>
                </a:lnTo>
                <a:lnTo>
                  <a:pt x="248" y="413"/>
                </a:lnTo>
                <a:lnTo>
                  <a:pt x="248" y="434"/>
                </a:lnTo>
                <a:lnTo>
                  <a:pt x="248" y="453"/>
                </a:lnTo>
                <a:lnTo>
                  <a:pt x="248" y="470"/>
                </a:lnTo>
                <a:lnTo>
                  <a:pt x="248" y="485"/>
                </a:lnTo>
                <a:lnTo>
                  <a:pt x="250" y="501"/>
                </a:lnTo>
                <a:lnTo>
                  <a:pt x="250" y="512"/>
                </a:lnTo>
                <a:lnTo>
                  <a:pt x="252" y="524"/>
                </a:lnTo>
                <a:lnTo>
                  <a:pt x="252" y="533"/>
                </a:lnTo>
                <a:lnTo>
                  <a:pt x="254" y="543"/>
                </a:lnTo>
                <a:lnTo>
                  <a:pt x="256" y="549"/>
                </a:lnTo>
                <a:lnTo>
                  <a:pt x="258" y="555"/>
                </a:lnTo>
                <a:lnTo>
                  <a:pt x="260" y="558"/>
                </a:lnTo>
                <a:lnTo>
                  <a:pt x="261" y="562"/>
                </a:lnTo>
                <a:lnTo>
                  <a:pt x="265" y="568"/>
                </a:lnTo>
                <a:lnTo>
                  <a:pt x="269" y="572"/>
                </a:lnTo>
                <a:lnTo>
                  <a:pt x="275" y="574"/>
                </a:lnTo>
                <a:lnTo>
                  <a:pt x="281" y="576"/>
                </a:lnTo>
                <a:lnTo>
                  <a:pt x="288" y="578"/>
                </a:lnTo>
                <a:lnTo>
                  <a:pt x="296" y="578"/>
                </a:lnTo>
                <a:lnTo>
                  <a:pt x="306" y="578"/>
                </a:lnTo>
                <a:lnTo>
                  <a:pt x="315" y="578"/>
                </a:lnTo>
                <a:lnTo>
                  <a:pt x="325" y="576"/>
                </a:lnTo>
                <a:lnTo>
                  <a:pt x="336" y="572"/>
                </a:lnTo>
                <a:lnTo>
                  <a:pt x="348" y="568"/>
                </a:lnTo>
                <a:lnTo>
                  <a:pt x="361" y="564"/>
                </a:lnTo>
                <a:lnTo>
                  <a:pt x="375" y="558"/>
                </a:lnTo>
                <a:lnTo>
                  <a:pt x="390" y="551"/>
                </a:lnTo>
                <a:lnTo>
                  <a:pt x="405" y="545"/>
                </a:lnTo>
                <a:lnTo>
                  <a:pt x="413" y="541"/>
                </a:lnTo>
                <a:lnTo>
                  <a:pt x="423" y="537"/>
                </a:lnTo>
                <a:lnTo>
                  <a:pt x="432" y="535"/>
                </a:lnTo>
                <a:lnTo>
                  <a:pt x="444" y="532"/>
                </a:lnTo>
                <a:lnTo>
                  <a:pt x="455" y="528"/>
                </a:lnTo>
                <a:lnTo>
                  <a:pt x="467" y="524"/>
                </a:lnTo>
                <a:lnTo>
                  <a:pt x="480" y="520"/>
                </a:lnTo>
                <a:lnTo>
                  <a:pt x="494" y="514"/>
                </a:lnTo>
                <a:lnTo>
                  <a:pt x="507" y="510"/>
                </a:lnTo>
                <a:lnTo>
                  <a:pt x="523" y="505"/>
                </a:lnTo>
                <a:lnTo>
                  <a:pt x="540" y="501"/>
                </a:lnTo>
                <a:lnTo>
                  <a:pt x="555" y="495"/>
                </a:lnTo>
                <a:lnTo>
                  <a:pt x="574" y="489"/>
                </a:lnTo>
                <a:lnTo>
                  <a:pt x="592" y="484"/>
                </a:lnTo>
                <a:lnTo>
                  <a:pt x="611" y="476"/>
                </a:lnTo>
                <a:lnTo>
                  <a:pt x="630" y="470"/>
                </a:lnTo>
                <a:lnTo>
                  <a:pt x="651" y="464"/>
                </a:lnTo>
                <a:lnTo>
                  <a:pt x="672" y="457"/>
                </a:lnTo>
                <a:lnTo>
                  <a:pt x="695" y="449"/>
                </a:lnTo>
                <a:lnTo>
                  <a:pt x="718" y="441"/>
                </a:lnTo>
                <a:lnTo>
                  <a:pt x="741" y="434"/>
                </a:lnTo>
                <a:lnTo>
                  <a:pt x="766" y="426"/>
                </a:lnTo>
                <a:lnTo>
                  <a:pt x="791" y="418"/>
                </a:lnTo>
                <a:lnTo>
                  <a:pt x="816" y="409"/>
                </a:lnTo>
                <a:lnTo>
                  <a:pt x="843" y="401"/>
                </a:lnTo>
                <a:lnTo>
                  <a:pt x="870" y="391"/>
                </a:lnTo>
                <a:lnTo>
                  <a:pt x="899" y="382"/>
                </a:lnTo>
                <a:lnTo>
                  <a:pt x="926" y="372"/>
                </a:lnTo>
                <a:lnTo>
                  <a:pt x="956" y="363"/>
                </a:lnTo>
                <a:lnTo>
                  <a:pt x="985" y="353"/>
                </a:lnTo>
                <a:lnTo>
                  <a:pt x="1016" y="342"/>
                </a:lnTo>
                <a:lnTo>
                  <a:pt x="1048" y="332"/>
                </a:lnTo>
                <a:lnTo>
                  <a:pt x="1048" y="366"/>
                </a:lnTo>
                <a:lnTo>
                  <a:pt x="1048" y="403"/>
                </a:lnTo>
                <a:lnTo>
                  <a:pt x="1045" y="405"/>
                </a:lnTo>
                <a:lnTo>
                  <a:pt x="1041" y="409"/>
                </a:lnTo>
                <a:lnTo>
                  <a:pt x="1035" y="411"/>
                </a:lnTo>
                <a:lnTo>
                  <a:pt x="1029" y="414"/>
                </a:lnTo>
                <a:lnTo>
                  <a:pt x="1023" y="418"/>
                </a:lnTo>
                <a:lnTo>
                  <a:pt x="1016" y="422"/>
                </a:lnTo>
                <a:lnTo>
                  <a:pt x="1008" y="428"/>
                </a:lnTo>
                <a:lnTo>
                  <a:pt x="1000" y="432"/>
                </a:lnTo>
                <a:lnTo>
                  <a:pt x="991" y="436"/>
                </a:lnTo>
                <a:lnTo>
                  <a:pt x="981" y="441"/>
                </a:lnTo>
                <a:lnTo>
                  <a:pt x="972" y="447"/>
                </a:lnTo>
                <a:lnTo>
                  <a:pt x="960" y="453"/>
                </a:lnTo>
                <a:lnTo>
                  <a:pt x="949" y="459"/>
                </a:lnTo>
                <a:lnTo>
                  <a:pt x="937" y="464"/>
                </a:lnTo>
                <a:lnTo>
                  <a:pt x="926" y="470"/>
                </a:lnTo>
                <a:lnTo>
                  <a:pt x="912" y="478"/>
                </a:lnTo>
                <a:lnTo>
                  <a:pt x="897" y="485"/>
                </a:lnTo>
                <a:lnTo>
                  <a:pt x="883" y="493"/>
                </a:lnTo>
                <a:lnTo>
                  <a:pt x="868" y="501"/>
                </a:lnTo>
                <a:lnTo>
                  <a:pt x="851" y="508"/>
                </a:lnTo>
                <a:lnTo>
                  <a:pt x="835" y="516"/>
                </a:lnTo>
                <a:lnTo>
                  <a:pt x="818" y="524"/>
                </a:lnTo>
                <a:lnTo>
                  <a:pt x="801" y="533"/>
                </a:lnTo>
                <a:lnTo>
                  <a:pt x="782" y="543"/>
                </a:lnTo>
                <a:lnTo>
                  <a:pt x="762" y="553"/>
                </a:lnTo>
                <a:lnTo>
                  <a:pt x="743" y="562"/>
                </a:lnTo>
                <a:lnTo>
                  <a:pt x="722" y="572"/>
                </a:lnTo>
                <a:lnTo>
                  <a:pt x="701" y="583"/>
                </a:lnTo>
                <a:lnTo>
                  <a:pt x="680" y="595"/>
                </a:lnTo>
                <a:lnTo>
                  <a:pt x="657" y="604"/>
                </a:lnTo>
                <a:lnTo>
                  <a:pt x="636" y="618"/>
                </a:lnTo>
                <a:lnTo>
                  <a:pt x="611" y="629"/>
                </a:lnTo>
                <a:lnTo>
                  <a:pt x="588" y="641"/>
                </a:lnTo>
                <a:lnTo>
                  <a:pt x="565" y="652"/>
                </a:lnTo>
                <a:lnTo>
                  <a:pt x="544" y="664"/>
                </a:lnTo>
                <a:lnTo>
                  <a:pt x="523" y="675"/>
                </a:lnTo>
                <a:lnTo>
                  <a:pt x="501" y="685"/>
                </a:lnTo>
                <a:lnTo>
                  <a:pt x="480" y="697"/>
                </a:lnTo>
                <a:lnTo>
                  <a:pt x="461" y="706"/>
                </a:lnTo>
                <a:lnTo>
                  <a:pt x="444" y="716"/>
                </a:lnTo>
                <a:lnTo>
                  <a:pt x="425" y="725"/>
                </a:lnTo>
                <a:lnTo>
                  <a:pt x="407" y="733"/>
                </a:lnTo>
                <a:lnTo>
                  <a:pt x="392" y="743"/>
                </a:lnTo>
                <a:lnTo>
                  <a:pt x="375" y="750"/>
                </a:lnTo>
                <a:lnTo>
                  <a:pt x="359" y="760"/>
                </a:lnTo>
                <a:lnTo>
                  <a:pt x="346" y="768"/>
                </a:lnTo>
                <a:lnTo>
                  <a:pt x="332" y="775"/>
                </a:lnTo>
                <a:lnTo>
                  <a:pt x="319" y="781"/>
                </a:lnTo>
                <a:lnTo>
                  <a:pt x="306" y="789"/>
                </a:lnTo>
                <a:lnTo>
                  <a:pt x="294" y="796"/>
                </a:lnTo>
                <a:lnTo>
                  <a:pt x="283" y="802"/>
                </a:lnTo>
                <a:lnTo>
                  <a:pt x="273" y="810"/>
                </a:lnTo>
                <a:lnTo>
                  <a:pt x="263" y="816"/>
                </a:lnTo>
                <a:lnTo>
                  <a:pt x="254" y="821"/>
                </a:lnTo>
                <a:lnTo>
                  <a:pt x="246" y="827"/>
                </a:lnTo>
                <a:lnTo>
                  <a:pt x="237" y="833"/>
                </a:lnTo>
                <a:lnTo>
                  <a:pt x="231" y="839"/>
                </a:lnTo>
                <a:lnTo>
                  <a:pt x="223" y="842"/>
                </a:lnTo>
                <a:lnTo>
                  <a:pt x="217" y="848"/>
                </a:lnTo>
                <a:lnTo>
                  <a:pt x="213" y="852"/>
                </a:lnTo>
                <a:lnTo>
                  <a:pt x="208" y="858"/>
                </a:lnTo>
                <a:lnTo>
                  <a:pt x="204" y="862"/>
                </a:lnTo>
                <a:lnTo>
                  <a:pt x="202" y="866"/>
                </a:lnTo>
                <a:lnTo>
                  <a:pt x="198" y="8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2"/>
          <p:cNvSpPr/>
          <p:nvPr/>
        </p:nvSpPr>
        <p:spPr>
          <a:xfrm>
            <a:off x="5900760" y="3046320"/>
            <a:ext cx="223920" cy="1162080"/>
          </a:xfrm>
          <a:custGeom>
            <a:avLst/>
            <a:gdLst/>
            <a:ahLst/>
            <a:rect l="l" t="t" r="r" b="b"/>
            <a:pathLst>
              <a:path w="282" h="1464">
                <a:moveTo>
                  <a:pt x="234" y="1422"/>
                </a:moveTo>
                <a:lnTo>
                  <a:pt x="167" y="1443"/>
                </a:lnTo>
                <a:lnTo>
                  <a:pt x="100" y="1464"/>
                </a:lnTo>
                <a:lnTo>
                  <a:pt x="100" y="1418"/>
                </a:lnTo>
                <a:lnTo>
                  <a:pt x="98" y="1372"/>
                </a:lnTo>
                <a:lnTo>
                  <a:pt x="98" y="1328"/>
                </a:lnTo>
                <a:lnTo>
                  <a:pt x="96" y="1286"/>
                </a:lnTo>
                <a:lnTo>
                  <a:pt x="96" y="1244"/>
                </a:lnTo>
                <a:lnTo>
                  <a:pt x="94" y="1201"/>
                </a:lnTo>
                <a:lnTo>
                  <a:pt x="94" y="1161"/>
                </a:lnTo>
                <a:lnTo>
                  <a:pt x="94" y="1121"/>
                </a:lnTo>
                <a:lnTo>
                  <a:pt x="92" y="1082"/>
                </a:lnTo>
                <a:lnTo>
                  <a:pt x="92" y="1044"/>
                </a:lnTo>
                <a:lnTo>
                  <a:pt x="90" y="1008"/>
                </a:lnTo>
                <a:lnTo>
                  <a:pt x="90" y="971"/>
                </a:lnTo>
                <a:lnTo>
                  <a:pt x="90" y="937"/>
                </a:lnTo>
                <a:lnTo>
                  <a:pt x="90" y="902"/>
                </a:lnTo>
                <a:lnTo>
                  <a:pt x="88" y="867"/>
                </a:lnTo>
                <a:lnTo>
                  <a:pt x="88" y="835"/>
                </a:lnTo>
                <a:lnTo>
                  <a:pt x="88" y="804"/>
                </a:lnTo>
                <a:lnTo>
                  <a:pt x="86" y="773"/>
                </a:lnTo>
                <a:lnTo>
                  <a:pt x="86" y="743"/>
                </a:lnTo>
                <a:lnTo>
                  <a:pt x="86" y="714"/>
                </a:lnTo>
                <a:lnTo>
                  <a:pt x="85" y="685"/>
                </a:lnTo>
                <a:lnTo>
                  <a:pt x="85" y="658"/>
                </a:lnTo>
                <a:lnTo>
                  <a:pt x="85" y="631"/>
                </a:lnTo>
                <a:lnTo>
                  <a:pt x="83" y="606"/>
                </a:lnTo>
                <a:lnTo>
                  <a:pt x="83" y="581"/>
                </a:lnTo>
                <a:lnTo>
                  <a:pt x="81" y="557"/>
                </a:lnTo>
                <a:lnTo>
                  <a:pt x="81" y="533"/>
                </a:lnTo>
                <a:lnTo>
                  <a:pt x="81" y="510"/>
                </a:lnTo>
                <a:lnTo>
                  <a:pt x="79" y="489"/>
                </a:lnTo>
                <a:lnTo>
                  <a:pt x="79" y="468"/>
                </a:lnTo>
                <a:lnTo>
                  <a:pt x="77" y="449"/>
                </a:lnTo>
                <a:lnTo>
                  <a:pt x="77" y="430"/>
                </a:lnTo>
                <a:lnTo>
                  <a:pt x="75" y="413"/>
                </a:lnTo>
                <a:lnTo>
                  <a:pt x="73" y="393"/>
                </a:lnTo>
                <a:lnTo>
                  <a:pt x="73" y="376"/>
                </a:lnTo>
                <a:lnTo>
                  <a:pt x="71" y="361"/>
                </a:lnTo>
                <a:lnTo>
                  <a:pt x="71" y="343"/>
                </a:lnTo>
                <a:lnTo>
                  <a:pt x="69" y="328"/>
                </a:lnTo>
                <a:lnTo>
                  <a:pt x="67" y="313"/>
                </a:lnTo>
                <a:lnTo>
                  <a:pt x="67" y="297"/>
                </a:lnTo>
                <a:lnTo>
                  <a:pt x="65" y="282"/>
                </a:lnTo>
                <a:lnTo>
                  <a:pt x="63" y="269"/>
                </a:lnTo>
                <a:lnTo>
                  <a:pt x="61" y="242"/>
                </a:lnTo>
                <a:lnTo>
                  <a:pt x="60" y="217"/>
                </a:lnTo>
                <a:lnTo>
                  <a:pt x="56" y="196"/>
                </a:lnTo>
                <a:lnTo>
                  <a:pt x="54" y="175"/>
                </a:lnTo>
                <a:lnTo>
                  <a:pt x="50" y="155"/>
                </a:lnTo>
                <a:lnTo>
                  <a:pt x="46" y="138"/>
                </a:lnTo>
                <a:lnTo>
                  <a:pt x="44" y="121"/>
                </a:lnTo>
                <a:lnTo>
                  <a:pt x="40" y="107"/>
                </a:lnTo>
                <a:lnTo>
                  <a:pt x="37" y="96"/>
                </a:lnTo>
                <a:lnTo>
                  <a:pt x="33" y="84"/>
                </a:lnTo>
                <a:lnTo>
                  <a:pt x="27" y="77"/>
                </a:lnTo>
                <a:lnTo>
                  <a:pt x="21" y="71"/>
                </a:lnTo>
                <a:lnTo>
                  <a:pt x="15" y="65"/>
                </a:lnTo>
                <a:lnTo>
                  <a:pt x="12" y="59"/>
                </a:lnTo>
                <a:lnTo>
                  <a:pt x="8" y="56"/>
                </a:lnTo>
                <a:lnTo>
                  <a:pt x="4" y="50"/>
                </a:lnTo>
                <a:lnTo>
                  <a:pt x="2" y="44"/>
                </a:lnTo>
                <a:lnTo>
                  <a:pt x="0" y="40"/>
                </a:lnTo>
                <a:lnTo>
                  <a:pt x="0" y="34"/>
                </a:lnTo>
                <a:lnTo>
                  <a:pt x="0" y="31"/>
                </a:lnTo>
                <a:lnTo>
                  <a:pt x="2" y="27"/>
                </a:lnTo>
                <a:lnTo>
                  <a:pt x="4" y="23"/>
                </a:lnTo>
                <a:lnTo>
                  <a:pt x="8" y="19"/>
                </a:lnTo>
                <a:lnTo>
                  <a:pt x="12" y="15"/>
                </a:lnTo>
                <a:lnTo>
                  <a:pt x="15" y="11"/>
                </a:lnTo>
                <a:lnTo>
                  <a:pt x="21" y="8"/>
                </a:lnTo>
                <a:lnTo>
                  <a:pt x="27" y="6"/>
                </a:lnTo>
                <a:lnTo>
                  <a:pt x="33" y="4"/>
                </a:lnTo>
                <a:lnTo>
                  <a:pt x="38" y="2"/>
                </a:lnTo>
                <a:lnTo>
                  <a:pt x="44" y="0"/>
                </a:lnTo>
                <a:lnTo>
                  <a:pt x="50" y="0"/>
                </a:lnTo>
                <a:lnTo>
                  <a:pt x="58" y="0"/>
                </a:lnTo>
                <a:lnTo>
                  <a:pt x="65" y="0"/>
                </a:lnTo>
                <a:lnTo>
                  <a:pt x="73" y="2"/>
                </a:lnTo>
                <a:lnTo>
                  <a:pt x="83" y="4"/>
                </a:lnTo>
                <a:lnTo>
                  <a:pt x="92" y="6"/>
                </a:lnTo>
                <a:lnTo>
                  <a:pt x="102" y="8"/>
                </a:lnTo>
                <a:lnTo>
                  <a:pt x="111" y="11"/>
                </a:lnTo>
                <a:lnTo>
                  <a:pt x="123" y="15"/>
                </a:lnTo>
                <a:lnTo>
                  <a:pt x="134" y="19"/>
                </a:lnTo>
                <a:lnTo>
                  <a:pt x="148" y="23"/>
                </a:lnTo>
                <a:lnTo>
                  <a:pt x="159" y="29"/>
                </a:lnTo>
                <a:lnTo>
                  <a:pt x="173" y="34"/>
                </a:lnTo>
                <a:lnTo>
                  <a:pt x="184" y="42"/>
                </a:lnTo>
                <a:lnTo>
                  <a:pt x="194" y="50"/>
                </a:lnTo>
                <a:lnTo>
                  <a:pt x="205" y="56"/>
                </a:lnTo>
                <a:lnTo>
                  <a:pt x="213" y="63"/>
                </a:lnTo>
                <a:lnTo>
                  <a:pt x="223" y="69"/>
                </a:lnTo>
                <a:lnTo>
                  <a:pt x="230" y="75"/>
                </a:lnTo>
                <a:lnTo>
                  <a:pt x="238" y="82"/>
                </a:lnTo>
                <a:lnTo>
                  <a:pt x="246" y="86"/>
                </a:lnTo>
                <a:lnTo>
                  <a:pt x="252" y="92"/>
                </a:lnTo>
                <a:lnTo>
                  <a:pt x="259" y="98"/>
                </a:lnTo>
                <a:lnTo>
                  <a:pt x="263" y="102"/>
                </a:lnTo>
                <a:lnTo>
                  <a:pt x="269" y="105"/>
                </a:lnTo>
                <a:lnTo>
                  <a:pt x="273" y="109"/>
                </a:lnTo>
                <a:lnTo>
                  <a:pt x="276" y="113"/>
                </a:lnTo>
                <a:lnTo>
                  <a:pt x="280" y="115"/>
                </a:lnTo>
                <a:lnTo>
                  <a:pt x="282" y="119"/>
                </a:lnTo>
                <a:lnTo>
                  <a:pt x="282" y="130"/>
                </a:lnTo>
                <a:lnTo>
                  <a:pt x="282" y="142"/>
                </a:lnTo>
                <a:lnTo>
                  <a:pt x="282" y="157"/>
                </a:lnTo>
                <a:lnTo>
                  <a:pt x="280" y="171"/>
                </a:lnTo>
                <a:lnTo>
                  <a:pt x="278" y="188"/>
                </a:lnTo>
                <a:lnTo>
                  <a:pt x="276" y="207"/>
                </a:lnTo>
                <a:lnTo>
                  <a:pt x="275" y="226"/>
                </a:lnTo>
                <a:lnTo>
                  <a:pt x="271" y="246"/>
                </a:lnTo>
                <a:lnTo>
                  <a:pt x="269" y="253"/>
                </a:lnTo>
                <a:lnTo>
                  <a:pt x="269" y="263"/>
                </a:lnTo>
                <a:lnTo>
                  <a:pt x="267" y="274"/>
                </a:lnTo>
                <a:lnTo>
                  <a:pt x="265" y="288"/>
                </a:lnTo>
                <a:lnTo>
                  <a:pt x="265" y="303"/>
                </a:lnTo>
                <a:lnTo>
                  <a:pt x="263" y="319"/>
                </a:lnTo>
                <a:lnTo>
                  <a:pt x="263" y="338"/>
                </a:lnTo>
                <a:lnTo>
                  <a:pt x="261" y="359"/>
                </a:lnTo>
                <a:lnTo>
                  <a:pt x="259" y="380"/>
                </a:lnTo>
                <a:lnTo>
                  <a:pt x="259" y="405"/>
                </a:lnTo>
                <a:lnTo>
                  <a:pt x="257" y="430"/>
                </a:lnTo>
                <a:lnTo>
                  <a:pt x="257" y="459"/>
                </a:lnTo>
                <a:lnTo>
                  <a:pt x="255" y="489"/>
                </a:lnTo>
                <a:lnTo>
                  <a:pt x="253" y="520"/>
                </a:lnTo>
                <a:lnTo>
                  <a:pt x="253" y="555"/>
                </a:lnTo>
                <a:lnTo>
                  <a:pt x="252" y="589"/>
                </a:lnTo>
                <a:lnTo>
                  <a:pt x="252" y="628"/>
                </a:lnTo>
                <a:lnTo>
                  <a:pt x="250" y="647"/>
                </a:lnTo>
                <a:lnTo>
                  <a:pt x="250" y="666"/>
                </a:lnTo>
                <a:lnTo>
                  <a:pt x="250" y="687"/>
                </a:lnTo>
                <a:lnTo>
                  <a:pt x="248" y="708"/>
                </a:lnTo>
                <a:lnTo>
                  <a:pt x="248" y="729"/>
                </a:lnTo>
                <a:lnTo>
                  <a:pt x="248" y="750"/>
                </a:lnTo>
                <a:lnTo>
                  <a:pt x="248" y="773"/>
                </a:lnTo>
                <a:lnTo>
                  <a:pt x="246" y="796"/>
                </a:lnTo>
                <a:lnTo>
                  <a:pt x="246" y="819"/>
                </a:lnTo>
                <a:lnTo>
                  <a:pt x="246" y="843"/>
                </a:lnTo>
                <a:lnTo>
                  <a:pt x="244" y="867"/>
                </a:lnTo>
                <a:lnTo>
                  <a:pt x="244" y="892"/>
                </a:lnTo>
                <a:lnTo>
                  <a:pt x="244" y="917"/>
                </a:lnTo>
                <a:lnTo>
                  <a:pt x="242" y="942"/>
                </a:lnTo>
                <a:lnTo>
                  <a:pt x="242" y="969"/>
                </a:lnTo>
                <a:lnTo>
                  <a:pt x="242" y="996"/>
                </a:lnTo>
                <a:lnTo>
                  <a:pt x="242" y="1023"/>
                </a:lnTo>
                <a:lnTo>
                  <a:pt x="240" y="1052"/>
                </a:lnTo>
                <a:lnTo>
                  <a:pt x="240" y="1079"/>
                </a:lnTo>
                <a:lnTo>
                  <a:pt x="240" y="1107"/>
                </a:lnTo>
                <a:lnTo>
                  <a:pt x="238" y="1136"/>
                </a:lnTo>
                <a:lnTo>
                  <a:pt x="238" y="1167"/>
                </a:lnTo>
                <a:lnTo>
                  <a:pt x="238" y="1198"/>
                </a:lnTo>
                <a:lnTo>
                  <a:pt x="238" y="1228"/>
                </a:lnTo>
                <a:lnTo>
                  <a:pt x="236" y="1259"/>
                </a:lnTo>
                <a:lnTo>
                  <a:pt x="236" y="1290"/>
                </a:lnTo>
                <a:lnTo>
                  <a:pt x="236" y="1322"/>
                </a:lnTo>
                <a:lnTo>
                  <a:pt x="234" y="1355"/>
                </a:lnTo>
                <a:lnTo>
                  <a:pt x="234" y="1388"/>
                </a:lnTo>
                <a:lnTo>
                  <a:pt x="234" y="14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9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土”下横变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3"/>
          <p:cNvSpPr/>
          <p:nvPr/>
        </p:nvSpPr>
        <p:spPr>
          <a:xfrm>
            <a:off x="2092320" y="1868400"/>
            <a:ext cx="10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é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69"/>
          <p:cNvSpPr/>
          <p:nvPr/>
        </p:nvSpPr>
        <p:spPr>
          <a:xfrm>
            <a:off x="6421320" y="3814920"/>
            <a:ext cx="1366920" cy="1245960"/>
          </a:xfrm>
          <a:custGeom>
            <a:avLst/>
            <a:gdLst/>
            <a:ahLst/>
            <a:rect l="l" t="t" r="r" b="b"/>
            <a:pathLst>
              <a:path w="1724" h="1570">
                <a:moveTo>
                  <a:pt x="158" y="181"/>
                </a:moveTo>
                <a:lnTo>
                  <a:pt x="148" y="175"/>
                </a:lnTo>
                <a:lnTo>
                  <a:pt x="137" y="167"/>
                </a:lnTo>
                <a:lnTo>
                  <a:pt x="125" y="160"/>
                </a:lnTo>
                <a:lnTo>
                  <a:pt x="114" y="150"/>
                </a:lnTo>
                <a:lnTo>
                  <a:pt x="100" y="142"/>
                </a:lnTo>
                <a:lnTo>
                  <a:pt x="87" y="135"/>
                </a:lnTo>
                <a:lnTo>
                  <a:pt x="73" y="127"/>
                </a:lnTo>
                <a:lnTo>
                  <a:pt x="60" y="121"/>
                </a:lnTo>
                <a:lnTo>
                  <a:pt x="46" y="114"/>
                </a:lnTo>
                <a:lnTo>
                  <a:pt x="35" y="106"/>
                </a:lnTo>
                <a:lnTo>
                  <a:pt x="25" y="98"/>
                </a:lnTo>
                <a:lnTo>
                  <a:pt x="16" y="89"/>
                </a:lnTo>
                <a:lnTo>
                  <a:pt x="10" y="79"/>
                </a:lnTo>
                <a:lnTo>
                  <a:pt x="6" y="73"/>
                </a:lnTo>
                <a:lnTo>
                  <a:pt x="4" y="68"/>
                </a:lnTo>
                <a:lnTo>
                  <a:pt x="2" y="62"/>
                </a:lnTo>
                <a:lnTo>
                  <a:pt x="0" y="56"/>
                </a:lnTo>
                <a:lnTo>
                  <a:pt x="0" y="50"/>
                </a:lnTo>
                <a:lnTo>
                  <a:pt x="0" y="45"/>
                </a:lnTo>
                <a:lnTo>
                  <a:pt x="0" y="43"/>
                </a:lnTo>
                <a:lnTo>
                  <a:pt x="0" y="39"/>
                </a:lnTo>
                <a:lnTo>
                  <a:pt x="2" y="37"/>
                </a:lnTo>
                <a:lnTo>
                  <a:pt x="4" y="33"/>
                </a:lnTo>
                <a:lnTo>
                  <a:pt x="6" y="31"/>
                </a:lnTo>
                <a:lnTo>
                  <a:pt x="10" y="29"/>
                </a:lnTo>
                <a:lnTo>
                  <a:pt x="14" y="25"/>
                </a:lnTo>
                <a:lnTo>
                  <a:pt x="18" y="23"/>
                </a:lnTo>
                <a:lnTo>
                  <a:pt x="23" y="20"/>
                </a:lnTo>
                <a:lnTo>
                  <a:pt x="27" y="18"/>
                </a:lnTo>
                <a:lnTo>
                  <a:pt x="33" y="14"/>
                </a:lnTo>
                <a:lnTo>
                  <a:pt x="41" y="12"/>
                </a:lnTo>
                <a:lnTo>
                  <a:pt x="48" y="8"/>
                </a:lnTo>
                <a:lnTo>
                  <a:pt x="54" y="6"/>
                </a:lnTo>
                <a:lnTo>
                  <a:pt x="64" y="2"/>
                </a:lnTo>
                <a:lnTo>
                  <a:pt x="71" y="0"/>
                </a:lnTo>
                <a:lnTo>
                  <a:pt x="87" y="0"/>
                </a:lnTo>
                <a:lnTo>
                  <a:pt x="102" y="2"/>
                </a:lnTo>
                <a:lnTo>
                  <a:pt x="110" y="4"/>
                </a:lnTo>
                <a:lnTo>
                  <a:pt x="117" y="6"/>
                </a:lnTo>
                <a:lnTo>
                  <a:pt x="127" y="10"/>
                </a:lnTo>
                <a:lnTo>
                  <a:pt x="137" y="14"/>
                </a:lnTo>
                <a:lnTo>
                  <a:pt x="146" y="16"/>
                </a:lnTo>
                <a:lnTo>
                  <a:pt x="156" y="21"/>
                </a:lnTo>
                <a:lnTo>
                  <a:pt x="165" y="25"/>
                </a:lnTo>
                <a:lnTo>
                  <a:pt x="175" y="31"/>
                </a:lnTo>
                <a:lnTo>
                  <a:pt x="185" y="37"/>
                </a:lnTo>
                <a:lnTo>
                  <a:pt x="196" y="45"/>
                </a:lnTo>
                <a:lnTo>
                  <a:pt x="206" y="52"/>
                </a:lnTo>
                <a:lnTo>
                  <a:pt x="217" y="60"/>
                </a:lnTo>
                <a:lnTo>
                  <a:pt x="229" y="69"/>
                </a:lnTo>
                <a:lnTo>
                  <a:pt x="240" y="81"/>
                </a:lnTo>
                <a:lnTo>
                  <a:pt x="254" y="92"/>
                </a:lnTo>
                <a:lnTo>
                  <a:pt x="265" y="106"/>
                </a:lnTo>
                <a:lnTo>
                  <a:pt x="279" y="119"/>
                </a:lnTo>
                <a:lnTo>
                  <a:pt x="292" y="137"/>
                </a:lnTo>
                <a:lnTo>
                  <a:pt x="307" y="154"/>
                </a:lnTo>
                <a:lnTo>
                  <a:pt x="321" y="173"/>
                </a:lnTo>
                <a:lnTo>
                  <a:pt x="336" y="194"/>
                </a:lnTo>
                <a:lnTo>
                  <a:pt x="352" y="215"/>
                </a:lnTo>
                <a:lnTo>
                  <a:pt x="369" y="238"/>
                </a:lnTo>
                <a:lnTo>
                  <a:pt x="386" y="263"/>
                </a:lnTo>
                <a:lnTo>
                  <a:pt x="403" y="288"/>
                </a:lnTo>
                <a:lnTo>
                  <a:pt x="423" y="317"/>
                </a:lnTo>
                <a:lnTo>
                  <a:pt x="440" y="346"/>
                </a:lnTo>
                <a:lnTo>
                  <a:pt x="461" y="377"/>
                </a:lnTo>
                <a:lnTo>
                  <a:pt x="478" y="409"/>
                </a:lnTo>
                <a:lnTo>
                  <a:pt x="497" y="444"/>
                </a:lnTo>
                <a:lnTo>
                  <a:pt x="519" y="478"/>
                </a:lnTo>
                <a:lnTo>
                  <a:pt x="540" y="511"/>
                </a:lnTo>
                <a:lnTo>
                  <a:pt x="563" y="545"/>
                </a:lnTo>
                <a:lnTo>
                  <a:pt x="586" y="578"/>
                </a:lnTo>
                <a:lnTo>
                  <a:pt x="611" y="611"/>
                </a:lnTo>
                <a:lnTo>
                  <a:pt x="636" y="645"/>
                </a:lnTo>
                <a:lnTo>
                  <a:pt x="661" y="678"/>
                </a:lnTo>
                <a:lnTo>
                  <a:pt x="689" y="711"/>
                </a:lnTo>
                <a:lnTo>
                  <a:pt x="716" y="743"/>
                </a:lnTo>
                <a:lnTo>
                  <a:pt x="747" y="776"/>
                </a:lnTo>
                <a:lnTo>
                  <a:pt x="776" y="808"/>
                </a:lnTo>
                <a:lnTo>
                  <a:pt x="808" y="839"/>
                </a:lnTo>
                <a:lnTo>
                  <a:pt x="839" y="872"/>
                </a:lnTo>
                <a:lnTo>
                  <a:pt x="874" y="902"/>
                </a:lnTo>
                <a:lnTo>
                  <a:pt x="906" y="933"/>
                </a:lnTo>
                <a:lnTo>
                  <a:pt x="941" y="964"/>
                </a:lnTo>
                <a:lnTo>
                  <a:pt x="975" y="993"/>
                </a:lnTo>
                <a:lnTo>
                  <a:pt x="1010" y="1021"/>
                </a:lnTo>
                <a:lnTo>
                  <a:pt x="1044" y="1048"/>
                </a:lnTo>
                <a:lnTo>
                  <a:pt x="1079" y="1075"/>
                </a:lnTo>
                <a:lnTo>
                  <a:pt x="1114" y="1100"/>
                </a:lnTo>
                <a:lnTo>
                  <a:pt x="1148" y="1125"/>
                </a:lnTo>
                <a:lnTo>
                  <a:pt x="1183" y="1148"/>
                </a:lnTo>
                <a:lnTo>
                  <a:pt x="1217" y="1171"/>
                </a:lnTo>
                <a:lnTo>
                  <a:pt x="1252" y="1192"/>
                </a:lnTo>
                <a:lnTo>
                  <a:pt x="1288" y="1212"/>
                </a:lnTo>
                <a:lnTo>
                  <a:pt x="1323" y="1231"/>
                </a:lnTo>
                <a:lnTo>
                  <a:pt x="1359" y="1248"/>
                </a:lnTo>
                <a:lnTo>
                  <a:pt x="1396" y="1263"/>
                </a:lnTo>
                <a:lnTo>
                  <a:pt x="1432" y="1279"/>
                </a:lnTo>
                <a:lnTo>
                  <a:pt x="1449" y="1286"/>
                </a:lnTo>
                <a:lnTo>
                  <a:pt x="1467" y="1294"/>
                </a:lnTo>
                <a:lnTo>
                  <a:pt x="1484" y="1300"/>
                </a:lnTo>
                <a:lnTo>
                  <a:pt x="1499" y="1307"/>
                </a:lnTo>
                <a:lnTo>
                  <a:pt x="1515" y="1313"/>
                </a:lnTo>
                <a:lnTo>
                  <a:pt x="1530" y="1321"/>
                </a:lnTo>
                <a:lnTo>
                  <a:pt x="1545" y="1327"/>
                </a:lnTo>
                <a:lnTo>
                  <a:pt x="1559" y="1332"/>
                </a:lnTo>
                <a:lnTo>
                  <a:pt x="1572" y="1340"/>
                </a:lnTo>
                <a:lnTo>
                  <a:pt x="1586" y="1346"/>
                </a:lnTo>
                <a:lnTo>
                  <a:pt x="1597" y="1352"/>
                </a:lnTo>
                <a:lnTo>
                  <a:pt x="1609" y="1357"/>
                </a:lnTo>
                <a:lnTo>
                  <a:pt x="1620" y="1363"/>
                </a:lnTo>
                <a:lnTo>
                  <a:pt x="1630" y="1369"/>
                </a:lnTo>
                <a:lnTo>
                  <a:pt x="1641" y="1375"/>
                </a:lnTo>
                <a:lnTo>
                  <a:pt x="1649" y="1379"/>
                </a:lnTo>
                <a:lnTo>
                  <a:pt x="1659" y="1384"/>
                </a:lnTo>
                <a:lnTo>
                  <a:pt x="1666" y="1390"/>
                </a:lnTo>
                <a:lnTo>
                  <a:pt x="1674" y="1394"/>
                </a:lnTo>
                <a:lnTo>
                  <a:pt x="1682" y="1400"/>
                </a:lnTo>
                <a:lnTo>
                  <a:pt x="1687" y="1403"/>
                </a:lnTo>
                <a:lnTo>
                  <a:pt x="1695" y="1409"/>
                </a:lnTo>
                <a:lnTo>
                  <a:pt x="1699" y="1413"/>
                </a:lnTo>
                <a:lnTo>
                  <a:pt x="1705" y="1417"/>
                </a:lnTo>
                <a:lnTo>
                  <a:pt x="1709" y="1421"/>
                </a:lnTo>
                <a:lnTo>
                  <a:pt x="1712" y="1425"/>
                </a:lnTo>
                <a:lnTo>
                  <a:pt x="1716" y="1428"/>
                </a:lnTo>
                <a:lnTo>
                  <a:pt x="1718" y="1432"/>
                </a:lnTo>
                <a:lnTo>
                  <a:pt x="1720" y="1436"/>
                </a:lnTo>
                <a:lnTo>
                  <a:pt x="1722" y="1438"/>
                </a:lnTo>
                <a:lnTo>
                  <a:pt x="1722" y="1442"/>
                </a:lnTo>
                <a:lnTo>
                  <a:pt x="1724" y="1446"/>
                </a:lnTo>
                <a:lnTo>
                  <a:pt x="1722" y="1453"/>
                </a:lnTo>
                <a:lnTo>
                  <a:pt x="1720" y="1461"/>
                </a:lnTo>
                <a:lnTo>
                  <a:pt x="1716" y="1469"/>
                </a:lnTo>
                <a:lnTo>
                  <a:pt x="1709" y="1476"/>
                </a:lnTo>
                <a:lnTo>
                  <a:pt x="1703" y="1482"/>
                </a:lnTo>
                <a:lnTo>
                  <a:pt x="1693" y="1490"/>
                </a:lnTo>
                <a:lnTo>
                  <a:pt x="1682" y="1496"/>
                </a:lnTo>
                <a:lnTo>
                  <a:pt x="1670" y="1501"/>
                </a:lnTo>
                <a:lnTo>
                  <a:pt x="1657" y="1507"/>
                </a:lnTo>
                <a:lnTo>
                  <a:pt x="1641" y="1511"/>
                </a:lnTo>
                <a:lnTo>
                  <a:pt x="1624" y="1517"/>
                </a:lnTo>
                <a:lnTo>
                  <a:pt x="1605" y="1521"/>
                </a:lnTo>
                <a:lnTo>
                  <a:pt x="1586" y="1524"/>
                </a:lnTo>
                <a:lnTo>
                  <a:pt x="1565" y="1528"/>
                </a:lnTo>
                <a:lnTo>
                  <a:pt x="1542" y="1532"/>
                </a:lnTo>
                <a:lnTo>
                  <a:pt x="1517" y="1536"/>
                </a:lnTo>
                <a:lnTo>
                  <a:pt x="1492" y="1540"/>
                </a:lnTo>
                <a:lnTo>
                  <a:pt x="1469" y="1545"/>
                </a:lnTo>
                <a:lnTo>
                  <a:pt x="1444" y="1551"/>
                </a:lnTo>
                <a:lnTo>
                  <a:pt x="1421" y="1555"/>
                </a:lnTo>
                <a:lnTo>
                  <a:pt x="1400" y="1559"/>
                </a:lnTo>
                <a:lnTo>
                  <a:pt x="1377" y="1563"/>
                </a:lnTo>
                <a:lnTo>
                  <a:pt x="1355" y="1565"/>
                </a:lnTo>
                <a:lnTo>
                  <a:pt x="1334" y="1567"/>
                </a:lnTo>
                <a:lnTo>
                  <a:pt x="1315" y="1569"/>
                </a:lnTo>
                <a:lnTo>
                  <a:pt x="1294" y="1570"/>
                </a:lnTo>
                <a:lnTo>
                  <a:pt x="1275" y="1570"/>
                </a:lnTo>
                <a:lnTo>
                  <a:pt x="1258" y="1570"/>
                </a:lnTo>
                <a:lnTo>
                  <a:pt x="1240" y="1570"/>
                </a:lnTo>
                <a:lnTo>
                  <a:pt x="1221" y="1570"/>
                </a:lnTo>
                <a:lnTo>
                  <a:pt x="1206" y="1569"/>
                </a:lnTo>
                <a:lnTo>
                  <a:pt x="1188" y="1565"/>
                </a:lnTo>
                <a:lnTo>
                  <a:pt x="1181" y="1563"/>
                </a:lnTo>
                <a:lnTo>
                  <a:pt x="1173" y="1561"/>
                </a:lnTo>
                <a:lnTo>
                  <a:pt x="1163" y="1559"/>
                </a:lnTo>
                <a:lnTo>
                  <a:pt x="1156" y="1555"/>
                </a:lnTo>
                <a:lnTo>
                  <a:pt x="1148" y="1551"/>
                </a:lnTo>
                <a:lnTo>
                  <a:pt x="1139" y="1547"/>
                </a:lnTo>
                <a:lnTo>
                  <a:pt x="1129" y="1542"/>
                </a:lnTo>
                <a:lnTo>
                  <a:pt x="1121" y="1538"/>
                </a:lnTo>
                <a:lnTo>
                  <a:pt x="1112" y="1532"/>
                </a:lnTo>
                <a:lnTo>
                  <a:pt x="1102" y="1524"/>
                </a:lnTo>
                <a:lnTo>
                  <a:pt x="1092" y="1519"/>
                </a:lnTo>
                <a:lnTo>
                  <a:pt x="1083" y="1511"/>
                </a:lnTo>
                <a:lnTo>
                  <a:pt x="1073" y="1501"/>
                </a:lnTo>
                <a:lnTo>
                  <a:pt x="1064" y="1494"/>
                </a:lnTo>
                <a:lnTo>
                  <a:pt x="1052" y="1484"/>
                </a:lnTo>
                <a:lnTo>
                  <a:pt x="1043" y="1474"/>
                </a:lnTo>
                <a:lnTo>
                  <a:pt x="1033" y="1465"/>
                </a:lnTo>
                <a:lnTo>
                  <a:pt x="1021" y="1455"/>
                </a:lnTo>
                <a:lnTo>
                  <a:pt x="1012" y="1444"/>
                </a:lnTo>
                <a:lnTo>
                  <a:pt x="1000" y="1432"/>
                </a:lnTo>
                <a:lnTo>
                  <a:pt x="989" y="1419"/>
                </a:lnTo>
                <a:lnTo>
                  <a:pt x="979" y="1407"/>
                </a:lnTo>
                <a:lnTo>
                  <a:pt x="968" y="1394"/>
                </a:lnTo>
                <a:lnTo>
                  <a:pt x="956" y="1379"/>
                </a:lnTo>
                <a:lnTo>
                  <a:pt x="945" y="1365"/>
                </a:lnTo>
                <a:lnTo>
                  <a:pt x="933" y="1350"/>
                </a:lnTo>
                <a:lnTo>
                  <a:pt x="922" y="1334"/>
                </a:lnTo>
                <a:lnTo>
                  <a:pt x="910" y="1319"/>
                </a:lnTo>
                <a:lnTo>
                  <a:pt x="899" y="1302"/>
                </a:lnTo>
                <a:lnTo>
                  <a:pt x="885" y="1284"/>
                </a:lnTo>
                <a:lnTo>
                  <a:pt x="874" y="1267"/>
                </a:lnTo>
                <a:lnTo>
                  <a:pt x="862" y="1250"/>
                </a:lnTo>
                <a:lnTo>
                  <a:pt x="810" y="1175"/>
                </a:lnTo>
                <a:lnTo>
                  <a:pt x="785" y="1137"/>
                </a:lnTo>
                <a:lnTo>
                  <a:pt x="758" y="1098"/>
                </a:lnTo>
                <a:lnTo>
                  <a:pt x="734" y="1060"/>
                </a:lnTo>
                <a:lnTo>
                  <a:pt x="707" y="1021"/>
                </a:lnTo>
                <a:lnTo>
                  <a:pt x="678" y="981"/>
                </a:lnTo>
                <a:lnTo>
                  <a:pt x="651" y="941"/>
                </a:lnTo>
                <a:lnTo>
                  <a:pt x="624" y="899"/>
                </a:lnTo>
                <a:lnTo>
                  <a:pt x="595" y="858"/>
                </a:lnTo>
                <a:lnTo>
                  <a:pt x="568" y="814"/>
                </a:lnTo>
                <a:lnTo>
                  <a:pt x="540" y="772"/>
                </a:lnTo>
                <a:lnTo>
                  <a:pt x="511" y="726"/>
                </a:lnTo>
                <a:lnTo>
                  <a:pt x="482" y="682"/>
                </a:lnTo>
                <a:lnTo>
                  <a:pt x="453" y="634"/>
                </a:lnTo>
                <a:lnTo>
                  <a:pt x="425" y="588"/>
                </a:lnTo>
                <a:lnTo>
                  <a:pt x="409" y="563"/>
                </a:lnTo>
                <a:lnTo>
                  <a:pt x="396" y="540"/>
                </a:lnTo>
                <a:lnTo>
                  <a:pt x="382" y="519"/>
                </a:lnTo>
                <a:lnTo>
                  <a:pt x="369" y="496"/>
                </a:lnTo>
                <a:lnTo>
                  <a:pt x="355" y="474"/>
                </a:lnTo>
                <a:lnTo>
                  <a:pt x="344" y="455"/>
                </a:lnTo>
                <a:lnTo>
                  <a:pt x="332" y="436"/>
                </a:lnTo>
                <a:lnTo>
                  <a:pt x="321" y="417"/>
                </a:lnTo>
                <a:lnTo>
                  <a:pt x="309" y="400"/>
                </a:lnTo>
                <a:lnTo>
                  <a:pt x="298" y="382"/>
                </a:lnTo>
                <a:lnTo>
                  <a:pt x="288" y="365"/>
                </a:lnTo>
                <a:lnTo>
                  <a:pt x="277" y="350"/>
                </a:lnTo>
                <a:lnTo>
                  <a:pt x="267" y="334"/>
                </a:lnTo>
                <a:lnTo>
                  <a:pt x="259" y="319"/>
                </a:lnTo>
                <a:lnTo>
                  <a:pt x="250" y="306"/>
                </a:lnTo>
                <a:lnTo>
                  <a:pt x="242" y="292"/>
                </a:lnTo>
                <a:lnTo>
                  <a:pt x="233" y="281"/>
                </a:lnTo>
                <a:lnTo>
                  <a:pt x="225" y="269"/>
                </a:lnTo>
                <a:lnTo>
                  <a:pt x="219" y="258"/>
                </a:lnTo>
                <a:lnTo>
                  <a:pt x="211" y="248"/>
                </a:lnTo>
                <a:lnTo>
                  <a:pt x="204" y="238"/>
                </a:lnTo>
                <a:lnTo>
                  <a:pt x="198" y="231"/>
                </a:lnTo>
                <a:lnTo>
                  <a:pt x="192" y="221"/>
                </a:lnTo>
                <a:lnTo>
                  <a:pt x="187" y="213"/>
                </a:lnTo>
                <a:lnTo>
                  <a:pt x="183" y="208"/>
                </a:lnTo>
                <a:lnTo>
                  <a:pt x="177" y="202"/>
                </a:lnTo>
                <a:lnTo>
                  <a:pt x="173" y="196"/>
                </a:lnTo>
                <a:lnTo>
                  <a:pt x="169" y="192"/>
                </a:lnTo>
                <a:lnTo>
                  <a:pt x="165" y="188"/>
                </a:lnTo>
                <a:lnTo>
                  <a:pt x="163" y="185"/>
                </a:lnTo>
                <a:lnTo>
                  <a:pt x="160" y="183"/>
                </a:lnTo>
                <a:lnTo>
                  <a:pt x="158" y="1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70"/>
          <p:cNvSpPr/>
          <p:nvPr/>
        </p:nvSpPr>
        <p:spPr>
          <a:xfrm>
            <a:off x="6149880" y="3490920"/>
            <a:ext cx="973080" cy="1454040"/>
          </a:xfrm>
          <a:custGeom>
            <a:avLst/>
            <a:gdLst/>
            <a:ahLst/>
            <a:rect l="l" t="t" r="r" b="b"/>
            <a:pathLst>
              <a:path w="1226" h="1832">
                <a:moveTo>
                  <a:pt x="1117" y="858"/>
                </a:moveTo>
                <a:lnTo>
                  <a:pt x="1113" y="881"/>
                </a:lnTo>
                <a:lnTo>
                  <a:pt x="1107" y="904"/>
                </a:lnTo>
                <a:lnTo>
                  <a:pt x="1101" y="926"/>
                </a:lnTo>
                <a:lnTo>
                  <a:pt x="1094" y="949"/>
                </a:lnTo>
                <a:lnTo>
                  <a:pt x="1088" y="972"/>
                </a:lnTo>
                <a:lnTo>
                  <a:pt x="1080" y="995"/>
                </a:lnTo>
                <a:lnTo>
                  <a:pt x="1071" y="1018"/>
                </a:lnTo>
                <a:lnTo>
                  <a:pt x="1063" y="1041"/>
                </a:lnTo>
                <a:lnTo>
                  <a:pt x="1053" y="1064"/>
                </a:lnTo>
                <a:lnTo>
                  <a:pt x="1044" y="1087"/>
                </a:lnTo>
                <a:lnTo>
                  <a:pt x="1032" y="1112"/>
                </a:lnTo>
                <a:lnTo>
                  <a:pt x="1021" y="1135"/>
                </a:lnTo>
                <a:lnTo>
                  <a:pt x="1009" y="1160"/>
                </a:lnTo>
                <a:lnTo>
                  <a:pt x="998" y="1185"/>
                </a:lnTo>
                <a:lnTo>
                  <a:pt x="984" y="1210"/>
                </a:lnTo>
                <a:lnTo>
                  <a:pt x="971" y="1235"/>
                </a:lnTo>
                <a:lnTo>
                  <a:pt x="957" y="1260"/>
                </a:lnTo>
                <a:lnTo>
                  <a:pt x="942" y="1285"/>
                </a:lnTo>
                <a:lnTo>
                  <a:pt x="927" y="1308"/>
                </a:lnTo>
                <a:lnTo>
                  <a:pt x="911" y="1331"/>
                </a:lnTo>
                <a:lnTo>
                  <a:pt x="894" y="1354"/>
                </a:lnTo>
                <a:lnTo>
                  <a:pt x="875" y="1377"/>
                </a:lnTo>
                <a:lnTo>
                  <a:pt x="856" y="1398"/>
                </a:lnTo>
                <a:lnTo>
                  <a:pt x="837" y="1419"/>
                </a:lnTo>
                <a:lnTo>
                  <a:pt x="815" y="1440"/>
                </a:lnTo>
                <a:lnTo>
                  <a:pt x="794" y="1461"/>
                </a:lnTo>
                <a:lnTo>
                  <a:pt x="773" y="1480"/>
                </a:lnTo>
                <a:lnTo>
                  <a:pt x="750" y="1501"/>
                </a:lnTo>
                <a:lnTo>
                  <a:pt x="727" y="1521"/>
                </a:lnTo>
                <a:lnTo>
                  <a:pt x="704" y="1540"/>
                </a:lnTo>
                <a:lnTo>
                  <a:pt x="681" y="1561"/>
                </a:lnTo>
                <a:lnTo>
                  <a:pt x="656" y="1580"/>
                </a:lnTo>
                <a:lnTo>
                  <a:pt x="629" y="1599"/>
                </a:lnTo>
                <a:lnTo>
                  <a:pt x="600" y="1619"/>
                </a:lnTo>
                <a:lnTo>
                  <a:pt x="574" y="1636"/>
                </a:lnTo>
                <a:lnTo>
                  <a:pt x="547" y="1653"/>
                </a:lnTo>
                <a:lnTo>
                  <a:pt x="520" y="1668"/>
                </a:lnTo>
                <a:lnTo>
                  <a:pt x="493" y="1682"/>
                </a:lnTo>
                <a:lnTo>
                  <a:pt x="464" y="1695"/>
                </a:lnTo>
                <a:lnTo>
                  <a:pt x="437" y="1709"/>
                </a:lnTo>
                <a:lnTo>
                  <a:pt x="410" y="1720"/>
                </a:lnTo>
                <a:lnTo>
                  <a:pt x="384" y="1732"/>
                </a:lnTo>
                <a:lnTo>
                  <a:pt x="355" y="1743"/>
                </a:lnTo>
                <a:lnTo>
                  <a:pt x="328" y="1755"/>
                </a:lnTo>
                <a:lnTo>
                  <a:pt x="301" y="1764"/>
                </a:lnTo>
                <a:lnTo>
                  <a:pt x="274" y="1774"/>
                </a:lnTo>
                <a:lnTo>
                  <a:pt x="218" y="1791"/>
                </a:lnTo>
                <a:lnTo>
                  <a:pt x="194" y="1799"/>
                </a:lnTo>
                <a:lnTo>
                  <a:pt x="169" y="1807"/>
                </a:lnTo>
                <a:lnTo>
                  <a:pt x="146" y="1812"/>
                </a:lnTo>
                <a:lnTo>
                  <a:pt x="124" y="1818"/>
                </a:lnTo>
                <a:lnTo>
                  <a:pt x="103" y="1822"/>
                </a:lnTo>
                <a:lnTo>
                  <a:pt x="86" y="1826"/>
                </a:lnTo>
                <a:lnTo>
                  <a:pt x="69" y="1828"/>
                </a:lnTo>
                <a:lnTo>
                  <a:pt x="55" y="1830"/>
                </a:lnTo>
                <a:lnTo>
                  <a:pt x="42" y="1830"/>
                </a:lnTo>
                <a:lnTo>
                  <a:pt x="30" y="1832"/>
                </a:lnTo>
                <a:lnTo>
                  <a:pt x="21" y="1830"/>
                </a:lnTo>
                <a:lnTo>
                  <a:pt x="13" y="1830"/>
                </a:lnTo>
                <a:lnTo>
                  <a:pt x="7" y="1828"/>
                </a:lnTo>
                <a:lnTo>
                  <a:pt x="4" y="1826"/>
                </a:lnTo>
                <a:lnTo>
                  <a:pt x="2" y="1824"/>
                </a:lnTo>
                <a:lnTo>
                  <a:pt x="0" y="1822"/>
                </a:lnTo>
                <a:lnTo>
                  <a:pt x="0" y="1820"/>
                </a:lnTo>
                <a:lnTo>
                  <a:pt x="0" y="1818"/>
                </a:lnTo>
                <a:lnTo>
                  <a:pt x="0" y="1816"/>
                </a:lnTo>
                <a:lnTo>
                  <a:pt x="0" y="1814"/>
                </a:lnTo>
                <a:lnTo>
                  <a:pt x="2" y="1810"/>
                </a:lnTo>
                <a:lnTo>
                  <a:pt x="4" y="1809"/>
                </a:lnTo>
                <a:lnTo>
                  <a:pt x="5" y="1805"/>
                </a:lnTo>
                <a:lnTo>
                  <a:pt x="9" y="1803"/>
                </a:lnTo>
                <a:lnTo>
                  <a:pt x="13" y="1799"/>
                </a:lnTo>
                <a:lnTo>
                  <a:pt x="17" y="1795"/>
                </a:lnTo>
                <a:lnTo>
                  <a:pt x="23" y="1791"/>
                </a:lnTo>
                <a:lnTo>
                  <a:pt x="27" y="1787"/>
                </a:lnTo>
                <a:lnTo>
                  <a:pt x="32" y="1782"/>
                </a:lnTo>
                <a:lnTo>
                  <a:pt x="40" y="1778"/>
                </a:lnTo>
                <a:lnTo>
                  <a:pt x="46" y="1772"/>
                </a:lnTo>
                <a:lnTo>
                  <a:pt x="53" y="1768"/>
                </a:lnTo>
                <a:lnTo>
                  <a:pt x="61" y="1762"/>
                </a:lnTo>
                <a:lnTo>
                  <a:pt x="71" y="1757"/>
                </a:lnTo>
                <a:lnTo>
                  <a:pt x="78" y="1751"/>
                </a:lnTo>
                <a:lnTo>
                  <a:pt x="88" y="1745"/>
                </a:lnTo>
                <a:lnTo>
                  <a:pt x="99" y="1738"/>
                </a:lnTo>
                <a:lnTo>
                  <a:pt x="109" y="1732"/>
                </a:lnTo>
                <a:lnTo>
                  <a:pt x="121" y="1726"/>
                </a:lnTo>
                <a:lnTo>
                  <a:pt x="132" y="1718"/>
                </a:lnTo>
                <a:lnTo>
                  <a:pt x="144" y="1711"/>
                </a:lnTo>
                <a:lnTo>
                  <a:pt x="157" y="1705"/>
                </a:lnTo>
                <a:lnTo>
                  <a:pt x="171" y="1697"/>
                </a:lnTo>
                <a:lnTo>
                  <a:pt x="184" y="1690"/>
                </a:lnTo>
                <a:lnTo>
                  <a:pt x="197" y="1680"/>
                </a:lnTo>
                <a:lnTo>
                  <a:pt x="213" y="1672"/>
                </a:lnTo>
                <a:lnTo>
                  <a:pt x="228" y="1665"/>
                </a:lnTo>
                <a:lnTo>
                  <a:pt x="243" y="1657"/>
                </a:lnTo>
                <a:lnTo>
                  <a:pt x="274" y="1640"/>
                </a:lnTo>
                <a:lnTo>
                  <a:pt x="305" y="1620"/>
                </a:lnTo>
                <a:lnTo>
                  <a:pt x="336" y="1603"/>
                </a:lnTo>
                <a:lnTo>
                  <a:pt x="364" y="1586"/>
                </a:lnTo>
                <a:lnTo>
                  <a:pt x="391" y="1567"/>
                </a:lnTo>
                <a:lnTo>
                  <a:pt x="420" y="1549"/>
                </a:lnTo>
                <a:lnTo>
                  <a:pt x="447" y="1530"/>
                </a:lnTo>
                <a:lnTo>
                  <a:pt x="472" y="1511"/>
                </a:lnTo>
                <a:lnTo>
                  <a:pt x="497" y="1492"/>
                </a:lnTo>
                <a:lnTo>
                  <a:pt x="522" y="1473"/>
                </a:lnTo>
                <a:lnTo>
                  <a:pt x="547" y="1453"/>
                </a:lnTo>
                <a:lnTo>
                  <a:pt x="570" y="1434"/>
                </a:lnTo>
                <a:lnTo>
                  <a:pt x="593" y="1415"/>
                </a:lnTo>
                <a:lnTo>
                  <a:pt x="614" y="1394"/>
                </a:lnTo>
                <a:lnTo>
                  <a:pt x="635" y="1375"/>
                </a:lnTo>
                <a:lnTo>
                  <a:pt x="656" y="1356"/>
                </a:lnTo>
                <a:lnTo>
                  <a:pt x="675" y="1334"/>
                </a:lnTo>
                <a:lnTo>
                  <a:pt x="695" y="1313"/>
                </a:lnTo>
                <a:lnTo>
                  <a:pt x="714" y="1288"/>
                </a:lnTo>
                <a:lnTo>
                  <a:pt x="733" y="1265"/>
                </a:lnTo>
                <a:lnTo>
                  <a:pt x="750" y="1238"/>
                </a:lnTo>
                <a:lnTo>
                  <a:pt x="767" y="1212"/>
                </a:lnTo>
                <a:lnTo>
                  <a:pt x="785" y="1185"/>
                </a:lnTo>
                <a:lnTo>
                  <a:pt x="802" y="1156"/>
                </a:lnTo>
                <a:lnTo>
                  <a:pt x="817" y="1125"/>
                </a:lnTo>
                <a:lnTo>
                  <a:pt x="833" y="1095"/>
                </a:lnTo>
                <a:lnTo>
                  <a:pt x="846" y="1062"/>
                </a:lnTo>
                <a:lnTo>
                  <a:pt x="861" y="1029"/>
                </a:lnTo>
                <a:lnTo>
                  <a:pt x="875" y="995"/>
                </a:lnTo>
                <a:lnTo>
                  <a:pt x="886" y="960"/>
                </a:lnTo>
                <a:lnTo>
                  <a:pt x="900" y="926"/>
                </a:lnTo>
                <a:lnTo>
                  <a:pt x="911" y="889"/>
                </a:lnTo>
                <a:lnTo>
                  <a:pt x="917" y="870"/>
                </a:lnTo>
                <a:lnTo>
                  <a:pt x="921" y="851"/>
                </a:lnTo>
                <a:lnTo>
                  <a:pt x="927" y="832"/>
                </a:lnTo>
                <a:lnTo>
                  <a:pt x="933" y="810"/>
                </a:lnTo>
                <a:lnTo>
                  <a:pt x="936" y="789"/>
                </a:lnTo>
                <a:lnTo>
                  <a:pt x="942" y="768"/>
                </a:lnTo>
                <a:lnTo>
                  <a:pt x="946" y="747"/>
                </a:lnTo>
                <a:lnTo>
                  <a:pt x="952" y="724"/>
                </a:lnTo>
                <a:lnTo>
                  <a:pt x="956" y="701"/>
                </a:lnTo>
                <a:lnTo>
                  <a:pt x="959" y="678"/>
                </a:lnTo>
                <a:lnTo>
                  <a:pt x="963" y="653"/>
                </a:lnTo>
                <a:lnTo>
                  <a:pt x="967" y="628"/>
                </a:lnTo>
                <a:lnTo>
                  <a:pt x="971" y="603"/>
                </a:lnTo>
                <a:lnTo>
                  <a:pt x="975" y="578"/>
                </a:lnTo>
                <a:lnTo>
                  <a:pt x="979" y="551"/>
                </a:lnTo>
                <a:lnTo>
                  <a:pt x="982" y="523"/>
                </a:lnTo>
                <a:lnTo>
                  <a:pt x="984" y="496"/>
                </a:lnTo>
                <a:lnTo>
                  <a:pt x="988" y="467"/>
                </a:lnTo>
                <a:lnTo>
                  <a:pt x="990" y="438"/>
                </a:lnTo>
                <a:lnTo>
                  <a:pt x="992" y="409"/>
                </a:lnTo>
                <a:lnTo>
                  <a:pt x="996" y="379"/>
                </a:lnTo>
                <a:lnTo>
                  <a:pt x="998" y="348"/>
                </a:lnTo>
                <a:lnTo>
                  <a:pt x="1000" y="315"/>
                </a:lnTo>
                <a:lnTo>
                  <a:pt x="1002" y="283"/>
                </a:lnTo>
                <a:lnTo>
                  <a:pt x="1004" y="250"/>
                </a:lnTo>
                <a:lnTo>
                  <a:pt x="1004" y="217"/>
                </a:lnTo>
                <a:lnTo>
                  <a:pt x="1005" y="183"/>
                </a:lnTo>
                <a:lnTo>
                  <a:pt x="1005" y="148"/>
                </a:lnTo>
                <a:lnTo>
                  <a:pt x="1007" y="112"/>
                </a:lnTo>
                <a:lnTo>
                  <a:pt x="1007" y="75"/>
                </a:lnTo>
                <a:lnTo>
                  <a:pt x="1007" y="39"/>
                </a:lnTo>
                <a:lnTo>
                  <a:pt x="1007" y="0"/>
                </a:lnTo>
                <a:lnTo>
                  <a:pt x="1034" y="25"/>
                </a:lnTo>
                <a:lnTo>
                  <a:pt x="1059" y="48"/>
                </a:lnTo>
                <a:lnTo>
                  <a:pt x="1082" y="71"/>
                </a:lnTo>
                <a:lnTo>
                  <a:pt x="1103" y="93"/>
                </a:lnTo>
                <a:lnTo>
                  <a:pt x="1123" y="112"/>
                </a:lnTo>
                <a:lnTo>
                  <a:pt x="1140" y="131"/>
                </a:lnTo>
                <a:lnTo>
                  <a:pt x="1157" y="146"/>
                </a:lnTo>
                <a:lnTo>
                  <a:pt x="1171" y="164"/>
                </a:lnTo>
                <a:lnTo>
                  <a:pt x="1184" y="179"/>
                </a:lnTo>
                <a:lnTo>
                  <a:pt x="1195" y="192"/>
                </a:lnTo>
                <a:lnTo>
                  <a:pt x="1205" y="206"/>
                </a:lnTo>
                <a:lnTo>
                  <a:pt x="1213" y="217"/>
                </a:lnTo>
                <a:lnTo>
                  <a:pt x="1219" y="229"/>
                </a:lnTo>
                <a:lnTo>
                  <a:pt x="1222" y="238"/>
                </a:lnTo>
                <a:lnTo>
                  <a:pt x="1226" y="248"/>
                </a:lnTo>
                <a:lnTo>
                  <a:pt x="1226" y="258"/>
                </a:lnTo>
                <a:lnTo>
                  <a:pt x="1226" y="265"/>
                </a:lnTo>
                <a:lnTo>
                  <a:pt x="1226" y="275"/>
                </a:lnTo>
                <a:lnTo>
                  <a:pt x="1224" y="285"/>
                </a:lnTo>
                <a:lnTo>
                  <a:pt x="1224" y="296"/>
                </a:lnTo>
                <a:lnTo>
                  <a:pt x="1222" y="308"/>
                </a:lnTo>
                <a:lnTo>
                  <a:pt x="1222" y="321"/>
                </a:lnTo>
                <a:lnTo>
                  <a:pt x="1220" y="333"/>
                </a:lnTo>
                <a:lnTo>
                  <a:pt x="1219" y="346"/>
                </a:lnTo>
                <a:lnTo>
                  <a:pt x="1217" y="361"/>
                </a:lnTo>
                <a:lnTo>
                  <a:pt x="1215" y="377"/>
                </a:lnTo>
                <a:lnTo>
                  <a:pt x="1213" y="392"/>
                </a:lnTo>
                <a:lnTo>
                  <a:pt x="1211" y="409"/>
                </a:lnTo>
                <a:lnTo>
                  <a:pt x="1209" y="427"/>
                </a:lnTo>
                <a:lnTo>
                  <a:pt x="1207" y="444"/>
                </a:lnTo>
                <a:lnTo>
                  <a:pt x="1205" y="463"/>
                </a:lnTo>
                <a:lnTo>
                  <a:pt x="1203" y="482"/>
                </a:lnTo>
                <a:lnTo>
                  <a:pt x="1184" y="572"/>
                </a:lnTo>
                <a:lnTo>
                  <a:pt x="1174" y="619"/>
                </a:lnTo>
                <a:lnTo>
                  <a:pt x="1165" y="665"/>
                </a:lnTo>
                <a:lnTo>
                  <a:pt x="1153" y="711"/>
                </a:lnTo>
                <a:lnTo>
                  <a:pt x="1142" y="759"/>
                </a:lnTo>
                <a:lnTo>
                  <a:pt x="1130" y="809"/>
                </a:lnTo>
                <a:lnTo>
                  <a:pt x="1117" y="8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71"/>
          <p:cNvSpPr/>
          <p:nvPr/>
        </p:nvSpPr>
        <p:spPr>
          <a:xfrm>
            <a:off x="6319800" y="3300480"/>
            <a:ext cx="1184400" cy="382680"/>
          </a:xfrm>
          <a:custGeom>
            <a:avLst/>
            <a:gdLst/>
            <a:ahLst/>
            <a:rect l="l" t="t" r="r" b="b"/>
            <a:pathLst>
              <a:path w="1491" h="481">
                <a:moveTo>
                  <a:pt x="1485" y="149"/>
                </a:moveTo>
                <a:lnTo>
                  <a:pt x="1481" y="155"/>
                </a:lnTo>
                <a:lnTo>
                  <a:pt x="1480" y="161"/>
                </a:lnTo>
                <a:lnTo>
                  <a:pt x="1474" y="165"/>
                </a:lnTo>
                <a:lnTo>
                  <a:pt x="1468" y="168"/>
                </a:lnTo>
                <a:lnTo>
                  <a:pt x="1462" y="174"/>
                </a:lnTo>
                <a:lnTo>
                  <a:pt x="1455" y="178"/>
                </a:lnTo>
                <a:lnTo>
                  <a:pt x="1447" y="182"/>
                </a:lnTo>
                <a:lnTo>
                  <a:pt x="1437" y="186"/>
                </a:lnTo>
                <a:lnTo>
                  <a:pt x="1428" y="188"/>
                </a:lnTo>
                <a:lnTo>
                  <a:pt x="1416" y="191"/>
                </a:lnTo>
                <a:lnTo>
                  <a:pt x="1405" y="195"/>
                </a:lnTo>
                <a:lnTo>
                  <a:pt x="1391" y="197"/>
                </a:lnTo>
                <a:lnTo>
                  <a:pt x="1376" y="201"/>
                </a:lnTo>
                <a:lnTo>
                  <a:pt x="1361" y="205"/>
                </a:lnTo>
                <a:lnTo>
                  <a:pt x="1345" y="207"/>
                </a:lnTo>
                <a:lnTo>
                  <a:pt x="1328" y="211"/>
                </a:lnTo>
                <a:lnTo>
                  <a:pt x="1309" y="213"/>
                </a:lnTo>
                <a:lnTo>
                  <a:pt x="1291" y="214"/>
                </a:lnTo>
                <a:lnTo>
                  <a:pt x="1276" y="218"/>
                </a:lnTo>
                <a:lnTo>
                  <a:pt x="1261" y="220"/>
                </a:lnTo>
                <a:lnTo>
                  <a:pt x="1245" y="224"/>
                </a:lnTo>
                <a:lnTo>
                  <a:pt x="1232" y="226"/>
                </a:lnTo>
                <a:lnTo>
                  <a:pt x="1220" y="228"/>
                </a:lnTo>
                <a:lnTo>
                  <a:pt x="1207" y="230"/>
                </a:lnTo>
                <a:lnTo>
                  <a:pt x="1195" y="232"/>
                </a:lnTo>
                <a:lnTo>
                  <a:pt x="1184" y="234"/>
                </a:lnTo>
                <a:lnTo>
                  <a:pt x="1174" y="236"/>
                </a:lnTo>
                <a:lnTo>
                  <a:pt x="1165" y="238"/>
                </a:lnTo>
                <a:lnTo>
                  <a:pt x="1155" y="239"/>
                </a:lnTo>
                <a:lnTo>
                  <a:pt x="1147" y="239"/>
                </a:lnTo>
                <a:lnTo>
                  <a:pt x="1140" y="239"/>
                </a:lnTo>
                <a:lnTo>
                  <a:pt x="1132" y="239"/>
                </a:lnTo>
                <a:lnTo>
                  <a:pt x="1128" y="239"/>
                </a:lnTo>
                <a:lnTo>
                  <a:pt x="1124" y="241"/>
                </a:lnTo>
                <a:lnTo>
                  <a:pt x="1119" y="241"/>
                </a:lnTo>
                <a:lnTo>
                  <a:pt x="1113" y="241"/>
                </a:lnTo>
                <a:lnTo>
                  <a:pt x="1107" y="243"/>
                </a:lnTo>
                <a:lnTo>
                  <a:pt x="1099" y="245"/>
                </a:lnTo>
                <a:lnTo>
                  <a:pt x="1092" y="245"/>
                </a:lnTo>
                <a:lnTo>
                  <a:pt x="1082" y="247"/>
                </a:lnTo>
                <a:lnTo>
                  <a:pt x="1073" y="251"/>
                </a:lnTo>
                <a:lnTo>
                  <a:pt x="1063" y="253"/>
                </a:lnTo>
                <a:lnTo>
                  <a:pt x="1051" y="255"/>
                </a:lnTo>
                <a:lnTo>
                  <a:pt x="1040" y="259"/>
                </a:lnTo>
                <a:lnTo>
                  <a:pt x="1027" y="261"/>
                </a:lnTo>
                <a:lnTo>
                  <a:pt x="1015" y="264"/>
                </a:lnTo>
                <a:lnTo>
                  <a:pt x="1000" y="268"/>
                </a:lnTo>
                <a:lnTo>
                  <a:pt x="986" y="272"/>
                </a:lnTo>
                <a:lnTo>
                  <a:pt x="971" y="276"/>
                </a:lnTo>
                <a:lnTo>
                  <a:pt x="954" y="280"/>
                </a:lnTo>
                <a:lnTo>
                  <a:pt x="936" y="284"/>
                </a:lnTo>
                <a:lnTo>
                  <a:pt x="919" y="289"/>
                </a:lnTo>
                <a:lnTo>
                  <a:pt x="900" y="293"/>
                </a:lnTo>
                <a:lnTo>
                  <a:pt x="881" y="299"/>
                </a:lnTo>
                <a:lnTo>
                  <a:pt x="861" y="303"/>
                </a:lnTo>
                <a:lnTo>
                  <a:pt x="840" y="309"/>
                </a:lnTo>
                <a:lnTo>
                  <a:pt x="819" y="314"/>
                </a:lnTo>
                <a:lnTo>
                  <a:pt x="796" y="320"/>
                </a:lnTo>
                <a:lnTo>
                  <a:pt x="773" y="326"/>
                </a:lnTo>
                <a:lnTo>
                  <a:pt x="750" y="334"/>
                </a:lnTo>
                <a:lnTo>
                  <a:pt x="725" y="339"/>
                </a:lnTo>
                <a:lnTo>
                  <a:pt x="700" y="347"/>
                </a:lnTo>
                <a:lnTo>
                  <a:pt x="673" y="353"/>
                </a:lnTo>
                <a:lnTo>
                  <a:pt x="646" y="360"/>
                </a:lnTo>
                <a:lnTo>
                  <a:pt x="620" y="366"/>
                </a:lnTo>
                <a:lnTo>
                  <a:pt x="595" y="374"/>
                </a:lnTo>
                <a:lnTo>
                  <a:pt x="568" y="381"/>
                </a:lnTo>
                <a:lnTo>
                  <a:pt x="545" y="387"/>
                </a:lnTo>
                <a:lnTo>
                  <a:pt x="520" y="393"/>
                </a:lnTo>
                <a:lnTo>
                  <a:pt x="497" y="399"/>
                </a:lnTo>
                <a:lnTo>
                  <a:pt x="476" y="405"/>
                </a:lnTo>
                <a:lnTo>
                  <a:pt x="455" y="410"/>
                </a:lnTo>
                <a:lnTo>
                  <a:pt x="433" y="416"/>
                </a:lnTo>
                <a:lnTo>
                  <a:pt x="412" y="422"/>
                </a:lnTo>
                <a:lnTo>
                  <a:pt x="393" y="428"/>
                </a:lnTo>
                <a:lnTo>
                  <a:pt x="376" y="431"/>
                </a:lnTo>
                <a:lnTo>
                  <a:pt x="357" y="437"/>
                </a:lnTo>
                <a:lnTo>
                  <a:pt x="341" y="441"/>
                </a:lnTo>
                <a:lnTo>
                  <a:pt x="324" y="445"/>
                </a:lnTo>
                <a:lnTo>
                  <a:pt x="309" y="449"/>
                </a:lnTo>
                <a:lnTo>
                  <a:pt x="293" y="453"/>
                </a:lnTo>
                <a:lnTo>
                  <a:pt x="280" y="456"/>
                </a:lnTo>
                <a:lnTo>
                  <a:pt x="266" y="460"/>
                </a:lnTo>
                <a:lnTo>
                  <a:pt x="255" y="462"/>
                </a:lnTo>
                <a:lnTo>
                  <a:pt x="243" y="466"/>
                </a:lnTo>
                <a:lnTo>
                  <a:pt x="232" y="468"/>
                </a:lnTo>
                <a:lnTo>
                  <a:pt x="222" y="470"/>
                </a:lnTo>
                <a:lnTo>
                  <a:pt x="213" y="472"/>
                </a:lnTo>
                <a:lnTo>
                  <a:pt x="203" y="474"/>
                </a:lnTo>
                <a:lnTo>
                  <a:pt x="195" y="476"/>
                </a:lnTo>
                <a:lnTo>
                  <a:pt x="188" y="477"/>
                </a:lnTo>
                <a:lnTo>
                  <a:pt x="182" y="477"/>
                </a:lnTo>
                <a:lnTo>
                  <a:pt x="174" y="479"/>
                </a:lnTo>
                <a:lnTo>
                  <a:pt x="170" y="479"/>
                </a:lnTo>
                <a:lnTo>
                  <a:pt x="165" y="479"/>
                </a:lnTo>
                <a:lnTo>
                  <a:pt x="163" y="481"/>
                </a:lnTo>
                <a:lnTo>
                  <a:pt x="147" y="479"/>
                </a:lnTo>
                <a:lnTo>
                  <a:pt x="134" y="477"/>
                </a:lnTo>
                <a:lnTo>
                  <a:pt x="121" y="474"/>
                </a:lnTo>
                <a:lnTo>
                  <a:pt x="107" y="470"/>
                </a:lnTo>
                <a:lnTo>
                  <a:pt x="94" y="462"/>
                </a:lnTo>
                <a:lnTo>
                  <a:pt x="80" y="454"/>
                </a:lnTo>
                <a:lnTo>
                  <a:pt x="67" y="447"/>
                </a:lnTo>
                <a:lnTo>
                  <a:pt x="53" y="435"/>
                </a:lnTo>
                <a:lnTo>
                  <a:pt x="44" y="433"/>
                </a:lnTo>
                <a:lnTo>
                  <a:pt x="36" y="429"/>
                </a:lnTo>
                <a:lnTo>
                  <a:pt x="28" y="428"/>
                </a:lnTo>
                <a:lnTo>
                  <a:pt x="23" y="424"/>
                </a:lnTo>
                <a:lnTo>
                  <a:pt x="17" y="422"/>
                </a:lnTo>
                <a:lnTo>
                  <a:pt x="13" y="418"/>
                </a:lnTo>
                <a:lnTo>
                  <a:pt x="9" y="416"/>
                </a:lnTo>
                <a:lnTo>
                  <a:pt x="5" y="412"/>
                </a:lnTo>
                <a:lnTo>
                  <a:pt x="3" y="410"/>
                </a:lnTo>
                <a:lnTo>
                  <a:pt x="2" y="406"/>
                </a:lnTo>
                <a:lnTo>
                  <a:pt x="0" y="405"/>
                </a:lnTo>
                <a:lnTo>
                  <a:pt x="0" y="401"/>
                </a:lnTo>
                <a:lnTo>
                  <a:pt x="0" y="399"/>
                </a:lnTo>
                <a:lnTo>
                  <a:pt x="2" y="395"/>
                </a:lnTo>
                <a:lnTo>
                  <a:pt x="2" y="393"/>
                </a:lnTo>
                <a:lnTo>
                  <a:pt x="3" y="391"/>
                </a:lnTo>
                <a:lnTo>
                  <a:pt x="5" y="389"/>
                </a:lnTo>
                <a:lnTo>
                  <a:pt x="9" y="389"/>
                </a:lnTo>
                <a:lnTo>
                  <a:pt x="13" y="389"/>
                </a:lnTo>
                <a:lnTo>
                  <a:pt x="17" y="387"/>
                </a:lnTo>
                <a:lnTo>
                  <a:pt x="25" y="385"/>
                </a:lnTo>
                <a:lnTo>
                  <a:pt x="30" y="383"/>
                </a:lnTo>
                <a:lnTo>
                  <a:pt x="40" y="381"/>
                </a:lnTo>
                <a:lnTo>
                  <a:pt x="50" y="380"/>
                </a:lnTo>
                <a:lnTo>
                  <a:pt x="61" y="376"/>
                </a:lnTo>
                <a:lnTo>
                  <a:pt x="73" y="372"/>
                </a:lnTo>
                <a:lnTo>
                  <a:pt x="84" y="368"/>
                </a:lnTo>
                <a:lnTo>
                  <a:pt x="99" y="364"/>
                </a:lnTo>
                <a:lnTo>
                  <a:pt x="115" y="360"/>
                </a:lnTo>
                <a:lnTo>
                  <a:pt x="130" y="355"/>
                </a:lnTo>
                <a:lnTo>
                  <a:pt x="147" y="351"/>
                </a:lnTo>
                <a:lnTo>
                  <a:pt x="167" y="345"/>
                </a:lnTo>
                <a:lnTo>
                  <a:pt x="186" y="337"/>
                </a:lnTo>
                <a:lnTo>
                  <a:pt x="207" y="332"/>
                </a:lnTo>
                <a:lnTo>
                  <a:pt x="228" y="324"/>
                </a:lnTo>
                <a:lnTo>
                  <a:pt x="251" y="316"/>
                </a:lnTo>
                <a:lnTo>
                  <a:pt x="276" y="309"/>
                </a:lnTo>
                <a:lnTo>
                  <a:pt x="301" y="301"/>
                </a:lnTo>
                <a:lnTo>
                  <a:pt x="328" y="293"/>
                </a:lnTo>
                <a:lnTo>
                  <a:pt x="355" y="284"/>
                </a:lnTo>
                <a:lnTo>
                  <a:pt x="384" y="274"/>
                </a:lnTo>
                <a:lnTo>
                  <a:pt x="412" y="264"/>
                </a:lnTo>
                <a:lnTo>
                  <a:pt x="443" y="253"/>
                </a:lnTo>
                <a:lnTo>
                  <a:pt x="474" y="243"/>
                </a:lnTo>
                <a:lnTo>
                  <a:pt x="506" y="232"/>
                </a:lnTo>
                <a:lnTo>
                  <a:pt x="541" y="220"/>
                </a:lnTo>
                <a:lnTo>
                  <a:pt x="575" y="207"/>
                </a:lnTo>
                <a:lnTo>
                  <a:pt x="612" y="195"/>
                </a:lnTo>
                <a:lnTo>
                  <a:pt x="646" y="182"/>
                </a:lnTo>
                <a:lnTo>
                  <a:pt x="679" y="170"/>
                </a:lnTo>
                <a:lnTo>
                  <a:pt x="714" y="157"/>
                </a:lnTo>
                <a:lnTo>
                  <a:pt x="744" y="147"/>
                </a:lnTo>
                <a:lnTo>
                  <a:pt x="777" y="136"/>
                </a:lnTo>
                <a:lnTo>
                  <a:pt x="808" y="124"/>
                </a:lnTo>
                <a:lnTo>
                  <a:pt x="837" y="115"/>
                </a:lnTo>
                <a:lnTo>
                  <a:pt x="865" y="105"/>
                </a:lnTo>
                <a:lnTo>
                  <a:pt x="894" y="97"/>
                </a:lnTo>
                <a:lnTo>
                  <a:pt x="921" y="88"/>
                </a:lnTo>
                <a:lnTo>
                  <a:pt x="946" y="80"/>
                </a:lnTo>
                <a:lnTo>
                  <a:pt x="971" y="72"/>
                </a:lnTo>
                <a:lnTo>
                  <a:pt x="996" y="65"/>
                </a:lnTo>
                <a:lnTo>
                  <a:pt x="1019" y="57"/>
                </a:lnTo>
                <a:lnTo>
                  <a:pt x="1042" y="51"/>
                </a:lnTo>
                <a:lnTo>
                  <a:pt x="1065" y="46"/>
                </a:lnTo>
                <a:lnTo>
                  <a:pt x="1084" y="40"/>
                </a:lnTo>
                <a:lnTo>
                  <a:pt x="1105" y="34"/>
                </a:lnTo>
                <a:lnTo>
                  <a:pt x="1124" y="28"/>
                </a:lnTo>
                <a:lnTo>
                  <a:pt x="1142" y="24"/>
                </a:lnTo>
                <a:lnTo>
                  <a:pt x="1159" y="21"/>
                </a:lnTo>
                <a:lnTo>
                  <a:pt x="1176" y="17"/>
                </a:lnTo>
                <a:lnTo>
                  <a:pt x="1192" y="13"/>
                </a:lnTo>
                <a:lnTo>
                  <a:pt x="1207" y="11"/>
                </a:lnTo>
                <a:lnTo>
                  <a:pt x="1220" y="7"/>
                </a:lnTo>
                <a:lnTo>
                  <a:pt x="1232" y="5"/>
                </a:lnTo>
                <a:lnTo>
                  <a:pt x="1245" y="3"/>
                </a:lnTo>
                <a:lnTo>
                  <a:pt x="1255" y="1"/>
                </a:lnTo>
                <a:lnTo>
                  <a:pt x="1266" y="1"/>
                </a:lnTo>
                <a:lnTo>
                  <a:pt x="1274" y="0"/>
                </a:lnTo>
                <a:lnTo>
                  <a:pt x="1284" y="0"/>
                </a:lnTo>
                <a:lnTo>
                  <a:pt x="1291" y="0"/>
                </a:lnTo>
                <a:lnTo>
                  <a:pt x="1316" y="0"/>
                </a:lnTo>
                <a:lnTo>
                  <a:pt x="1343" y="1"/>
                </a:lnTo>
                <a:lnTo>
                  <a:pt x="1366" y="5"/>
                </a:lnTo>
                <a:lnTo>
                  <a:pt x="1389" y="11"/>
                </a:lnTo>
                <a:lnTo>
                  <a:pt x="1410" y="17"/>
                </a:lnTo>
                <a:lnTo>
                  <a:pt x="1420" y="21"/>
                </a:lnTo>
                <a:lnTo>
                  <a:pt x="1430" y="24"/>
                </a:lnTo>
                <a:lnTo>
                  <a:pt x="1437" y="28"/>
                </a:lnTo>
                <a:lnTo>
                  <a:pt x="1445" y="34"/>
                </a:lnTo>
                <a:lnTo>
                  <a:pt x="1453" y="38"/>
                </a:lnTo>
                <a:lnTo>
                  <a:pt x="1460" y="44"/>
                </a:lnTo>
                <a:lnTo>
                  <a:pt x="1466" y="53"/>
                </a:lnTo>
                <a:lnTo>
                  <a:pt x="1472" y="61"/>
                </a:lnTo>
                <a:lnTo>
                  <a:pt x="1478" y="69"/>
                </a:lnTo>
                <a:lnTo>
                  <a:pt x="1481" y="76"/>
                </a:lnTo>
                <a:lnTo>
                  <a:pt x="1485" y="82"/>
                </a:lnTo>
                <a:lnTo>
                  <a:pt x="1487" y="90"/>
                </a:lnTo>
                <a:lnTo>
                  <a:pt x="1489" y="95"/>
                </a:lnTo>
                <a:lnTo>
                  <a:pt x="1491" y="103"/>
                </a:lnTo>
                <a:lnTo>
                  <a:pt x="1491" y="109"/>
                </a:lnTo>
                <a:lnTo>
                  <a:pt x="1491" y="115"/>
                </a:lnTo>
                <a:lnTo>
                  <a:pt x="1491" y="120"/>
                </a:lnTo>
                <a:lnTo>
                  <a:pt x="1491" y="126"/>
                </a:lnTo>
                <a:lnTo>
                  <a:pt x="1489" y="138"/>
                </a:lnTo>
                <a:lnTo>
                  <a:pt x="1485" y="1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2"/>
          <p:cNvSpPr/>
          <p:nvPr/>
        </p:nvSpPr>
        <p:spPr>
          <a:xfrm>
            <a:off x="5513400" y="4216320"/>
            <a:ext cx="858960" cy="638280"/>
          </a:xfrm>
          <a:custGeom>
            <a:avLst/>
            <a:gdLst/>
            <a:ahLst/>
            <a:rect l="l" t="t" r="r" b="b"/>
            <a:pathLst>
              <a:path w="1083" h="804">
                <a:moveTo>
                  <a:pt x="196" y="486"/>
                </a:moveTo>
                <a:lnTo>
                  <a:pt x="204" y="484"/>
                </a:lnTo>
                <a:lnTo>
                  <a:pt x="213" y="480"/>
                </a:lnTo>
                <a:lnTo>
                  <a:pt x="223" y="474"/>
                </a:lnTo>
                <a:lnTo>
                  <a:pt x="233" y="468"/>
                </a:lnTo>
                <a:lnTo>
                  <a:pt x="246" y="463"/>
                </a:lnTo>
                <a:lnTo>
                  <a:pt x="259" y="457"/>
                </a:lnTo>
                <a:lnTo>
                  <a:pt x="275" y="447"/>
                </a:lnTo>
                <a:lnTo>
                  <a:pt x="290" y="440"/>
                </a:lnTo>
                <a:lnTo>
                  <a:pt x="309" y="430"/>
                </a:lnTo>
                <a:lnTo>
                  <a:pt x="329" y="419"/>
                </a:lnTo>
                <a:lnTo>
                  <a:pt x="348" y="409"/>
                </a:lnTo>
                <a:lnTo>
                  <a:pt x="371" y="395"/>
                </a:lnTo>
                <a:lnTo>
                  <a:pt x="394" y="382"/>
                </a:lnTo>
                <a:lnTo>
                  <a:pt x="421" y="369"/>
                </a:lnTo>
                <a:lnTo>
                  <a:pt x="448" y="351"/>
                </a:lnTo>
                <a:lnTo>
                  <a:pt x="476" y="336"/>
                </a:lnTo>
                <a:lnTo>
                  <a:pt x="505" y="321"/>
                </a:lnTo>
                <a:lnTo>
                  <a:pt x="534" y="307"/>
                </a:lnTo>
                <a:lnTo>
                  <a:pt x="561" y="292"/>
                </a:lnTo>
                <a:lnTo>
                  <a:pt x="590" y="276"/>
                </a:lnTo>
                <a:lnTo>
                  <a:pt x="616" y="261"/>
                </a:lnTo>
                <a:lnTo>
                  <a:pt x="643" y="246"/>
                </a:lnTo>
                <a:lnTo>
                  <a:pt x="695" y="215"/>
                </a:lnTo>
                <a:lnTo>
                  <a:pt x="747" y="184"/>
                </a:lnTo>
                <a:lnTo>
                  <a:pt x="795" y="154"/>
                </a:lnTo>
                <a:lnTo>
                  <a:pt x="843" y="125"/>
                </a:lnTo>
                <a:lnTo>
                  <a:pt x="889" y="96"/>
                </a:lnTo>
                <a:lnTo>
                  <a:pt x="908" y="81"/>
                </a:lnTo>
                <a:lnTo>
                  <a:pt x="927" y="69"/>
                </a:lnTo>
                <a:lnTo>
                  <a:pt x="945" y="58"/>
                </a:lnTo>
                <a:lnTo>
                  <a:pt x="962" y="46"/>
                </a:lnTo>
                <a:lnTo>
                  <a:pt x="979" y="37"/>
                </a:lnTo>
                <a:lnTo>
                  <a:pt x="995" y="29"/>
                </a:lnTo>
                <a:lnTo>
                  <a:pt x="1008" y="21"/>
                </a:lnTo>
                <a:lnTo>
                  <a:pt x="1021" y="15"/>
                </a:lnTo>
                <a:lnTo>
                  <a:pt x="1033" y="10"/>
                </a:lnTo>
                <a:lnTo>
                  <a:pt x="1045" y="6"/>
                </a:lnTo>
                <a:lnTo>
                  <a:pt x="1054" y="4"/>
                </a:lnTo>
                <a:lnTo>
                  <a:pt x="1062" y="2"/>
                </a:lnTo>
                <a:lnTo>
                  <a:pt x="1069" y="0"/>
                </a:lnTo>
                <a:lnTo>
                  <a:pt x="1075" y="0"/>
                </a:lnTo>
                <a:lnTo>
                  <a:pt x="1079" y="2"/>
                </a:lnTo>
                <a:lnTo>
                  <a:pt x="1083" y="4"/>
                </a:lnTo>
                <a:lnTo>
                  <a:pt x="1083" y="8"/>
                </a:lnTo>
                <a:lnTo>
                  <a:pt x="1083" y="12"/>
                </a:lnTo>
                <a:lnTo>
                  <a:pt x="1083" y="15"/>
                </a:lnTo>
                <a:lnTo>
                  <a:pt x="1081" y="21"/>
                </a:lnTo>
                <a:lnTo>
                  <a:pt x="1077" y="27"/>
                </a:lnTo>
                <a:lnTo>
                  <a:pt x="1073" y="33"/>
                </a:lnTo>
                <a:lnTo>
                  <a:pt x="1069" y="38"/>
                </a:lnTo>
                <a:lnTo>
                  <a:pt x="1064" y="46"/>
                </a:lnTo>
                <a:lnTo>
                  <a:pt x="1058" y="56"/>
                </a:lnTo>
                <a:lnTo>
                  <a:pt x="1050" y="63"/>
                </a:lnTo>
                <a:lnTo>
                  <a:pt x="1043" y="73"/>
                </a:lnTo>
                <a:lnTo>
                  <a:pt x="1035" y="83"/>
                </a:lnTo>
                <a:lnTo>
                  <a:pt x="1023" y="94"/>
                </a:lnTo>
                <a:lnTo>
                  <a:pt x="1014" y="106"/>
                </a:lnTo>
                <a:lnTo>
                  <a:pt x="1002" y="117"/>
                </a:lnTo>
                <a:lnTo>
                  <a:pt x="991" y="129"/>
                </a:lnTo>
                <a:lnTo>
                  <a:pt x="977" y="142"/>
                </a:lnTo>
                <a:lnTo>
                  <a:pt x="964" y="157"/>
                </a:lnTo>
                <a:lnTo>
                  <a:pt x="949" y="171"/>
                </a:lnTo>
                <a:lnTo>
                  <a:pt x="933" y="186"/>
                </a:lnTo>
                <a:lnTo>
                  <a:pt x="918" y="204"/>
                </a:lnTo>
                <a:lnTo>
                  <a:pt x="901" y="219"/>
                </a:lnTo>
                <a:lnTo>
                  <a:pt x="881" y="238"/>
                </a:lnTo>
                <a:lnTo>
                  <a:pt x="862" y="255"/>
                </a:lnTo>
                <a:lnTo>
                  <a:pt x="843" y="275"/>
                </a:lnTo>
                <a:lnTo>
                  <a:pt x="822" y="294"/>
                </a:lnTo>
                <a:lnTo>
                  <a:pt x="801" y="313"/>
                </a:lnTo>
                <a:lnTo>
                  <a:pt x="780" y="334"/>
                </a:lnTo>
                <a:lnTo>
                  <a:pt x="757" y="357"/>
                </a:lnTo>
                <a:lnTo>
                  <a:pt x="732" y="378"/>
                </a:lnTo>
                <a:lnTo>
                  <a:pt x="707" y="401"/>
                </a:lnTo>
                <a:lnTo>
                  <a:pt x="682" y="426"/>
                </a:lnTo>
                <a:lnTo>
                  <a:pt x="657" y="449"/>
                </a:lnTo>
                <a:lnTo>
                  <a:pt x="632" y="472"/>
                </a:lnTo>
                <a:lnTo>
                  <a:pt x="607" y="495"/>
                </a:lnTo>
                <a:lnTo>
                  <a:pt x="584" y="516"/>
                </a:lnTo>
                <a:lnTo>
                  <a:pt x="561" y="538"/>
                </a:lnTo>
                <a:lnTo>
                  <a:pt x="538" y="557"/>
                </a:lnTo>
                <a:lnTo>
                  <a:pt x="517" y="576"/>
                </a:lnTo>
                <a:lnTo>
                  <a:pt x="496" y="593"/>
                </a:lnTo>
                <a:lnTo>
                  <a:pt x="476" y="610"/>
                </a:lnTo>
                <a:lnTo>
                  <a:pt x="457" y="628"/>
                </a:lnTo>
                <a:lnTo>
                  <a:pt x="438" y="643"/>
                </a:lnTo>
                <a:lnTo>
                  <a:pt x="421" y="658"/>
                </a:lnTo>
                <a:lnTo>
                  <a:pt x="403" y="672"/>
                </a:lnTo>
                <a:lnTo>
                  <a:pt x="386" y="685"/>
                </a:lnTo>
                <a:lnTo>
                  <a:pt x="371" y="699"/>
                </a:lnTo>
                <a:lnTo>
                  <a:pt x="355" y="710"/>
                </a:lnTo>
                <a:lnTo>
                  <a:pt x="340" y="722"/>
                </a:lnTo>
                <a:lnTo>
                  <a:pt x="327" y="733"/>
                </a:lnTo>
                <a:lnTo>
                  <a:pt x="313" y="743"/>
                </a:lnTo>
                <a:lnTo>
                  <a:pt x="302" y="751"/>
                </a:lnTo>
                <a:lnTo>
                  <a:pt x="290" y="760"/>
                </a:lnTo>
                <a:lnTo>
                  <a:pt x="279" y="766"/>
                </a:lnTo>
                <a:lnTo>
                  <a:pt x="269" y="774"/>
                </a:lnTo>
                <a:lnTo>
                  <a:pt x="259" y="779"/>
                </a:lnTo>
                <a:lnTo>
                  <a:pt x="250" y="785"/>
                </a:lnTo>
                <a:lnTo>
                  <a:pt x="242" y="789"/>
                </a:lnTo>
                <a:lnTo>
                  <a:pt x="235" y="793"/>
                </a:lnTo>
                <a:lnTo>
                  <a:pt x="229" y="797"/>
                </a:lnTo>
                <a:lnTo>
                  <a:pt x="223" y="799"/>
                </a:lnTo>
                <a:lnTo>
                  <a:pt x="217" y="800"/>
                </a:lnTo>
                <a:lnTo>
                  <a:pt x="211" y="802"/>
                </a:lnTo>
                <a:lnTo>
                  <a:pt x="210" y="802"/>
                </a:lnTo>
                <a:lnTo>
                  <a:pt x="202" y="804"/>
                </a:lnTo>
                <a:lnTo>
                  <a:pt x="194" y="804"/>
                </a:lnTo>
                <a:lnTo>
                  <a:pt x="187" y="804"/>
                </a:lnTo>
                <a:lnTo>
                  <a:pt x="179" y="802"/>
                </a:lnTo>
                <a:lnTo>
                  <a:pt x="171" y="800"/>
                </a:lnTo>
                <a:lnTo>
                  <a:pt x="164" y="795"/>
                </a:lnTo>
                <a:lnTo>
                  <a:pt x="154" y="791"/>
                </a:lnTo>
                <a:lnTo>
                  <a:pt x="146" y="783"/>
                </a:lnTo>
                <a:lnTo>
                  <a:pt x="137" y="776"/>
                </a:lnTo>
                <a:lnTo>
                  <a:pt x="129" y="768"/>
                </a:lnTo>
                <a:lnTo>
                  <a:pt x="119" y="758"/>
                </a:lnTo>
                <a:lnTo>
                  <a:pt x="112" y="747"/>
                </a:lnTo>
                <a:lnTo>
                  <a:pt x="102" y="735"/>
                </a:lnTo>
                <a:lnTo>
                  <a:pt x="92" y="724"/>
                </a:lnTo>
                <a:lnTo>
                  <a:pt x="85" y="710"/>
                </a:lnTo>
                <a:lnTo>
                  <a:pt x="75" y="697"/>
                </a:lnTo>
                <a:lnTo>
                  <a:pt x="64" y="683"/>
                </a:lnTo>
                <a:lnTo>
                  <a:pt x="54" y="670"/>
                </a:lnTo>
                <a:lnTo>
                  <a:pt x="45" y="657"/>
                </a:lnTo>
                <a:lnTo>
                  <a:pt x="37" y="645"/>
                </a:lnTo>
                <a:lnTo>
                  <a:pt x="29" y="634"/>
                </a:lnTo>
                <a:lnTo>
                  <a:pt x="23" y="624"/>
                </a:lnTo>
                <a:lnTo>
                  <a:pt x="18" y="612"/>
                </a:lnTo>
                <a:lnTo>
                  <a:pt x="12" y="603"/>
                </a:lnTo>
                <a:lnTo>
                  <a:pt x="8" y="593"/>
                </a:lnTo>
                <a:lnTo>
                  <a:pt x="4" y="584"/>
                </a:lnTo>
                <a:lnTo>
                  <a:pt x="2" y="574"/>
                </a:lnTo>
                <a:lnTo>
                  <a:pt x="0" y="566"/>
                </a:lnTo>
                <a:lnTo>
                  <a:pt x="0" y="557"/>
                </a:lnTo>
                <a:lnTo>
                  <a:pt x="0" y="549"/>
                </a:lnTo>
                <a:lnTo>
                  <a:pt x="0" y="539"/>
                </a:lnTo>
                <a:lnTo>
                  <a:pt x="2" y="532"/>
                </a:lnTo>
                <a:lnTo>
                  <a:pt x="2" y="526"/>
                </a:lnTo>
                <a:lnTo>
                  <a:pt x="4" y="520"/>
                </a:lnTo>
                <a:lnTo>
                  <a:pt x="4" y="516"/>
                </a:lnTo>
                <a:lnTo>
                  <a:pt x="6" y="511"/>
                </a:lnTo>
                <a:lnTo>
                  <a:pt x="10" y="507"/>
                </a:lnTo>
                <a:lnTo>
                  <a:pt x="14" y="503"/>
                </a:lnTo>
                <a:lnTo>
                  <a:pt x="18" y="501"/>
                </a:lnTo>
                <a:lnTo>
                  <a:pt x="21" y="497"/>
                </a:lnTo>
                <a:lnTo>
                  <a:pt x="27" y="495"/>
                </a:lnTo>
                <a:lnTo>
                  <a:pt x="33" y="493"/>
                </a:lnTo>
                <a:lnTo>
                  <a:pt x="41" y="491"/>
                </a:lnTo>
                <a:lnTo>
                  <a:pt x="48" y="490"/>
                </a:lnTo>
                <a:lnTo>
                  <a:pt x="56" y="488"/>
                </a:lnTo>
                <a:lnTo>
                  <a:pt x="66" y="488"/>
                </a:lnTo>
                <a:lnTo>
                  <a:pt x="77" y="486"/>
                </a:lnTo>
                <a:lnTo>
                  <a:pt x="87" y="486"/>
                </a:lnTo>
                <a:lnTo>
                  <a:pt x="104" y="491"/>
                </a:lnTo>
                <a:lnTo>
                  <a:pt x="121" y="495"/>
                </a:lnTo>
                <a:lnTo>
                  <a:pt x="137" y="497"/>
                </a:lnTo>
                <a:lnTo>
                  <a:pt x="150" y="497"/>
                </a:lnTo>
                <a:lnTo>
                  <a:pt x="164" y="497"/>
                </a:lnTo>
                <a:lnTo>
                  <a:pt x="177" y="495"/>
                </a:lnTo>
                <a:lnTo>
                  <a:pt x="187" y="491"/>
                </a:lnTo>
                <a:lnTo>
                  <a:pt x="196" y="4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73"/>
          <p:cNvSpPr/>
          <p:nvPr/>
        </p:nvSpPr>
        <p:spPr>
          <a:xfrm>
            <a:off x="6640560" y="2793960"/>
            <a:ext cx="371520" cy="385920"/>
          </a:xfrm>
          <a:custGeom>
            <a:avLst/>
            <a:gdLst/>
            <a:ahLst/>
            <a:rect l="l" t="t" r="r" b="b"/>
            <a:pathLst>
              <a:path w="468" h="488">
                <a:moveTo>
                  <a:pt x="75" y="8"/>
                </a:moveTo>
                <a:lnTo>
                  <a:pt x="84" y="8"/>
                </a:lnTo>
                <a:lnTo>
                  <a:pt x="94" y="8"/>
                </a:lnTo>
                <a:lnTo>
                  <a:pt x="103" y="8"/>
                </a:lnTo>
                <a:lnTo>
                  <a:pt x="115" y="10"/>
                </a:lnTo>
                <a:lnTo>
                  <a:pt x="126" y="12"/>
                </a:lnTo>
                <a:lnTo>
                  <a:pt x="138" y="14"/>
                </a:lnTo>
                <a:lnTo>
                  <a:pt x="151" y="18"/>
                </a:lnTo>
                <a:lnTo>
                  <a:pt x="165" y="20"/>
                </a:lnTo>
                <a:lnTo>
                  <a:pt x="178" y="23"/>
                </a:lnTo>
                <a:lnTo>
                  <a:pt x="192" y="27"/>
                </a:lnTo>
                <a:lnTo>
                  <a:pt x="205" y="33"/>
                </a:lnTo>
                <a:lnTo>
                  <a:pt x="219" y="39"/>
                </a:lnTo>
                <a:lnTo>
                  <a:pt x="234" y="45"/>
                </a:lnTo>
                <a:lnTo>
                  <a:pt x="249" y="52"/>
                </a:lnTo>
                <a:lnTo>
                  <a:pt x="265" y="60"/>
                </a:lnTo>
                <a:lnTo>
                  <a:pt x="280" y="68"/>
                </a:lnTo>
                <a:lnTo>
                  <a:pt x="295" y="75"/>
                </a:lnTo>
                <a:lnTo>
                  <a:pt x="311" y="85"/>
                </a:lnTo>
                <a:lnTo>
                  <a:pt x="326" y="92"/>
                </a:lnTo>
                <a:lnTo>
                  <a:pt x="339" y="102"/>
                </a:lnTo>
                <a:lnTo>
                  <a:pt x="353" y="110"/>
                </a:lnTo>
                <a:lnTo>
                  <a:pt x="366" y="119"/>
                </a:lnTo>
                <a:lnTo>
                  <a:pt x="378" y="127"/>
                </a:lnTo>
                <a:lnTo>
                  <a:pt x="389" y="137"/>
                </a:lnTo>
                <a:lnTo>
                  <a:pt x="399" y="146"/>
                </a:lnTo>
                <a:lnTo>
                  <a:pt x="409" y="156"/>
                </a:lnTo>
                <a:lnTo>
                  <a:pt x="418" y="165"/>
                </a:lnTo>
                <a:lnTo>
                  <a:pt x="426" y="175"/>
                </a:lnTo>
                <a:lnTo>
                  <a:pt x="434" y="185"/>
                </a:lnTo>
                <a:lnTo>
                  <a:pt x="439" y="196"/>
                </a:lnTo>
                <a:lnTo>
                  <a:pt x="445" y="206"/>
                </a:lnTo>
                <a:lnTo>
                  <a:pt x="451" y="217"/>
                </a:lnTo>
                <a:lnTo>
                  <a:pt x="455" y="229"/>
                </a:lnTo>
                <a:lnTo>
                  <a:pt x="458" y="240"/>
                </a:lnTo>
                <a:lnTo>
                  <a:pt x="462" y="252"/>
                </a:lnTo>
                <a:lnTo>
                  <a:pt x="464" y="263"/>
                </a:lnTo>
                <a:lnTo>
                  <a:pt x="466" y="275"/>
                </a:lnTo>
                <a:lnTo>
                  <a:pt x="468" y="286"/>
                </a:lnTo>
                <a:lnTo>
                  <a:pt x="468" y="296"/>
                </a:lnTo>
                <a:lnTo>
                  <a:pt x="468" y="307"/>
                </a:lnTo>
                <a:lnTo>
                  <a:pt x="468" y="319"/>
                </a:lnTo>
                <a:lnTo>
                  <a:pt x="468" y="330"/>
                </a:lnTo>
                <a:lnTo>
                  <a:pt x="466" y="342"/>
                </a:lnTo>
                <a:lnTo>
                  <a:pt x="464" y="354"/>
                </a:lnTo>
                <a:lnTo>
                  <a:pt x="462" y="365"/>
                </a:lnTo>
                <a:lnTo>
                  <a:pt x="458" y="375"/>
                </a:lnTo>
                <a:lnTo>
                  <a:pt x="455" y="386"/>
                </a:lnTo>
                <a:lnTo>
                  <a:pt x="451" y="398"/>
                </a:lnTo>
                <a:lnTo>
                  <a:pt x="447" y="409"/>
                </a:lnTo>
                <a:lnTo>
                  <a:pt x="441" y="419"/>
                </a:lnTo>
                <a:lnTo>
                  <a:pt x="437" y="428"/>
                </a:lnTo>
                <a:lnTo>
                  <a:pt x="434" y="438"/>
                </a:lnTo>
                <a:lnTo>
                  <a:pt x="428" y="446"/>
                </a:lnTo>
                <a:lnTo>
                  <a:pt x="424" y="453"/>
                </a:lnTo>
                <a:lnTo>
                  <a:pt x="418" y="459"/>
                </a:lnTo>
                <a:lnTo>
                  <a:pt x="414" y="467"/>
                </a:lnTo>
                <a:lnTo>
                  <a:pt x="410" y="471"/>
                </a:lnTo>
                <a:lnTo>
                  <a:pt x="405" y="476"/>
                </a:lnTo>
                <a:lnTo>
                  <a:pt x="401" y="480"/>
                </a:lnTo>
                <a:lnTo>
                  <a:pt x="395" y="482"/>
                </a:lnTo>
                <a:lnTo>
                  <a:pt x="391" y="486"/>
                </a:lnTo>
                <a:lnTo>
                  <a:pt x="387" y="488"/>
                </a:lnTo>
                <a:lnTo>
                  <a:pt x="382" y="488"/>
                </a:lnTo>
                <a:lnTo>
                  <a:pt x="378" y="488"/>
                </a:lnTo>
                <a:lnTo>
                  <a:pt x="372" y="488"/>
                </a:lnTo>
                <a:lnTo>
                  <a:pt x="366" y="484"/>
                </a:lnTo>
                <a:lnTo>
                  <a:pt x="359" y="480"/>
                </a:lnTo>
                <a:lnTo>
                  <a:pt x="351" y="474"/>
                </a:lnTo>
                <a:lnTo>
                  <a:pt x="341" y="467"/>
                </a:lnTo>
                <a:lnTo>
                  <a:pt x="330" y="457"/>
                </a:lnTo>
                <a:lnTo>
                  <a:pt x="318" y="446"/>
                </a:lnTo>
                <a:lnTo>
                  <a:pt x="305" y="432"/>
                </a:lnTo>
                <a:lnTo>
                  <a:pt x="291" y="417"/>
                </a:lnTo>
                <a:lnTo>
                  <a:pt x="278" y="402"/>
                </a:lnTo>
                <a:lnTo>
                  <a:pt x="263" y="382"/>
                </a:lnTo>
                <a:lnTo>
                  <a:pt x="245" y="361"/>
                </a:lnTo>
                <a:lnTo>
                  <a:pt x="228" y="340"/>
                </a:lnTo>
                <a:lnTo>
                  <a:pt x="211" y="317"/>
                </a:lnTo>
                <a:lnTo>
                  <a:pt x="192" y="290"/>
                </a:lnTo>
                <a:lnTo>
                  <a:pt x="172" y="263"/>
                </a:lnTo>
                <a:lnTo>
                  <a:pt x="149" y="238"/>
                </a:lnTo>
                <a:lnTo>
                  <a:pt x="130" y="213"/>
                </a:lnTo>
                <a:lnTo>
                  <a:pt x="111" y="190"/>
                </a:lnTo>
                <a:lnTo>
                  <a:pt x="92" y="169"/>
                </a:lnTo>
                <a:lnTo>
                  <a:pt x="77" y="150"/>
                </a:lnTo>
                <a:lnTo>
                  <a:pt x="61" y="131"/>
                </a:lnTo>
                <a:lnTo>
                  <a:pt x="50" y="114"/>
                </a:lnTo>
                <a:lnTo>
                  <a:pt x="36" y="96"/>
                </a:lnTo>
                <a:lnTo>
                  <a:pt x="27" y="83"/>
                </a:lnTo>
                <a:lnTo>
                  <a:pt x="19" y="69"/>
                </a:lnTo>
                <a:lnTo>
                  <a:pt x="11" y="58"/>
                </a:lnTo>
                <a:lnTo>
                  <a:pt x="5" y="46"/>
                </a:lnTo>
                <a:lnTo>
                  <a:pt x="4" y="39"/>
                </a:lnTo>
                <a:lnTo>
                  <a:pt x="0" y="31"/>
                </a:lnTo>
                <a:lnTo>
                  <a:pt x="0" y="25"/>
                </a:lnTo>
                <a:lnTo>
                  <a:pt x="2" y="21"/>
                </a:lnTo>
                <a:lnTo>
                  <a:pt x="2" y="20"/>
                </a:lnTo>
                <a:lnTo>
                  <a:pt x="4" y="16"/>
                </a:lnTo>
                <a:lnTo>
                  <a:pt x="4" y="14"/>
                </a:lnTo>
                <a:lnTo>
                  <a:pt x="5" y="12"/>
                </a:lnTo>
                <a:lnTo>
                  <a:pt x="9" y="8"/>
                </a:lnTo>
                <a:lnTo>
                  <a:pt x="11" y="6"/>
                </a:lnTo>
                <a:lnTo>
                  <a:pt x="15" y="4"/>
                </a:lnTo>
                <a:lnTo>
                  <a:pt x="19" y="2"/>
                </a:lnTo>
                <a:lnTo>
                  <a:pt x="25" y="2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0" y="2"/>
                </a:lnTo>
                <a:lnTo>
                  <a:pt x="57" y="2"/>
                </a:lnTo>
                <a:lnTo>
                  <a:pt x="65" y="4"/>
                </a:lnTo>
                <a:lnTo>
                  <a:pt x="75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74"/>
          <p:cNvSpPr/>
          <p:nvPr/>
        </p:nvSpPr>
        <p:spPr>
          <a:xfrm>
            <a:off x="5581800" y="3683160"/>
            <a:ext cx="723600" cy="274320"/>
          </a:xfrm>
          <a:custGeom>
            <a:avLst/>
            <a:gdLst/>
            <a:ahLst/>
            <a:rect l="l" t="t" r="r" b="b"/>
            <a:pathLst>
              <a:path w="911" h="346">
                <a:moveTo>
                  <a:pt x="50" y="330"/>
                </a:moveTo>
                <a:lnTo>
                  <a:pt x="42" y="325"/>
                </a:lnTo>
                <a:lnTo>
                  <a:pt x="36" y="319"/>
                </a:lnTo>
                <a:lnTo>
                  <a:pt x="30" y="313"/>
                </a:lnTo>
                <a:lnTo>
                  <a:pt x="27" y="307"/>
                </a:lnTo>
                <a:lnTo>
                  <a:pt x="21" y="304"/>
                </a:lnTo>
                <a:lnTo>
                  <a:pt x="17" y="298"/>
                </a:lnTo>
                <a:lnTo>
                  <a:pt x="11" y="286"/>
                </a:lnTo>
                <a:lnTo>
                  <a:pt x="5" y="279"/>
                </a:lnTo>
                <a:lnTo>
                  <a:pt x="4" y="269"/>
                </a:lnTo>
                <a:lnTo>
                  <a:pt x="2" y="261"/>
                </a:lnTo>
                <a:lnTo>
                  <a:pt x="0" y="256"/>
                </a:lnTo>
                <a:lnTo>
                  <a:pt x="0" y="254"/>
                </a:lnTo>
                <a:lnTo>
                  <a:pt x="2" y="252"/>
                </a:lnTo>
                <a:lnTo>
                  <a:pt x="4" y="250"/>
                </a:lnTo>
                <a:lnTo>
                  <a:pt x="5" y="248"/>
                </a:lnTo>
                <a:lnTo>
                  <a:pt x="9" y="246"/>
                </a:lnTo>
                <a:lnTo>
                  <a:pt x="13" y="244"/>
                </a:lnTo>
                <a:lnTo>
                  <a:pt x="17" y="242"/>
                </a:lnTo>
                <a:lnTo>
                  <a:pt x="23" y="238"/>
                </a:lnTo>
                <a:lnTo>
                  <a:pt x="29" y="236"/>
                </a:lnTo>
                <a:lnTo>
                  <a:pt x="36" y="233"/>
                </a:lnTo>
                <a:lnTo>
                  <a:pt x="44" y="229"/>
                </a:lnTo>
                <a:lnTo>
                  <a:pt x="52" y="227"/>
                </a:lnTo>
                <a:lnTo>
                  <a:pt x="61" y="223"/>
                </a:lnTo>
                <a:lnTo>
                  <a:pt x="71" y="219"/>
                </a:lnTo>
                <a:lnTo>
                  <a:pt x="82" y="215"/>
                </a:lnTo>
                <a:lnTo>
                  <a:pt x="94" y="211"/>
                </a:lnTo>
                <a:lnTo>
                  <a:pt x="105" y="206"/>
                </a:lnTo>
                <a:lnTo>
                  <a:pt x="119" y="202"/>
                </a:lnTo>
                <a:lnTo>
                  <a:pt x="132" y="198"/>
                </a:lnTo>
                <a:lnTo>
                  <a:pt x="146" y="192"/>
                </a:lnTo>
                <a:lnTo>
                  <a:pt x="161" y="186"/>
                </a:lnTo>
                <a:lnTo>
                  <a:pt x="176" y="183"/>
                </a:lnTo>
                <a:lnTo>
                  <a:pt x="194" y="177"/>
                </a:lnTo>
                <a:lnTo>
                  <a:pt x="211" y="171"/>
                </a:lnTo>
                <a:lnTo>
                  <a:pt x="228" y="165"/>
                </a:lnTo>
                <a:lnTo>
                  <a:pt x="247" y="160"/>
                </a:lnTo>
                <a:lnTo>
                  <a:pt x="267" y="154"/>
                </a:lnTo>
                <a:lnTo>
                  <a:pt x="288" y="146"/>
                </a:lnTo>
                <a:lnTo>
                  <a:pt x="309" y="140"/>
                </a:lnTo>
                <a:lnTo>
                  <a:pt x="330" y="135"/>
                </a:lnTo>
                <a:lnTo>
                  <a:pt x="353" y="127"/>
                </a:lnTo>
                <a:lnTo>
                  <a:pt x="376" y="119"/>
                </a:lnTo>
                <a:lnTo>
                  <a:pt x="399" y="114"/>
                </a:lnTo>
                <a:lnTo>
                  <a:pt x="420" y="106"/>
                </a:lnTo>
                <a:lnTo>
                  <a:pt x="441" y="98"/>
                </a:lnTo>
                <a:lnTo>
                  <a:pt x="462" y="92"/>
                </a:lnTo>
                <a:lnTo>
                  <a:pt x="482" y="87"/>
                </a:lnTo>
                <a:lnTo>
                  <a:pt x="501" y="81"/>
                </a:lnTo>
                <a:lnTo>
                  <a:pt x="520" y="75"/>
                </a:lnTo>
                <a:lnTo>
                  <a:pt x="537" y="69"/>
                </a:lnTo>
                <a:lnTo>
                  <a:pt x="554" y="64"/>
                </a:lnTo>
                <a:lnTo>
                  <a:pt x="572" y="58"/>
                </a:lnTo>
                <a:lnTo>
                  <a:pt x="587" y="52"/>
                </a:lnTo>
                <a:lnTo>
                  <a:pt x="602" y="48"/>
                </a:lnTo>
                <a:lnTo>
                  <a:pt x="618" y="43"/>
                </a:lnTo>
                <a:lnTo>
                  <a:pt x="631" y="39"/>
                </a:lnTo>
                <a:lnTo>
                  <a:pt x="647" y="35"/>
                </a:lnTo>
                <a:lnTo>
                  <a:pt x="658" y="31"/>
                </a:lnTo>
                <a:lnTo>
                  <a:pt x="672" y="27"/>
                </a:lnTo>
                <a:lnTo>
                  <a:pt x="683" y="23"/>
                </a:lnTo>
                <a:lnTo>
                  <a:pt x="693" y="19"/>
                </a:lnTo>
                <a:lnTo>
                  <a:pt x="704" y="18"/>
                </a:lnTo>
                <a:lnTo>
                  <a:pt x="714" y="14"/>
                </a:lnTo>
                <a:lnTo>
                  <a:pt x="721" y="12"/>
                </a:lnTo>
                <a:lnTo>
                  <a:pt x="731" y="10"/>
                </a:lnTo>
                <a:lnTo>
                  <a:pt x="739" y="8"/>
                </a:lnTo>
                <a:lnTo>
                  <a:pt x="744" y="6"/>
                </a:lnTo>
                <a:lnTo>
                  <a:pt x="752" y="4"/>
                </a:lnTo>
                <a:lnTo>
                  <a:pt x="758" y="2"/>
                </a:lnTo>
                <a:lnTo>
                  <a:pt x="764" y="2"/>
                </a:lnTo>
                <a:lnTo>
                  <a:pt x="767" y="0"/>
                </a:lnTo>
                <a:lnTo>
                  <a:pt x="771" y="0"/>
                </a:lnTo>
                <a:lnTo>
                  <a:pt x="775" y="0"/>
                </a:lnTo>
                <a:lnTo>
                  <a:pt x="777" y="0"/>
                </a:lnTo>
                <a:lnTo>
                  <a:pt x="796" y="0"/>
                </a:lnTo>
                <a:lnTo>
                  <a:pt x="806" y="0"/>
                </a:lnTo>
                <a:lnTo>
                  <a:pt x="815" y="2"/>
                </a:lnTo>
                <a:lnTo>
                  <a:pt x="825" y="2"/>
                </a:lnTo>
                <a:lnTo>
                  <a:pt x="837" y="6"/>
                </a:lnTo>
                <a:lnTo>
                  <a:pt x="848" y="10"/>
                </a:lnTo>
                <a:lnTo>
                  <a:pt x="862" y="16"/>
                </a:lnTo>
                <a:lnTo>
                  <a:pt x="869" y="18"/>
                </a:lnTo>
                <a:lnTo>
                  <a:pt x="875" y="21"/>
                </a:lnTo>
                <a:lnTo>
                  <a:pt x="881" y="25"/>
                </a:lnTo>
                <a:lnTo>
                  <a:pt x="885" y="29"/>
                </a:lnTo>
                <a:lnTo>
                  <a:pt x="890" y="33"/>
                </a:lnTo>
                <a:lnTo>
                  <a:pt x="894" y="37"/>
                </a:lnTo>
                <a:lnTo>
                  <a:pt x="900" y="44"/>
                </a:lnTo>
                <a:lnTo>
                  <a:pt x="906" y="54"/>
                </a:lnTo>
                <a:lnTo>
                  <a:pt x="908" y="62"/>
                </a:lnTo>
                <a:lnTo>
                  <a:pt x="910" y="69"/>
                </a:lnTo>
                <a:lnTo>
                  <a:pt x="911" y="75"/>
                </a:lnTo>
                <a:lnTo>
                  <a:pt x="910" y="81"/>
                </a:lnTo>
                <a:lnTo>
                  <a:pt x="910" y="87"/>
                </a:lnTo>
                <a:lnTo>
                  <a:pt x="908" y="92"/>
                </a:lnTo>
                <a:lnTo>
                  <a:pt x="906" y="96"/>
                </a:lnTo>
                <a:lnTo>
                  <a:pt x="904" y="102"/>
                </a:lnTo>
                <a:lnTo>
                  <a:pt x="900" y="108"/>
                </a:lnTo>
                <a:lnTo>
                  <a:pt x="896" y="114"/>
                </a:lnTo>
                <a:lnTo>
                  <a:pt x="890" y="117"/>
                </a:lnTo>
                <a:lnTo>
                  <a:pt x="885" y="123"/>
                </a:lnTo>
                <a:lnTo>
                  <a:pt x="879" y="127"/>
                </a:lnTo>
                <a:lnTo>
                  <a:pt x="871" y="133"/>
                </a:lnTo>
                <a:lnTo>
                  <a:pt x="863" y="137"/>
                </a:lnTo>
                <a:lnTo>
                  <a:pt x="856" y="140"/>
                </a:lnTo>
                <a:lnTo>
                  <a:pt x="846" y="144"/>
                </a:lnTo>
                <a:lnTo>
                  <a:pt x="837" y="146"/>
                </a:lnTo>
                <a:lnTo>
                  <a:pt x="825" y="150"/>
                </a:lnTo>
                <a:lnTo>
                  <a:pt x="814" y="156"/>
                </a:lnTo>
                <a:lnTo>
                  <a:pt x="800" y="162"/>
                </a:lnTo>
                <a:lnTo>
                  <a:pt x="785" y="169"/>
                </a:lnTo>
                <a:lnTo>
                  <a:pt x="766" y="175"/>
                </a:lnTo>
                <a:lnTo>
                  <a:pt x="748" y="183"/>
                </a:lnTo>
                <a:lnTo>
                  <a:pt x="727" y="190"/>
                </a:lnTo>
                <a:lnTo>
                  <a:pt x="704" y="198"/>
                </a:lnTo>
                <a:lnTo>
                  <a:pt x="679" y="206"/>
                </a:lnTo>
                <a:lnTo>
                  <a:pt x="654" y="215"/>
                </a:lnTo>
                <a:lnTo>
                  <a:pt x="627" y="223"/>
                </a:lnTo>
                <a:lnTo>
                  <a:pt x="597" y="233"/>
                </a:lnTo>
                <a:lnTo>
                  <a:pt x="566" y="242"/>
                </a:lnTo>
                <a:lnTo>
                  <a:pt x="533" y="254"/>
                </a:lnTo>
                <a:lnTo>
                  <a:pt x="499" y="263"/>
                </a:lnTo>
                <a:lnTo>
                  <a:pt x="462" y="275"/>
                </a:lnTo>
                <a:lnTo>
                  <a:pt x="426" y="286"/>
                </a:lnTo>
                <a:lnTo>
                  <a:pt x="387" y="296"/>
                </a:lnTo>
                <a:lnTo>
                  <a:pt x="351" y="305"/>
                </a:lnTo>
                <a:lnTo>
                  <a:pt x="316" y="315"/>
                </a:lnTo>
                <a:lnTo>
                  <a:pt x="284" y="323"/>
                </a:lnTo>
                <a:lnTo>
                  <a:pt x="253" y="329"/>
                </a:lnTo>
                <a:lnTo>
                  <a:pt x="224" y="334"/>
                </a:lnTo>
                <a:lnTo>
                  <a:pt x="211" y="336"/>
                </a:lnTo>
                <a:lnTo>
                  <a:pt x="197" y="340"/>
                </a:lnTo>
                <a:lnTo>
                  <a:pt x="186" y="340"/>
                </a:lnTo>
                <a:lnTo>
                  <a:pt x="172" y="342"/>
                </a:lnTo>
                <a:lnTo>
                  <a:pt x="161" y="344"/>
                </a:lnTo>
                <a:lnTo>
                  <a:pt x="149" y="344"/>
                </a:lnTo>
                <a:lnTo>
                  <a:pt x="140" y="346"/>
                </a:lnTo>
                <a:lnTo>
                  <a:pt x="128" y="346"/>
                </a:lnTo>
                <a:lnTo>
                  <a:pt x="119" y="346"/>
                </a:lnTo>
                <a:lnTo>
                  <a:pt x="111" y="346"/>
                </a:lnTo>
                <a:lnTo>
                  <a:pt x="101" y="346"/>
                </a:lnTo>
                <a:lnTo>
                  <a:pt x="94" y="346"/>
                </a:lnTo>
                <a:lnTo>
                  <a:pt x="86" y="344"/>
                </a:lnTo>
                <a:lnTo>
                  <a:pt x="78" y="344"/>
                </a:lnTo>
                <a:lnTo>
                  <a:pt x="73" y="342"/>
                </a:lnTo>
                <a:lnTo>
                  <a:pt x="67" y="340"/>
                </a:lnTo>
                <a:lnTo>
                  <a:pt x="61" y="338"/>
                </a:lnTo>
                <a:lnTo>
                  <a:pt x="57" y="336"/>
                </a:lnTo>
                <a:lnTo>
                  <a:pt x="52" y="332"/>
                </a:lnTo>
                <a:lnTo>
                  <a:pt x="50" y="3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75"/>
          <p:cNvSpPr/>
          <p:nvPr/>
        </p:nvSpPr>
        <p:spPr>
          <a:xfrm>
            <a:off x="5846760" y="3005280"/>
            <a:ext cx="250920" cy="1490400"/>
          </a:xfrm>
          <a:custGeom>
            <a:avLst/>
            <a:gdLst/>
            <a:ahLst/>
            <a:rect l="l" t="t" r="r" b="b"/>
            <a:pathLst>
              <a:path w="316" h="1877">
                <a:moveTo>
                  <a:pt x="261" y="1862"/>
                </a:moveTo>
                <a:lnTo>
                  <a:pt x="194" y="1870"/>
                </a:lnTo>
                <a:lnTo>
                  <a:pt x="128" y="1877"/>
                </a:lnTo>
                <a:lnTo>
                  <a:pt x="128" y="1831"/>
                </a:lnTo>
                <a:lnTo>
                  <a:pt x="128" y="1785"/>
                </a:lnTo>
                <a:lnTo>
                  <a:pt x="128" y="1741"/>
                </a:lnTo>
                <a:lnTo>
                  <a:pt x="128" y="1697"/>
                </a:lnTo>
                <a:lnTo>
                  <a:pt x="126" y="1653"/>
                </a:lnTo>
                <a:lnTo>
                  <a:pt x="126" y="1611"/>
                </a:lnTo>
                <a:lnTo>
                  <a:pt x="126" y="1568"/>
                </a:lnTo>
                <a:lnTo>
                  <a:pt x="126" y="1526"/>
                </a:lnTo>
                <a:lnTo>
                  <a:pt x="126" y="1486"/>
                </a:lnTo>
                <a:lnTo>
                  <a:pt x="126" y="1445"/>
                </a:lnTo>
                <a:lnTo>
                  <a:pt x="126" y="1407"/>
                </a:lnTo>
                <a:lnTo>
                  <a:pt x="126" y="1367"/>
                </a:lnTo>
                <a:lnTo>
                  <a:pt x="126" y="1328"/>
                </a:lnTo>
                <a:lnTo>
                  <a:pt x="126" y="1292"/>
                </a:lnTo>
                <a:lnTo>
                  <a:pt x="126" y="1255"/>
                </a:lnTo>
                <a:lnTo>
                  <a:pt x="126" y="1219"/>
                </a:lnTo>
                <a:lnTo>
                  <a:pt x="126" y="1183"/>
                </a:lnTo>
                <a:lnTo>
                  <a:pt x="124" y="1148"/>
                </a:lnTo>
                <a:lnTo>
                  <a:pt x="124" y="1113"/>
                </a:lnTo>
                <a:lnTo>
                  <a:pt x="124" y="1079"/>
                </a:lnTo>
                <a:lnTo>
                  <a:pt x="124" y="1046"/>
                </a:lnTo>
                <a:lnTo>
                  <a:pt x="123" y="1014"/>
                </a:lnTo>
                <a:lnTo>
                  <a:pt x="123" y="981"/>
                </a:lnTo>
                <a:lnTo>
                  <a:pt x="123" y="950"/>
                </a:lnTo>
                <a:lnTo>
                  <a:pt x="123" y="920"/>
                </a:lnTo>
                <a:lnTo>
                  <a:pt x="121" y="889"/>
                </a:lnTo>
                <a:lnTo>
                  <a:pt x="121" y="858"/>
                </a:lnTo>
                <a:lnTo>
                  <a:pt x="119" y="829"/>
                </a:lnTo>
                <a:lnTo>
                  <a:pt x="119" y="801"/>
                </a:lnTo>
                <a:lnTo>
                  <a:pt x="117" y="774"/>
                </a:lnTo>
                <a:lnTo>
                  <a:pt x="117" y="745"/>
                </a:lnTo>
                <a:lnTo>
                  <a:pt x="115" y="718"/>
                </a:lnTo>
                <a:lnTo>
                  <a:pt x="115" y="691"/>
                </a:lnTo>
                <a:lnTo>
                  <a:pt x="113" y="666"/>
                </a:lnTo>
                <a:lnTo>
                  <a:pt x="113" y="641"/>
                </a:lnTo>
                <a:lnTo>
                  <a:pt x="111" y="616"/>
                </a:lnTo>
                <a:lnTo>
                  <a:pt x="111" y="593"/>
                </a:lnTo>
                <a:lnTo>
                  <a:pt x="109" y="570"/>
                </a:lnTo>
                <a:lnTo>
                  <a:pt x="109" y="547"/>
                </a:lnTo>
                <a:lnTo>
                  <a:pt x="109" y="526"/>
                </a:lnTo>
                <a:lnTo>
                  <a:pt x="107" y="505"/>
                </a:lnTo>
                <a:lnTo>
                  <a:pt x="107" y="486"/>
                </a:lnTo>
                <a:lnTo>
                  <a:pt x="105" y="467"/>
                </a:lnTo>
                <a:lnTo>
                  <a:pt x="105" y="447"/>
                </a:lnTo>
                <a:lnTo>
                  <a:pt x="105" y="428"/>
                </a:lnTo>
                <a:lnTo>
                  <a:pt x="105" y="411"/>
                </a:lnTo>
                <a:lnTo>
                  <a:pt x="103" y="396"/>
                </a:lnTo>
                <a:lnTo>
                  <a:pt x="103" y="380"/>
                </a:lnTo>
                <a:lnTo>
                  <a:pt x="103" y="365"/>
                </a:lnTo>
                <a:lnTo>
                  <a:pt x="101" y="349"/>
                </a:lnTo>
                <a:lnTo>
                  <a:pt x="101" y="336"/>
                </a:lnTo>
                <a:lnTo>
                  <a:pt x="101" y="323"/>
                </a:lnTo>
                <a:lnTo>
                  <a:pt x="100" y="311"/>
                </a:lnTo>
                <a:lnTo>
                  <a:pt x="100" y="300"/>
                </a:lnTo>
                <a:lnTo>
                  <a:pt x="100" y="288"/>
                </a:lnTo>
                <a:lnTo>
                  <a:pt x="98" y="278"/>
                </a:lnTo>
                <a:lnTo>
                  <a:pt x="98" y="269"/>
                </a:lnTo>
                <a:lnTo>
                  <a:pt x="96" y="259"/>
                </a:lnTo>
                <a:lnTo>
                  <a:pt x="96" y="252"/>
                </a:lnTo>
                <a:lnTo>
                  <a:pt x="96" y="244"/>
                </a:lnTo>
                <a:lnTo>
                  <a:pt x="94" y="238"/>
                </a:lnTo>
                <a:lnTo>
                  <a:pt x="94" y="230"/>
                </a:lnTo>
                <a:lnTo>
                  <a:pt x="92" y="227"/>
                </a:lnTo>
                <a:lnTo>
                  <a:pt x="92" y="221"/>
                </a:lnTo>
                <a:lnTo>
                  <a:pt x="86" y="206"/>
                </a:lnTo>
                <a:lnTo>
                  <a:pt x="82" y="190"/>
                </a:lnTo>
                <a:lnTo>
                  <a:pt x="76" y="175"/>
                </a:lnTo>
                <a:lnTo>
                  <a:pt x="69" y="161"/>
                </a:lnTo>
                <a:lnTo>
                  <a:pt x="63" y="148"/>
                </a:lnTo>
                <a:lnTo>
                  <a:pt x="53" y="133"/>
                </a:lnTo>
                <a:lnTo>
                  <a:pt x="48" y="125"/>
                </a:lnTo>
                <a:lnTo>
                  <a:pt x="44" y="117"/>
                </a:lnTo>
                <a:lnTo>
                  <a:pt x="36" y="110"/>
                </a:lnTo>
                <a:lnTo>
                  <a:pt x="30" y="102"/>
                </a:lnTo>
                <a:lnTo>
                  <a:pt x="25" y="96"/>
                </a:lnTo>
                <a:lnTo>
                  <a:pt x="19" y="90"/>
                </a:lnTo>
                <a:lnTo>
                  <a:pt x="13" y="85"/>
                </a:lnTo>
                <a:lnTo>
                  <a:pt x="9" y="79"/>
                </a:lnTo>
                <a:lnTo>
                  <a:pt x="5" y="73"/>
                </a:lnTo>
                <a:lnTo>
                  <a:pt x="4" y="67"/>
                </a:lnTo>
                <a:lnTo>
                  <a:pt x="2" y="62"/>
                </a:lnTo>
                <a:lnTo>
                  <a:pt x="0" y="56"/>
                </a:lnTo>
                <a:lnTo>
                  <a:pt x="0" y="50"/>
                </a:lnTo>
                <a:lnTo>
                  <a:pt x="0" y="44"/>
                </a:lnTo>
                <a:lnTo>
                  <a:pt x="0" y="39"/>
                </a:lnTo>
                <a:lnTo>
                  <a:pt x="0" y="33"/>
                </a:lnTo>
                <a:lnTo>
                  <a:pt x="2" y="21"/>
                </a:lnTo>
                <a:lnTo>
                  <a:pt x="5" y="12"/>
                </a:lnTo>
                <a:lnTo>
                  <a:pt x="9" y="8"/>
                </a:lnTo>
                <a:lnTo>
                  <a:pt x="13" y="6"/>
                </a:lnTo>
                <a:lnTo>
                  <a:pt x="17" y="4"/>
                </a:lnTo>
                <a:lnTo>
                  <a:pt x="21" y="2"/>
                </a:lnTo>
                <a:lnTo>
                  <a:pt x="28" y="0"/>
                </a:lnTo>
                <a:lnTo>
                  <a:pt x="34" y="0"/>
                </a:lnTo>
                <a:lnTo>
                  <a:pt x="42" y="0"/>
                </a:lnTo>
                <a:lnTo>
                  <a:pt x="50" y="0"/>
                </a:lnTo>
                <a:lnTo>
                  <a:pt x="59" y="0"/>
                </a:lnTo>
                <a:lnTo>
                  <a:pt x="69" y="0"/>
                </a:lnTo>
                <a:lnTo>
                  <a:pt x="78" y="0"/>
                </a:lnTo>
                <a:lnTo>
                  <a:pt x="90" y="2"/>
                </a:lnTo>
                <a:lnTo>
                  <a:pt x="101" y="4"/>
                </a:lnTo>
                <a:lnTo>
                  <a:pt x="113" y="6"/>
                </a:lnTo>
                <a:lnTo>
                  <a:pt x="126" y="8"/>
                </a:lnTo>
                <a:lnTo>
                  <a:pt x="140" y="12"/>
                </a:lnTo>
                <a:lnTo>
                  <a:pt x="161" y="23"/>
                </a:lnTo>
                <a:lnTo>
                  <a:pt x="182" y="35"/>
                </a:lnTo>
                <a:lnTo>
                  <a:pt x="203" y="46"/>
                </a:lnTo>
                <a:lnTo>
                  <a:pt x="222" y="58"/>
                </a:lnTo>
                <a:lnTo>
                  <a:pt x="240" y="71"/>
                </a:lnTo>
                <a:lnTo>
                  <a:pt x="255" y="85"/>
                </a:lnTo>
                <a:lnTo>
                  <a:pt x="270" y="100"/>
                </a:lnTo>
                <a:lnTo>
                  <a:pt x="286" y="117"/>
                </a:lnTo>
                <a:lnTo>
                  <a:pt x="291" y="125"/>
                </a:lnTo>
                <a:lnTo>
                  <a:pt x="297" y="133"/>
                </a:lnTo>
                <a:lnTo>
                  <a:pt x="301" y="142"/>
                </a:lnTo>
                <a:lnTo>
                  <a:pt x="307" y="150"/>
                </a:lnTo>
                <a:lnTo>
                  <a:pt x="309" y="159"/>
                </a:lnTo>
                <a:lnTo>
                  <a:pt x="313" y="167"/>
                </a:lnTo>
                <a:lnTo>
                  <a:pt x="314" y="177"/>
                </a:lnTo>
                <a:lnTo>
                  <a:pt x="314" y="186"/>
                </a:lnTo>
                <a:lnTo>
                  <a:pt x="316" y="196"/>
                </a:lnTo>
                <a:lnTo>
                  <a:pt x="316" y="206"/>
                </a:lnTo>
                <a:lnTo>
                  <a:pt x="316" y="215"/>
                </a:lnTo>
                <a:lnTo>
                  <a:pt x="316" y="225"/>
                </a:lnTo>
                <a:lnTo>
                  <a:pt x="313" y="244"/>
                </a:lnTo>
                <a:lnTo>
                  <a:pt x="311" y="267"/>
                </a:lnTo>
                <a:lnTo>
                  <a:pt x="309" y="275"/>
                </a:lnTo>
                <a:lnTo>
                  <a:pt x="307" y="286"/>
                </a:lnTo>
                <a:lnTo>
                  <a:pt x="307" y="300"/>
                </a:lnTo>
                <a:lnTo>
                  <a:pt x="305" y="317"/>
                </a:lnTo>
                <a:lnTo>
                  <a:pt x="303" y="334"/>
                </a:lnTo>
                <a:lnTo>
                  <a:pt x="301" y="357"/>
                </a:lnTo>
                <a:lnTo>
                  <a:pt x="301" y="380"/>
                </a:lnTo>
                <a:lnTo>
                  <a:pt x="299" y="407"/>
                </a:lnTo>
                <a:lnTo>
                  <a:pt x="297" y="438"/>
                </a:lnTo>
                <a:lnTo>
                  <a:pt x="295" y="470"/>
                </a:lnTo>
                <a:lnTo>
                  <a:pt x="293" y="505"/>
                </a:lnTo>
                <a:lnTo>
                  <a:pt x="291" y="543"/>
                </a:lnTo>
                <a:lnTo>
                  <a:pt x="290" y="584"/>
                </a:lnTo>
                <a:lnTo>
                  <a:pt x="290" y="626"/>
                </a:lnTo>
                <a:lnTo>
                  <a:pt x="288" y="672"/>
                </a:lnTo>
                <a:lnTo>
                  <a:pt x="286" y="720"/>
                </a:lnTo>
                <a:lnTo>
                  <a:pt x="284" y="772"/>
                </a:lnTo>
                <a:lnTo>
                  <a:pt x="282" y="826"/>
                </a:lnTo>
                <a:lnTo>
                  <a:pt x="280" y="881"/>
                </a:lnTo>
                <a:lnTo>
                  <a:pt x="278" y="941"/>
                </a:lnTo>
                <a:lnTo>
                  <a:pt x="276" y="1002"/>
                </a:lnTo>
                <a:lnTo>
                  <a:pt x="274" y="1067"/>
                </a:lnTo>
                <a:lnTo>
                  <a:pt x="274" y="1135"/>
                </a:lnTo>
                <a:lnTo>
                  <a:pt x="272" y="1204"/>
                </a:lnTo>
                <a:lnTo>
                  <a:pt x="270" y="1277"/>
                </a:lnTo>
                <a:lnTo>
                  <a:pt x="268" y="1351"/>
                </a:lnTo>
                <a:lnTo>
                  <a:pt x="267" y="1430"/>
                </a:lnTo>
                <a:lnTo>
                  <a:pt x="267" y="1511"/>
                </a:lnTo>
                <a:lnTo>
                  <a:pt x="265" y="1595"/>
                </a:lnTo>
                <a:lnTo>
                  <a:pt x="263" y="1682"/>
                </a:lnTo>
                <a:lnTo>
                  <a:pt x="263" y="1770"/>
                </a:lnTo>
                <a:lnTo>
                  <a:pt x="261" y="18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墓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0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11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艹”宽扁；“大”的撇捺要伸展，盖住下面的“土”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2171880" y="1868400"/>
            <a:ext cx="104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137"/>
          <p:cNvSpPr/>
          <p:nvPr/>
        </p:nvSpPr>
        <p:spPr>
          <a:xfrm>
            <a:off x="5924520" y="4827600"/>
            <a:ext cx="1266840" cy="200160"/>
          </a:xfrm>
          <a:custGeom>
            <a:avLst/>
            <a:gdLst/>
            <a:ahLst/>
            <a:rect l="l" t="t" r="r" b="b"/>
            <a:pathLst>
              <a:path w="1609" h="251">
                <a:moveTo>
                  <a:pt x="37" y="203"/>
                </a:moveTo>
                <a:lnTo>
                  <a:pt x="29" y="195"/>
                </a:lnTo>
                <a:lnTo>
                  <a:pt x="23" y="190"/>
                </a:lnTo>
                <a:lnTo>
                  <a:pt x="20" y="184"/>
                </a:lnTo>
                <a:lnTo>
                  <a:pt x="14" y="180"/>
                </a:lnTo>
                <a:lnTo>
                  <a:pt x="10" y="174"/>
                </a:lnTo>
                <a:lnTo>
                  <a:pt x="8" y="170"/>
                </a:lnTo>
                <a:lnTo>
                  <a:pt x="4" y="167"/>
                </a:lnTo>
                <a:lnTo>
                  <a:pt x="2" y="163"/>
                </a:lnTo>
                <a:lnTo>
                  <a:pt x="2" y="161"/>
                </a:lnTo>
                <a:lnTo>
                  <a:pt x="0" y="157"/>
                </a:lnTo>
                <a:lnTo>
                  <a:pt x="0" y="155"/>
                </a:lnTo>
                <a:lnTo>
                  <a:pt x="2" y="151"/>
                </a:lnTo>
                <a:lnTo>
                  <a:pt x="4" y="149"/>
                </a:lnTo>
                <a:lnTo>
                  <a:pt x="6" y="147"/>
                </a:lnTo>
                <a:lnTo>
                  <a:pt x="8" y="144"/>
                </a:lnTo>
                <a:lnTo>
                  <a:pt x="14" y="142"/>
                </a:lnTo>
                <a:lnTo>
                  <a:pt x="16" y="140"/>
                </a:lnTo>
                <a:lnTo>
                  <a:pt x="18" y="138"/>
                </a:lnTo>
                <a:lnTo>
                  <a:pt x="22" y="136"/>
                </a:lnTo>
                <a:lnTo>
                  <a:pt x="25" y="136"/>
                </a:lnTo>
                <a:lnTo>
                  <a:pt x="35" y="134"/>
                </a:lnTo>
                <a:lnTo>
                  <a:pt x="47" y="132"/>
                </a:lnTo>
                <a:lnTo>
                  <a:pt x="58" y="130"/>
                </a:lnTo>
                <a:lnTo>
                  <a:pt x="73" y="130"/>
                </a:lnTo>
                <a:lnTo>
                  <a:pt x="89" y="130"/>
                </a:lnTo>
                <a:lnTo>
                  <a:pt x="106" y="130"/>
                </a:lnTo>
                <a:lnTo>
                  <a:pt x="110" y="130"/>
                </a:lnTo>
                <a:lnTo>
                  <a:pt x="114" y="130"/>
                </a:lnTo>
                <a:lnTo>
                  <a:pt x="119" y="130"/>
                </a:lnTo>
                <a:lnTo>
                  <a:pt x="125" y="128"/>
                </a:lnTo>
                <a:lnTo>
                  <a:pt x="133" y="128"/>
                </a:lnTo>
                <a:lnTo>
                  <a:pt x="141" y="128"/>
                </a:lnTo>
                <a:lnTo>
                  <a:pt x="150" y="126"/>
                </a:lnTo>
                <a:lnTo>
                  <a:pt x="160" y="126"/>
                </a:lnTo>
                <a:lnTo>
                  <a:pt x="169" y="124"/>
                </a:lnTo>
                <a:lnTo>
                  <a:pt x="181" y="124"/>
                </a:lnTo>
                <a:lnTo>
                  <a:pt x="194" y="122"/>
                </a:lnTo>
                <a:lnTo>
                  <a:pt x="208" y="121"/>
                </a:lnTo>
                <a:lnTo>
                  <a:pt x="221" y="119"/>
                </a:lnTo>
                <a:lnTo>
                  <a:pt x="237" y="119"/>
                </a:lnTo>
                <a:lnTo>
                  <a:pt x="252" y="117"/>
                </a:lnTo>
                <a:lnTo>
                  <a:pt x="269" y="115"/>
                </a:lnTo>
                <a:lnTo>
                  <a:pt x="286" y="113"/>
                </a:lnTo>
                <a:lnTo>
                  <a:pt x="304" y="111"/>
                </a:lnTo>
                <a:lnTo>
                  <a:pt x="323" y="107"/>
                </a:lnTo>
                <a:lnTo>
                  <a:pt x="344" y="105"/>
                </a:lnTo>
                <a:lnTo>
                  <a:pt x="365" y="103"/>
                </a:lnTo>
                <a:lnTo>
                  <a:pt x="386" y="101"/>
                </a:lnTo>
                <a:lnTo>
                  <a:pt x="409" y="97"/>
                </a:lnTo>
                <a:lnTo>
                  <a:pt x="432" y="96"/>
                </a:lnTo>
                <a:lnTo>
                  <a:pt x="455" y="92"/>
                </a:lnTo>
                <a:lnTo>
                  <a:pt x="482" y="90"/>
                </a:lnTo>
                <a:lnTo>
                  <a:pt x="507" y="86"/>
                </a:lnTo>
                <a:lnTo>
                  <a:pt x="534" y="84"/>
                </a:lnTo>
                <a:lnTo>
                  <a:pt x="561" y="80"/>
                </a:lnTo>
                <a:lnTo>
                  <a:pt x="590" y="78"/>
                </a:lnTo>
                <a:lnTo>
                  <a:pt x="619" y="74"/>
                </a:lnTo>
                <a:lnTo>
                  <a:pt x="649" y="71"/>
                </a:lnTo>
                <a:lnTo>
                  <a:pt x="678" y="67"/>
                </a:lnTo>
                <a:lnTo>
                  <a:pt x="707" y="61"/>
                </a:lnTo>
                <a:lnTo>
                  <a:pt x="734" y="57"/>
                </a:lnTo>
                <a:lnTo>
                  <a:pt x="761" y="53"/>
                </a:lnTo>
                <a:lnTo>
                  <a:pt x="787" y="49"/>
                </a:lnTo>
                <a:lnTo>
                  <a:pt x="812" y="46"/>
                </a:lnTo>
                <a:lnTo>
                  <a:pt x="839" y="42"/>
                </a:lnTo>
                <a:lnTo>
                  <a:pt x="862" y="38"/>
                </a:lnTo>
                <a:lnTo>
                  <a:pt x="887" y="36"/>
                </a:lnTo>
                <a:lnTo>
                  <a:pt x="910" y="32"/>
                </a:lnTo>
                <a:lnTo>
                  <a:pt x="933" y="28"/>
                </a:lnTo>
                <a:lnTo>
                  <a:pt x="954" y="26"/>
                </a:lnTo>
                <a:lnTo>
                  <a:pt x="977" y="25"/>
                </a:lnTo>
                <a:lnTo>
                  <a:pt x="997" y="21"/>
                </a:lnTo>
                <a:lnTo>
                  <a:pt x="1018" y="19"/>
                </a:lnTo>
                <a:lnTo>
                  <a:pt x="1037" y="17"/>
                </a:lnTo>
                <a:lnTo>
                  <a:pt x="1056" y="15"/>
                </a:lnTo>
                <a:lnTo>
                  <a:pt x="1073" y="13"/>
                </a:lnTo>
                <a:lnTo>
                  <a:pt x="1093" y="11"/>
                </a:lnTo>
                <a:lnTo>
                  <a:pt x="1108" y="9"/>
                </a:lnTo>
                <a:lnTo>
                  <a:pt x="1125" y="7"/>
                </a:lnTo>
                <a:lnTo>
                  <a:pt x="1141" y="5"/>
                </a:lnTo>
                <a:lnTo>
                  <a:pt x="1156" y="3"/>
                </a:lnTo>
                <a:lnTo>
                  <a:pt x="1169" y="3"/>
                </a:lnTo>
                <a:lnTo>
                  <a:pt x="1185" y="2"/>
                </a:lnTo>
                <a:lnTo>
                  <a:pt x="1196" y="2"/>
                </a:lnTo>
                <a:lnTo>
                  <a:pt x="1210" y="0"/>
                </a:lnTo>
                <a:lnTo>
                  <a:pt x="1221" y="0"/>
                </a:lnTo>
                <a:lnTo>
                  <a:pt x="1233" y="0"/>
                </a:lnTo>
                <a:lnTo>
                  <a:pt x="1242" y="0"/>
                </a:lnTo>
                <a:lnTo>
                  <a:pt x="1252" y="0"/>
                </a:lnTo>
                <a:lnTo>
                  <a:pt x="1262" y="0"/>
                </a:lnTo>
                <a:lnTo>
                  <a:pt x="1279" y="0"/>
                </a:lnTo>
                <a:lnTo>
                  <a:pt x="1296" y="0"/>
                </a:lnTo>
                <a:lnTo>
                  <a:pt x="1311" y="2"/>
                </a:lnTo>
                <a:lnTo>
                  <a:pt x="1329" y="3"/>
                </a:lnTo>
                <a:lnTo>
                  <a:pt x="1344" y="5"/>
                </a:lnTo>
                <a:lnTo>
                  <a:pt x="1361" y="9"/>
                </a:lnTo>
                <a:lnTo>
                  <a:pt x="1377" y="13"/>
                </a:lnTo>
                <a:lnTo>
                  <a:pt x="1392" y="17"/>
                </a:lnTo>
                <a:lnTo>
                  <a:pt x="1406" y="21"/>
                </a:lnTo>
                <a:lnTo>
                  <a:pt x="1421" y="26"/>
                </a:lnTo>
                <a:lnTo>
                  <a:pt x="1436" y="32"/>
                </a:lnTo>
                <a:lnTo>
                  <a:pt x="1450" y="38"/>
                </a:lnTo>
                <a:lnTo>
                  <a:pt x="1463" y="46"/>
                </a:lnTo>
                <a:lnTo>
                  <a:pt x="1477" y="53"/>
                </a:lnTo>
                <a:lnTo>
                  <a:pt x="1490" y="61"/>
                </a:lnTo>
                <a:lnTo>
                  <a:pt x="1503" y="71"/>
                </a:lnTo>
                <a:lnTo>
                  <a:pt x="1517" y="78"/>
                </a:lnTo>
                <a:lnTo>
                  <a:pt x="1528" y="84"/>
                </a:lnTo>
                <a:lnTo>
                  <a:pt x="1540" y="92"/>
                </a:lnTo>
                <a:lnTo>
                  <a:pt x="1549" y="97"/>
                </a:lnTo>
                <a:lnTo>
                  <a:pt x="1559" y="103"/>
                </a:lnTo>
                <a:lnTo>
                  <a:pt x="1567" y="111"/>
                </a:lnTo>
                <a:lnTo>
                  <a:pt x="1574" y="117"/>
                </a:lnTo>
                <a:lnTo>
                  <a:pt x="1582" y="122"/>
                </a:lnTo>
                <a:lnTo>
                  <a:pt x="1588" y="128"/>
                </a:lnTo>
                <a:lnTo>
                  <a:pt x="1594" y="136"/>
                </a:lnTo>
                <a:lnTo>
                  <a:pt x="1597" y="142"/>
                </a:lnTo>
                <a:lnTo>
                  <a:pt x="1601" y="145"/>
                </a:lnTo>
                <a:lnTo>
                  <a:pt x="1605" y="151"/>
                </a:lnTo>
                <a:lnTo>
                  <a:pt x="1607" y="157"/>
                </a:lnTo>
                <a:lnTo>
                  <a:pt x="1607" y="161"/>
                </a:lnTo>
                <a:lnTo>
                  <a:pt x="1609" y="167"/>
                </a:lnTo>
                <a:lnTo>
                  <a:pt x="1607" y="174"/>
                </a:lnTo>
                <a:lnTo>
                  <a:pt x="1607" y="178"/>
                </a:lnTo>
                <a:lnTo>
                  <a:pt x="1607" y="182"/>
                </a:lnTo>
                <a:lnTo>
                  <a:pt x="1605" y="186"/>
                </a:lnTo>
                <a:lnTo>
                  <a:pt x="1603" y="188"/>
                </a:lnTo>
                <a:lnTo>
                  <a:pt x="1599" y="190"/>
                </a:lnTo>
                <a:lnTo>
                  <a:pt x="1596" y="190"/>
                </a:lnTo>
                <a:lnTo>
                  <a:pt x="1594" y="190"/>
                </a:lnTo>
                <a:lnTo>
                  <a:pt x="1590" y="190"/>
                </a:lnTo>
                <a:lnTo>
                  <a:pt x="1588" y="190"/>
                </a:lnTo>
                <a:lnTo>
                  <a:pt x="1584" y="190"/>
                </a:lnTo>
                <a:lnTo>
                  <a:pt x="1580" y="190"/>
                </a:lnTo>
                <a:lnTo>
                  <a:pt x="1574" y="190"/>
                </a:lnTo>
                <a:lnTo>
                  <a:pt x="1571" y="190"/>
                </a:lnTo>
                <a:lnTo>
                  <a:pt x="1565" y="190"/>
                </a:lnTo>
                <a:lnTo>
                  <a:pt x="1557" y="190"/>
                </a:lnTo>
                <a:lnTo>
                  <a:pt x="1551" y="190"/>
                </a:lnTo>
                <a:lnTo>
                  <a:pt x="1544" y="190"/>
                </a:lnTo>
                <a:lnTo>
                  <a:pt x="1534" y="190"/>
                </a:lnTo>
                <a:lnTo>
                  <a:pt x="1526" y="190"/>
                </a:lnTo>
                <a:lnTo>
                  <a:pt x="1517" y="190"/>
                </a:lnTo>
                <a:lnTo>
                  <a:pt x="1507" y="190"/>
                </a:lnTo>
                <a:lnTo>
                  <a:pt x="1496" y="188"/>
                </a:lnTo>
                <a:lnTo>
                  <a:pt x="1484" y="188"/>
                </a:lnTo>
                <a:lnTo>
                  <a:pt x="1473" y="188"/>
                </a:lnTo>
                <a:lnTo>
                  <a:pt x="1461" y="188"/>
                </a:lnTo>
                <a:lnTo>
                  <a:pt x="1448" y="188"/>
                </a:lnTo>
                <a:lnTo>
                  <a:pt x="1434" y="186"/>
                </a:lnTo>
                <a:lnTo>
                  <a:pt x="1419" y="186"/>
                </a:lnTo>
                <a:lnTo>
                  <a:pt x="1404" y="186"/>
                </a:lnTo>
                <a:lnTo>
                  <a:pt x="1388" y="184"/>
                </a:lnTo>
                <a:lnTo>
                  <a:pt x="1373" y="184"/>
                </a:lnTo>
                <a:lnTo>
                  <a:pt x="1356" y="184"/>
                </a:lnTo>
                <a:lnTo>
                  <a:pt x="1338" y="182"/>
                </a:lnTo>
                <a:lnTo>
                  <a:pt x="1319" y="182"/>
                </a:lnTo>
                <a:lnTo>
                  <a:pt x="1302" y="180"/>
                </a:lnTo>
                <a:lnTo>
                  <a:pt x="1281" y="180"/>
                </a:lnTo>
                <a:lnTo>
                  <a:pt x="1262" y="178"/>
                </a:lnTo>
                <a:lnTo>
                  <a:pt x="1179" y="174"/>
                </a:lnTo>
                <a:lnTo>
                  <a:pt x="1095" y="172"/>
                </a:lnTo>
                <a:lnTo>
                  <a:pt x="1052" y="170"/>
                </a:lnTo>
                <a:lnTo>
                  <a:pt x="1010" y="170"/>
                </a:lnTo>
                <a:lnTo>
                  <a:pt x="966" y="170"/>
                </a:lnTo>
                <a:lnTo>
                  <a:pt x="924" y="172"/>
                </a:lnTo>
                <a:lnTo>
                  <a:pt x="880" y="174"/>
                </a:lnTo>
                <a:lnTo>
                  <a:pt x="835" y="176"/>
                </a:lnTo>
                <a:lnTo>
                  <a:pt x="791" y="178"/>
                </a:lnTo>
                <a:lnTo>
                  <a:pt x="747" y="182"/>
                </a:lnTo>
                <a:lnTo>
                  <a:pt x="703" y="186"/>
                </a:lnTo>
                <a:lnTo>
                  <a:pt x="659" y="190"/>
                </a:lnTo>
                <a:lnTo>
                  <a:pt x="613" y="195"/>
                </a:lnTo>
                <a:lnTo>
                  <a:pt x="569" y="203"/>
                </a:lnTo>
                <a:lnTo>
                  <a:pt x="546" y="205"/>
                </a:lnTo>
                <a:lnTo>
                  <a:pt x="523" y="209"/>
                </a:lnTo>
                <a:lnTo>
                  <a:pt x="501" y="213"/>
                </a:lnTo>
                <a:lnTo>
                  <a:pt x="482" y="215"/>
                </a:lnTo>
                <a:lnTo>
                  <a:pt x="461" y="218"/>
                </a:lnTo>
                <a:lnTo>
                  <a:pt x="442" y="220"/>
                </a:lnTo>
                <a:lnTo>
                  <a:pt x="423" y="222"/>
                </a:lnTo>
                <a:lnTo>
                  <a:pt x="405" y="226"/>
                </a:lnTo>
                <a:lnTo>
                  <a:pt x="388" y="228"/>
                </a:lnTo>
                <a:lnTo>
                  <a:pt x="371" y="230"/>
                </a:lnTo>
                <a:lnTo>
                  <a:pt x="354" y="232"/>
                </a:lnTo>
                <a:lnTo>
                  <a:pt x="338" y="234"/>
                </a:lnTo>
                <a:lnTo>
                  <a:pt x="323" y="236"/>
                </a:lnTo>
                <a:lnTo>
                  <a:pt x="310" y="238"/>
                </a:lnTo>
                <a:lnTo>
                  <a:pt x="294" y="238"/>
                </a:lnTo>
                <a:lnTo>
                  <a:pt x="281" y="240"/>
                </a:lnTo>
                <a:lnTo>
                  <a:pt x="269" y="241"/>
                </a:lnTo>
                <a:lnTo>
                  <a:pt x="258" y="243"/>
                </a:lnTo>
                <a:lnTo>
                  <a:pt x="246" y="243"/>
                </a:lnTo>
                <a:lnTo>
                  <a:pt x="235" y="245"/>
                </a:lnTo>
                <a:lnTo>
                  <a:pt x="225" y="245"/>
                </a:lnTo>
                <a:lnTo>
                  <a:pt x="215" y="247"/>
                </a:lnTo>
                <a:lnTo>
                  <a:pt x="206" y="247"/>
                </a:lnTo>
                <a:lnTo>
                  <a:pt x="196" y="247"/>
                </a:lnTo>
                <a:lnTo>
                  <a:pt x="189" y="249"/>
                </a:lnTo>
                <a:lnTo>
                  <a:pt x="183" y="249"/>
                </a:lnTo>
                <a:lnTo>
                  <a:pt x="175" y="249"/>
                </a:lnTo>
                <a:lnTo>
                  <a:pt x="169" y="249"/>
                </a:lnTo>
                <a:lnTo>
                  <a:pt x="164" y="249"/>
                </a:lnTo>
                <a:lnTo>
                  <a:pt x="160" y="249"/>
                </a:lnTo>
                <a:lnTo>
                  <a:pt x="156" y="251"/>
                </a:lnTo>
                <a:lnTo>
                  <a:pt x="152" y="251"/>
                </a:lnTo>
                <a:lnTo>
                  <a:pt x="139" y="249"/>
                </a:lnTo>
                <a:lnTo>
                  <a:pt x="123" y="247"/>
                </a:lnTo>
                <a:lnTo>
                  <a:pt x="110" y="245"/>
                </a:lnTo>
                <a:lnTo>
                  <a:pt x="95" y="240"/>
                </a:lnTo>
                <a:lnTo>
                  <a:pt x="79" y="234"/>
                </a:lnTo>
                <a:lnTo>
                  <a:pt x="71" y="230"/>
                </a:lnTo>
                <a:lnTo>
                  <a:pt x="64" y="224"/>
                </a:lnTo>
                <a:lnTo>
                  <a:pt x="56" y="220"/>
                </a:lnTo>
                <a:lnTo>
                  <a:pt x="50" y="215"/>
                </a:lnTo>
                <a:lnTo>
                  <a:pt x="43" y="209"/>
                </a:lnTo>
                <a:lnTo>
                  <a:pt x="37" y="2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38"/>
          <p:cNvSpPr/>
          <p:nvPr/>
        </p:nvSpPr>
        <p:spPr>
          <a:xfrm>
            <a:off x="6424560" y="4276800"/>
            <a:ext cx="196920" cy="625320"/>
          </a:xfrm>
          <a:custGeom>
            <a:avLst/>
            <a:gdLst/>
            <a:ahLst/>
            <a:rect l="l" t="t" r="r" b="b"/>
            <a:pathLst>
              <a:path w="249" h="787">
                <a:moveTo>
                  <a:pt x="203" y="787"/>
                </a:moveTo>
                <a:lnTo>
                  <a:pt x="134" y="787"/>
                </a:lnTo>
                <a:lnTo>
                  <a:pt x="65" y="787"/>
                </a:lnTo>
                <a:lnTo>
                  <a:pt x="65" y="744"/>
                </a:lnTo>
                <a:lnTo>
                  <a:pt x="65" y="702"/>
                </a:lnTo>
                <a:lnTo>
                  <a:pt x="65" y="662"/>
                </a:lnTo>
                <a:lnTo>
                  <a:pt x="63" y="623"/>
                </a:lnTo>
                <a:lnTo>
                  <a:pt x="63" y="585"/>
                </a:lnTo>
                <a:lnTo>
                  <a:pt x="63" y="549"/>
                </a:lnTo>
                <a:lnTo>
                  <a:pt x="63" y="514"/>
                </a:lnTo>
                <a:lnTo>
                  <a:pt x="63" y="480"/>
                </a:lnTo>
                <a:lnTo>
                  <a:pt x="61" y="447"/>
                </a:lnTo>
                <a:lnTo>
                  <a:pt x="61" y="416"/>
                </a:lnTo>
                <a:lnTo>
                  <a:pt x="61" y="385"/>
                </a:lnTo>
                <a:lnTo>
                  <a:pt x="59" y="357"/>
                </a:lnTo>
                <a:lnTo>
                  <a:pt x="59" y="330"/>
                </a:lnTo>
                <a:lnTo>
                  <a:pt x="57" y="305"/>
                </a:lnTo>
                <a:lnTo>
                  <a:pt x="57" y="280"/>
                </a:lnTo>
                <a:lnTo>
                  <a:pt x="55" y="257"/>
                </a:lnTo>
                <a:lnTo>
                  <a:pt x="55" y="236"/>
                </a:lnTo>
                <a:lnTo>
                  <a:pt x="53" y="215"/>
                </a:lnTo>
                <a:lnTo>
                  <a:pt x="51" y="195"/>
                </a:lnTo>
                <a:lnTo>
                  <a:pt x="51" y="178"/>
                </a:lnTo>
                <a:lnTo>
                  <a:pt x="49" y="161"/>
                </a:lnTo>
                <a:lnTo>
                  <a:pt x="48" y="146"/>
                </a:lnTo>
                <a:lnTo>
                  <a:pt x="46" y="132"/>
                </a:lnTo>
                <a:lnTo>
                  <a:pt x="46" y="121"/>
                </a:lnTo>
                <a:lnTo>
                  <a:pt x="44" y="109"/>
                </a:lnTo>
                <a:lnTo>
                  <a:pt x="42" y="99"/>
                </a:lnTo>
                <a:lnTo>
                  <a:pt x="40" y="90"/>
                </a:lnTo>
                <a:lnTo>
                  <a:pt x="38" y="84"/>
                </a:lnTo>
                <a:lnTo>
                  <a:pt x="36" y="76"/>
                </a:lnTo>
                <a:lnTo>
                  <a:pt x="34" y="73"/>
                </a:lnTo>
                <a:lnTo>
                  <a:pt x="32" y="69"/>
                </a:lnTo>
                <a:lnTo>
                  <a:pt x="30" y="69"/>
                </a:lnTo>
                <a:lnTo>
                  <a:pt x="25" y="65"/>
                </a:lnTo>
                <a:lnTo>
                  <a:pt x="19" y="63"/>
                </a:lnTo>
                <a:lnTo>
                  <a:pt x="13" y="59"/>
                </a:lnTo>
                <a:lnTo>
                  <a:pt x="9" y="57"/>
                </a:lnTo>
                <a:lnTo>
                  <a:pt x="7" y="53"/>
                </a:lnTo>
                <a:lnTo>
                  <a:pt x="3" y="50"/>
                </a:lnTo>
                <a:lnTo>
                  <a:pt x="1" y="46"/>
                </a:lnTo>
                <a:lnTo>
                  <a:pt x="1" y="42"/>
                </a:lnTo>
                <a:lnTo>
                  <a:pt x="0" y="38"/>
                </a:lnTo>
                <a:lnTo>
                  <a:pt x="0" y="34"/>
                </a:lnTo>
                <a:lnTo>
                  <a:pt x="1" y="27"/>
                </a:lnTo>
                <a:lnTo>
                  <a:pt x="3" y="17"/>
                </a:lnTo>
                <a:lnTo>
                  <a:pt x="7" y="9"/>
                </a:lnTo>
                <a:lnTo>
                  <a:pt x="9" y="5"/>
                </a:lnTo>
                <a:lnTo>
                  <a:pt x="13" y="3"/>
                </a:lnTo>
                <a:lnTo>
                  <a:pt x="15" y="3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6" y="0"/>
                </a:lnTo>
                <a:lnTo>
                  <a:pt x="44" y="0"/>
                </a:lnTo>
                <a:lnTo>
                  <a:pt x="51" y="0"/>
                </a:lnTo>
                <a:lnTo>
                  <a:pt x="61" y="0"/>
                </a:lnTo>
                <a:lnTo>
                  <a:pt x="71" y="0"/>
                </a:lnTo>
                <a:lnTo>
                  <a:pt x="82" y="2"/>
                </a:lnTo>
                <a:lnTo>
                  <a:pt x="94" y="3"/>
                </a:lnTo>
                <a:lnTo>
                  <a:pt x="105" y="3"/>
                </a:lnTo>
                <a:lnTo>
                  <a:pt x="119" y="5"/>
                </a:lnTo>
                <a:lnTo>
                  <a:pt x="134" y="9"/>
                </a:lnTo>
                <a:lnTo>
                  <a:pt x="145" y="13"/>
                </a:lnTo>
                <a:lnTo>
                  <a:pt x="159" y="17"/>
                </a:lnTo>
                <a:lnTo>
                  <a:pt x="168" y="23"/>
                </a:lnTo>
                <a:lnTo>
                  <a:pt x="180" y="27"/>
                </a:lnTo>
                <a:lnTo>
                  <a:pt x="190" y="30"/>
                </a:lnTo>
                <a:lnTo>
                  <a:pt x="197" y="36"/>
                </a:lnTo>
                <a:lnTo>
                  <a:pt x="205" y="40"/>
                </a:lnTo>
                <a:lnTo>
                  <a:pt x="213" y="44"/>
                </a:lnTo>
                <a:lnTo>
                  <a:pt x="220" y="48"/>
                </a:lnTo>
                <a:lnTo>
                  <a:pt x="226" y="53"/>
                </a:lnTo>
                <a:lnTo>
                  <a:pt x="232" y="57"/>
                </a:lnTo>
                <a:lnTo>
                  <a:pt x="236" y="61"/>
                </a:lnTo>
                <a:lnTo>
                  <a:pt x="240" y="67"/>
                </a:lnTo>
                <a:lnTo>
                  <a:pt x="243" y="71"/>
                </a:lnTo>
                <a:lnTo>
                  <a:pt x="247" y="75"/>
                </a:lnTo>
                <a:lnTo>
                  <a:pt x="249" y="80"/>
                </a:lnTo>
                <a:lnTo>
                  <a:pt x="249" y="94"/>
                </a:lnTo>
                <a:lnTo>
                  <a:pt x="247" y="105"/>
                </a:lnTo>
                <a:lnTo>
                  <a:pt x="245" y="117"/>
                </a:lnTo>
                <a:lnTo>
                  <a:pt x="241" y="128"/>
                </a:lnTo>
                <a:lnTo>
                  <a:pt x="238" y="140"/>
                </a:lnTo>
                <a:lnTo>
                  <a:pt x="234" y="151"/>
                </a:lnTo>
                <a:lnTo>
                  <a:pt x="230" y="163"/>
                </a:lnTo>
                <a:lnTo>
                  <a:pt x="226" y="176"/>
                </a:lnTo>
                <a:lnTo>
                  <a:pt x="224" y="180"/>
                </a:lnTo>
                <a:lnTo>
                  <a:pt x="224" y="184"/>
                </a:lnTo>
                <a:lnTo>
                  <a:pt x="222" y="190"/>
                </a:lnTo>
                <a:lnTo>
                  <a:pt x="222" y="197"/>
                </a:lnTo>
                <a:lnTo>
                  <a:pt x="220" y="205"/>
                </a:lnTo>
                <a:lnTo>
                  <a:pt x="220" y="215"/>
                </a:lnTo>
                <a:lnTo>
                  <a:pt x="218" y="224"/>
                </a:lnTo>
                <a:lnTo>
                  <a:pt x="218" y="234"/>
                </a:lnTo>
                <a:lnTo>
                  <a:pt x="216" y="245"/>
                </a:lnTo>
                <a:lnTo>
                  <a:pt x="216" y="259"/>
                </a:lnTo>
                <a:lnTo>
                  <a:pt x="215" y="272"/>
                </a:lnTo>
                <a:lnTo>
                  <a:pt x="215" y="288"/>
                </a:lnTo>
                <a:lnTo>
                  <a:pt x="213" y="303"/>
                </a:lnTo>
                <a:lnTo>
                  <a:pt x="213" y="320"/>
                </a:lnTo>
                <a:lnTo>
                  <a:pt x="211" y="337"/>
                </a:lnTo>
                <a:lnTo>
                  <a:pt x="211" y="355"/>
                </a:lnTo>
                <a:lnTo>
                  <a:pt x="209" y="376"/>
                </a:lnTo>
                <a:lnTo>
                  <a:pt x="209" y="395"/>
                </a:lnTo>
                <a:lnTo>
                  <a:pt x="209" y="418"/>
                </a:lnTo>
                <a:lnTo>
                  <a:pt x="207" y="439"/>
                </a:lnTo>
                <a:lnTo>
                  <a:pt x="207" y="464"/>
                </a:lnTo>
                <a:lnTo>
                  <a:pt x="207" y="487"/>
                </a:lnTo>
                <a:lnTo>
                  <a:pt x="205" y="514"/>
                </a:lnTo>
                <a:lnTo>
                  <a:pt x="205" y="541"/>
                </a:lnTo>
                <a:lnTo>
                  <a:pt x="205" y="568"/>
                </a:lnTo>
                <a:lnTo>
                  <a:pt x="205" y="597"/>
                </a:lnTo>
                <a:lnTo>
                  <a:pt x="203" y="625"/>
                </a:lnTo>
                <a:lnTo>
                  <a:pt x="203" y="656"/>
                </a:lnTo>
                <a:lnTo>
                  <a:pt x="203" y="687"/>
                </a:lnTo>
                <a:lnTo>
                  <a:pt x="203" y="719"/>
                </a:lnTo>
                <a:lnTo>
                  <a:pt x="203" y="752"/>
                </a:lnTo>
                <a:lnTo>
                  <a:pt x="203" y="7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139"/>
          <p:cNvSpPr/>
          <p:nvPr/>
        </p:nvSpPr>
        <p:spPr>
          <a:xfrm>
            <a:off x="6208560" y="4522680"/>
            <a:ext cx="669960" cy="163800"/>
          </a:xfrm>
          <a:custGeom>
            <a:avLst/>
            <a:gdLst/>
            <a:ahLst/>
            <a:rect l="l" t="t" r="r" b="b"/>
            <a:pathLst>
              <a:path w="850" h="207">
                <a:moveTo>
                  <a:pt x="804" y="107"/>
                </a:moveTo>
                <a:lnTo>
                  <a:pt x="791" y="111"/>
                </a:lnTo>
                <a:lnTo>
                  <a:pt x="779" y="115"/>
                </a:lnTo>
                <a:lnTo>
                  <a:pt x="768" y="119"/>
                </a:lnTo>
                <a:lnTo>
                  <a:pt x="758" y="123"/>
                </a:lnTo>
                <a:lnTo>
                  <a:pt x="749" y="126"/>
                </a:lnTo>
                <a:lnTo>
                  <a:pt x="741" y="128"/>
                </a:lnTo>
                <a:lnTo>
                  <a:pt x="731" y="130"/>
                </a:lnTo>
                <a:lnTo>
                  <a:pt x="724" y="130"/>
                </a:lnTo>
                <a:lnTo>
                  <a:pt x="718" y="130"/>
                </a:lnTo>
                <a:lnTo>
                  <a:pt x="710" y="132"/>
                </a:lnTo>
                <a:lnTo>
                  <a:pt x="701" y="132"/>
                </a:lnTo>
                <a:lnTo>
                  <a:pt x="691" y="132"/>
                </a:lnTo>
                <a:lnTo>
                  <a:pt x="678" y="134"/>
                </a:lnTo>
                <a:lnTo>
                  <a:pt x="664" y="136"/>
                </a:lnTo>
                <a:lnTo>
                  <a:pt x="647" y="138"/>
                </a:lnTo>
                <a:lnTo>
                  <a:pt x="630" y="140"/>
                </a:lnTo>
                <a:lnTo>
                  <a:pt x="609" y="142"/>
                </a:lnTo>
                <a:lnTo>
                  <a:pt x="588" y="144"/>
                </a:lnTo>
                <a:lnTo>
                  <a:pt x="564" y="147"/>
                </a:lnTo>
                <a:lnTo>
                  <a:pt x="540" y="151"/>
                </a:lnTo>
                <a:lnTo>
                  <a:pt x="513" y="155"/>
                </a:lnTo>
                <a:lnTo>
                  <a:pt x="484" y="159"/>
                </a:lnTo>
                <a:lnTo>
                  <a:pt x="455" y="163"/>
                </a:lnTo>
                <a:lnTo>
                  <a:pt x="422" y="167"/>
                </a:lnTo>
                <a:lnTo>
                  <a:pt x="388" y="172"/>
                </a:lnTo>
                <a:lnTo>
                  <a:pt x="357" y="180"/>
                </a:lnTo>
                <a:lnTo>
                  <a:pt x="326" y="184"/>
                </a:lnTo>
                <a:lnTo>
                  <a:pt x="300" y="190"/>
                </a:lnTo>
                <a:lnTo>
                  <a:pt x="273" y="194"/>
                </a:lnTo>
                <a:lnTo>
                  <a:pt x="248" y="197"/>
                </a:lnTo>
                <a:lnTo>
                  <a:pt x="225" y="201"/>
                </a:lnTo>
                <a:lnTo>
                  <a:pt x="204" y="203"/>
                </a:lnTo>
                <a:lnTo>
                  <a:pt x="184" y="205"/>
                </a:lnTo>
                <a:lnTo>
                  <a:pt x="167" y="207"/>
                </a:lnTo>
                <a:lnTo>
                  <a:pt x="152" y="207"/>
                </a:lnTo>
                <a:lnTo>
                  <a:pt x="138" y="207"/>
                </a:lnTo>
                <a:lnTo>
                  <a:pt x="125" y="207"/>
                </a:lnTo>
                <a:lnTo>
                  <a:pt x="115" y="207"/>
                </a:lnTo>
                <a:lnTo>
                  <a:pt x="106" y="205"/>
                </a:lnTo>
                <a:lnTo>
                  <a:pt x="98" y="203"/>
                </a:lnTo>
                <a:lnTo>
                  <a:pt x="87" y="197"/>
                </a:lnTo>
                <a:lnTo>
                  <a:pt x="75" y="194"/>
                </a:lnTo>
                <a:lnTo>
                  <a:pt x="64" y="188"/>
                </a:lnTo>
                <a:lnTo>
                  <a:pt x="54" y="184"/>
                </a:lnTo>
                <a:lnTo>
                  <a:pt x="44" y="176"/>
                </a:lnTo>
                <a:lnTo>
                  <a:pt x="35" y="171"/>
                </a:lnTo>
                <a:lnTo>
                  <a:pt x="27" y="163"/>
                </a:lnTo>
                <a:lnTo>
                  <a:pt x="17" y="155"/>
                </a:lnTo>
                <a:lnTo>
                  <a:pt x="14" y="151"/>
                </a:lnTo>
                <a:lnTo>
                  <a:pt x="10" y="146"/>
                </a:lnTo>
                <a:lnTo>
                  <a:pt x="8" y="142"/>
                </a:lnTo>
                <a:lnTo>
                  <a:pt x="6" y="140"/>
                </a:lnTo>
                <a:lnTo>
                  <a:pt x="4" y="136"/>
                </a:lnTo>
                <a:lnTo>
                  <a:pt x="2" y="132"/>
                </a:lnTo>
                <a:lnTo>
                  <a:pt x="0" y="130"/>
                </a:lnTo>
                <a:lnTo>
                  <a:pt x="0" y="128"/>
                </a:lnTo>
                <a:lnTo>
                  <a:pt x="0" y="126"/>
                </a:lnTo>
                <a:lnTo>
                  <a:pt x="2" y="124"/>
                </a:lnTo>
                <a:lnTo>
                  <a:pt x="4" y="123"/>
                </a:lnTo>
                <a:lnTo>
                  <a:pt x="6" y="121"/>
                </a:lnTo>
                <a:lnTo>
                  <a:pt x="8" y="121"/>
                </a:lnTo>
                <a:lnTo>
                  <a:pt x="10" y="119"/>
                </a:lnTo>
                <a:lnTo>
                  <a:pt x="14" y="119"/>
                </a:lnTo>
                <a:lnTo>
                  <a:pt x="17" y="119"/>
                </a:lnTo>
                <a:lnTo>
                  <a:pt x="19" y="119"/>
                </a:lnTo>
                <a:lnTo>
                  <a:pt x="21" y="119"/>
                </a:lnTo>
                <a:lnTo>
                  <a:pt x="23" y="119"/>
                </a:lnTo>
                <a:lnTo>
                  <a:pt x="27" y="117"/>
                </a:lnTo>
                <a:lnTo>
                  <a:pt x="31" y="117"/>
                </a:lnTo>
                <a:lnTo>
                  <a:pt x="35" y="117"/>
                </a:lnTo>
                <a:lnTo>
                  <a:pt x="40" y="115"/>
                </a:lnTo>
                <a:lnTo>
                  <a:pt x="46" y="115"/>
                </a:lnTo>
                <a:lnTo>
                  <a:pt x="52" y="113"/>
                </a:lnTo>
                <a:lnTo>
                  <a:pt x="58" y="113"/>
                </a:lnTo>
                <a:lnTo>
                  <a:pt x="65" y="111"/>
                </a:lnTo>
                <a:lnTo>
                  <a:pt x="73" y="109"/>
                </a:lnTo>
                <a:lnTo>
                  <a:pt x="83" y="107"/>
                </a:lnTo>
                <a:lnTo>
                  <a:pt x="90" y="107"/>
                </a:lnTo>
                <a:lnTo>
                  <a:pt x="100" y="105"/>
                </a:lnTo>
                <a:lnTo>
                  <a:pt x="110" y="103"/>
                </a:lnTo>
                <a:lnTo>
                  <a:pt x="121" y="101"/>
                </a:lnTo>
                <a:lnTo>
                  <a:pt x="133" y="98"/>
                </a:lnTo>
                <a:lnTo>
                  <a:pt x="144" y="96"/>
                </a:lnTo>
                <a:lnTo>
                  <a:pt x="156" y="94"/>
                </a:lnTo>
                <a:lnTo>
                  <a:pt x="169" y="92"/>
                </a:lnTo>
                <a:lnTo>
                  <a:pt x="183" y="90"/>
                </a:lnTo>
                <a:lnTo>
                  <a:pt x="196" y="86"/>
                </a:lnTo>
                <a:lnTo>
                  <a:pt x="209" y="84"/>
                </a:lnTo>
                <a:lnTo>
                  <a:pt x="225" y="80"/>
                </a:lnTo>
                <a:lnTo>
                  <a:pt x="240" y="78"/>
                </a:lnTo>
                <a:lnTo>
                  <a:pt x="255" y="75"/>
                </a:lnTo>
                <a:lnTo>
                  <a:pt x="271" y="73"/>
                </a:lnTo>
                <a:lnTo>
                  <a:pt x="288" y="69"/>
                </a:lnTo>
                <a:lnTo>
                  <a:pt x="305" y="65"/>
                </a:lnTo>
                <a:lnTo>
                  <a:pt x="323" y="63"/>
                </a:lnTo>
                <a:lnTo>
                  <a:pt x="342" y="59"/>
                </a:lnTo>
                <a:lnTo>
                  <a:pt x="376" y="52"/>
                </a:lnTo>
                <a:lnTo>
                  <a:pt x="411" y="46"/>
                </a:lnTo>
                <a:lnTo>
                  <a:pt x="444" y="40"/>
                </a:lnTo>
                <a:lnTo>
                  <a:pt x="474" y="34"/>
                </a:lnTo>
                <a:lnTo>
                  <a:pt x="503" y="28"/>
                </a:lnTo>
                <a:lnTo>
                  <a:pt x="528" y="25"/>
                </a:lnTo>
                <a:lnTo>
                  <a:pt x="553" y="19"/>
                </a:lnTo>
                <a:lnTo>
                  <a:pt x="576" y="15"/>
                </a:lnTo>
                <a:lnTo>
                  <a:pt x="599" y="11"/>
                </a:lnTo>
                <a:lnTo>
                  <a:pt x="618" y="7"/>
                </a:lnTo>
                <a:lnTo>
                  <a:pt x="636" y="5"/>
                </a:lnTo>
                <a:lnTo>
                  <a:pt x="651" y="4"/>
                </a:lnTo>
                <a:lnTo>
                  <a:pt x="666" y="2"/>
                </a:lnTo>
                <a:lnTo>
                  <a:pt x="680" y="0"/>
                </a:lnTo>
                <a:lnTo>
                  <a:pt x="691" y="0"/>
                </a:lnTo>
                <a:lnTo>
                  <a:pt x="701" y="0"/>
                </a:lnTo>
                <a:lnTo>
                  <a:pt x="726" y="0"/>
                </a:lnTo>
                <a:lnTo>
                  <a:pt x="739" y="0"/>
                </a:lnTo>
                <a:lnTo>
                  <a:pt x="753" y="0"/>
                </a:lnTo>
                <a:lnTo>
                  <a:pt x="764" y="2"/>
                </a:lnTo>
                <a:lnTo>
                  <a:pt x="778" y="4"/>
                </a:lnTo>
                <a:lnTo>
                  <a:pt x="791" y="7"/>
                </a:lnTo>
                <a:lnTo>
                  <a:pt x="804" y="11"/>
                </a:lnTo>
                <a:lnTo>
                  <a:pt x="810" y="13"/>
                </a:lnTo>
                <a:lnTo>
                  <a:pt x="816" y="15"/>
                </a:lnTo>
                <a:lnTo>
                  <a:pt x="820" y="19"/>
                </a:lnTo>
                <a:lnTo>
                  <a:pt x="826" y="23"/>
                </a:lnTo>
                <a:lnTo>
                  <a:pt x="833" y="28"/>
                </a:lnTo>
                <a:lnTo>
                  <a:pt x="839" y="34"/>
                </a:lnTo>
                <a:lnTo>
                  <a:pt x="845" y="42"/>
                </a:lnTo>
                <a:lnTo>
                  <a:pt x="849" y="48"/>
                </a:lnTo>
                <a:lnTo>
                  <a:pt x="849" y="53"/>
                </a:lnTo>
                <a:lnTo>
                  <a:pt x="850" y="59"/>
                </a:lnTo>
                <a:lnTo>
                  <a:pt x="849" y="63"/>
                </a:lnTo>
                <a:lnTo>
                  <a:pt x="849" y="69"/>
                </a:lnTo>
                <a:lnTo>
                  <a:pt x="845" y="76"/>
                </a:lnTo>
                <a:lnTo>
                  <a:pt x="839" y="82"/>
                </a:lnTo>
                <a:lnTo>
                  <a:pt x="833" y="90"/>
                </a:lnTo>
                <a:lnTo>
                  <a:pt x="826" y="96"/>
                </a:lnTo>
                <a:lnTo>
                  <a:pt x="820" y="99"/>
                </a:lnTo>
                <a:lnTo>
                  <a:pt x="816" y="101"/>
                </a:lnTo>
                <a:lnTo>
                  <a:pt x="810" y="105"/>
                </a:lnTo>
                <a:lnTo>
                  <a:pt x="804" y="1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140"/>
          <p:cNvSpPr/>
          <p:nvPr/>
        </p:nvSpPr>
        <p:spPr>
          <a:xfrm>
            <a:off x="6621480" y="4075200"/>
            <a:ext cx="1193760" cy="676080"/>
          </a:xfrm>
          <a:custGeom>
            <a:avLst/>
            <a:gdLst/>
            <a:ahLst/>
            <a:rect l="l" t="t" r="r" b="b"/>
            <a:pathLst>
              <a:path w="1514" h="853">
                <a:moveTo>
                  <a:pt x="80" y="0"/>
                </a:moveTo>
                <a:lnTo>
                  <a:pt x="145" y="50"/>
                </a:lnTo>
                <a:lnTo>
                  <a:pt x="211" y="100"/>
                </a:lnTo>
                <a:lnTo>
                  <a:pt x="276" y="148"/>
                </a:lnTo>
                <a:lnTo>
                  <a:pt x="343" y="194"/>
                </a:lnTo>
                <a:lnTo>
                  <a:pt x="412" y="242"/>
                </a:lnTo>
                <a:lnTo>
                  <a:pt x="481" y="286"/>
                </a:lnTo>
                <a:lnTo>
                  <a:pt x="550" y="331"/>
                </a:lnTo>
                <a:lnTo>
                  <a:pt x="623" y="373"/>
                </a:lnTo>
                <a:lnTo>
                  <a:pt x="660" y="394"/>
                </a:lnTo>
                <a:lnTo>
                  <a:pt x="696" y="415"/>
                </a:lnTo>
                <a:lnTo>
                  <a:pt x="735" y="436"/>
                </a:lnTo>
                <a:lnTo>
                  <a:pt x="771" y="455"/>
                </a:lnTo>
                <a:lnTo>
                  <a:pt x="808" y="474"/>
                </a:lnTo>
                <a:lnTo>
                  <a:pt x="844" y="494"/>
                </a:lnTo>
                <a:lnTo>
                  <a:pt x="881" y="511"/>
                </a:lnTo>
                <a:lnTo>
                  <a:pt x="919" y="526"/>
                </a:lnTo>
                <a:lnTo>
                  <a:pt x="955" y="542"/>
                </a:lnTo>
                <a:lnTo>
                  <a:pt x="992" y="557"/>
                </a:lnTo>
                <a:lnTo>
                  <a:pt x="1028" y="572"/>
                </a:lnTo>
                <a:lnTo>
                  <a:pt x="1065" y="586"/>
                </a:lnTo>
                <a:lnTo>
                  <a:pt x="1103" y="599"/>
                </a:lnTo>
                <a:lnTo>
                  <a:pt x="1140" y="613"/>
                </a:lnTo>
                <a:lnTo>
                  <a:pt x="1176" y="624"/>
                </a:lnTo>
                <a:lnTo>
                  <a:pt x="1213" y="636"/>
                </a:lnTo>
                <a:lnTo>
                  <a:pt x="1232" y="641"/>
                </a:lnTo>
                <a:lnTo>
                  <a:pt x="1249" y="647"/>
                </a:lnTo>
                <a:lnTo>
                  <a:pt x="1266" y="653"/>
                </a:lnTo>
                <a:lnTo>
                  <a:pt x="1282" y="657"/>
                </a:lnTo>
                <a:lnTo>
                  <a:pt x="1299" y="663"/>
                </a:lnTo>
                <a:lnTo>
                  <a:pt x="1314" y="666"/>
                </a:lnTo>
                <a:lnTo>
                  <a:pt x="1328" y="672"/>
                </a:lnTo>
                <a:lnTo>
                  <a:pt x="1343" y="676"/>
                </a:lnTo>
                <a:lnTo>
                  <a:pt x="1357" y="682"/>
                </a:lnTo>
                <a:lnTo>
                  <a:pt x="1370" y="686"/>
                </a:lnTo>
                <a:lnTo>
                  <a:pt x="1382" y="689"/>
                </a:lnTo>
                <a:lnTo>
                  <a:pt x="1395" y="693"/>
                </a:lnTo>
                <a:lnTo>
                  <a:pt x="1407" y="697"/>
                </a:lnTo>
                <a:lnTo>
                  <a:pt x="1416" y="701"/>
                </a:lnTo>
                <a:lnTo>
                  <a:pt x="1428" y="705"/>
                </a:lnTo>
                <a:lnTo>
                  <a:pt x="1437" y="709"/>
                </a:lnTo>
                <a:lnTo>
                  <a:pt x="1447" y="711"/>
                </a:lnTo>
                <a:lnTo>
                  <a:pt x="1455" y="714"/>
                </a:lnTo>
                <a:lnTo>
                  <a:pt x="1462" y="718"/>
                </a:lnTo>
                <a:lnTo>
                  <a:pt x="1470" y="720"/>
                </a:lnTo>
                <a:lnTo>
                  <a:pt x="1478" y="724"/>
                </a:lnTo>
                <a:lnTo>
                  <a:pt x="1483" y="726"/>
                </a:lnTo>
                <a:lnTo>
                  <a:pt x="1489" y="728"/>
                </a:lnTo>
                <a:lnTo>
                  <a:pt x="1495" y="730"/>
                </a:lnTo>
                <a:lnTo>
                  <a:pt x="1499" y="732"/>
                </a:lnTo>
                <a:lnTo>
                  <a:pt x="1503" y="734"/>
                </a:lnTo>
                <a:lnTo>
                  <a:pt x="1506" y="736"/>
                </a:lnTo>
                <a:lnTo>
                  <a:pt x="1508" y="737"/>
                </a:lnTo>
                <a:lnTo>
                  <a:pt x="1510" y="739"/>
                </a:lnTo>
                <a:lnTo>
                  <a:pt x="1512" y="741"/>
                </a:lnTo>
                <a:lnTo>
                  <a:pt x="1514" y="743"/>
                </a:lnTo>
                <a:lnTo>
                  <a:pt x="1510" y="749"/>
                </a:lnTo>
                <a:lnTo>
                  <a:pt x="1506" y="753"/>
                </a:lnTo>
                <a:lnTo>
                  <a:pt x="1499" y="757"/>
                </a:lnTo>
                <a:lnTo>
                  <a:pt x="1491" y="762"/>
                </a:lnTo>
                <a:lnTo>
                  <a:pt x="1481" y="766"/>
                </a:lnTo>
                <a:lnTo>
                  <a:pt x="1470" y="770"/>
                </a:lnTo>
                <a:lnTo>
                  <a:pt x="1456" y="776"/>
                </a:lnTo>
                <a:lnTo>
                  <a:pt x="1441" y="780"/>
                </a:lnTo>
                <a:lnTo>
                  <a:pt x="1433" y="782"/>
                </a:lnTo>
                <a:lnTo>
                  <a:pt x="1424" y="784"/>
                </a:lnTo>
                <a:lnTo>
                  <a:pt x="1414" y="785"/>
                </a:lnTo>
                <a:lnTo>
                  <a:pt x="1405" y="789"/>
                </a:lnTo>
                <a:lnTo>
                  <a:pt x="1395" y="791"/>
                </a:lnTo>
                <a:lnTo>
                  <a:pt x="1384" y="793"/>
                </a:lnTo>
                <a:lnTo>
                  <a:pt x="1372" y="795"/>
                </a:lnTo>
                <a:lnTo>
                  <a:pt x="1360" y="797"/>
                </a:lnTo>
                <a:lnTo>
                  <a:pt x="1349" y="799"/>
                </a:lnTo>
                <a:lnTo>
                  <a:pt x="1336" y="803"/>
                </a:lnTo>
                <a:lnTo>
                  <a:pt x="1322" y="805"/>
                </a:lnTo>
                <a:lnTo>
                  <a:pt x="1309" y="807"/>
                </a:lnTo>
                <a:lnTo>
                  <a:pt x="1293" y="808"/>
                </a:lnTo>
                <a:lnTo>
                  <a:pt x="1280" y="810"/>
                </a:lnTo>
                <a:lnTo>
                  <a:pt x="1265" y="814"/>
                </a:lnTo>
                <a:lnTo>
                  <a:pt x="1247" y="816"/>
                </a:lnTo>
                <a:lnTo>
                  <a:pt x="1217" y="820"/>
                </a:lnTo>
                <a:lnTo>
                  <a:pt x="1186" y="824"/>
                </a:lnTo>
                <a:lnTo>
                  <a:pt x="1157" y="828"/>
                </a:lnTo>
                <a:lnTo>
                  <a:pt x="1130" y="831"/>
                </a:lnTo>
                <a:lnTo>
                  <a:pt x="1105" y="835"/>
                </a:lnTo>
                <a:lnTo>
                  <a:pt x="1082" y="837"/>
                </a:lnTo>
                <a:lnTo>
                  <a:pt x="1061" y="841"/>
                </a:lnTo>
                <a:lnTo>
                  <a:pt x="1040" y="843"/>
                </a:lnTo>
                <a:lnTo>
                  <a:pt x="1021" y="845"/>
                </a:lnTo>
                <a:lnTo>
                  <a:pt x="1003" y="847"/>
                </a:lnTo>
                <a:lnTo>
                  <a:pt x="988" y="849"/>
                </a:lnTo>
                <a:lnTo>
                  <a:pt x="975" y="849"/>
                </a:lnTo>
                <a:lnTo>
                  <a:pt x="963" y="851"/>
                </a:lnTo>
                <a:lnTo>
                  <a:pt x="952" y="851"/>
                </a:lnTo>
                <a:lnTo>
                  <a:pt x="944" y="851"/>
                </a:lnTo>
                <a:lnTo>
                  <a:pt x="936" y="853"/>
                </a:lnTo>
                <a:lnTo>
                  <a:pt x="929" y="851"/>
                </a:lnTo>
                <a:lnTo>
                  <a:pt x="921" y="849"/>
                </a:lnTo>
                <a:lnTo>
                  <a:pt x="913" y="847"/>
                </a:lnTo>
                <a:lnTo>
                  <a:pt x="906" y="843"/>
                </a:lnTo>
                <a:lnTo>
                  <a:pt x="896" y="837"/>
                </a:lnTo>
                <a:lnTo>
                  <a:pt x="886" y="831"/>
                </a:lnTo>
                <a:lnTo>
                  <a:pt x="875" y="826"/>
                </a:lnTo>
                <a:lnTo>
                  <a:pt x="863" y="818"/>
                </a:lnTo>
                <a:lnTo>
                  <a:pt x="852" y="808"/>
                </a:lnTo>
                <a:lnTo>
                  <a:pt x="838" y="799"/>
                </a:lnTo>
                <a:lnTo>
                  <a:pt x="823" y="787"/>
                </a:lnTo>
                <a:lnTo>
                  <a:pt x="810" y="776"/>
                </a:lnTo>
                <a:lnTo>
                  <a:pt x="792" y="764"/>
                </a:lnTo>
                <a:lnTo>
                  <a:pt x="777" y="749"/>
                </a:lnTo>
                <a:lnTo>
                  <a:pt x="758" y="736"/>
                </a:lnTo>
                <a:lnTo>
                  <a:pt x="740" y="720"/>
                </a:lnTo>
                <a:lnTo>
                  <a:pt x="729" y="711"/>
                </a:lnTo>
                <a:lnTo>
                  <a:pt x="719" y="703"/>
                </a:lnTo>
                <a:lnTo>
                  <a:pt x="706" y="691"/>
                </a:lnTo>
                <a:lnTo>
                  <a:pt x="694" y="682"/>
                </a:lnTo>
                <a:lnTo>
                  <a:pt x="681" y="670"/>
                </a:lnTo>
                <a:lnTo>
                  <a:pt x="666" y="657"/>
                </a:lnTo>
                <a:lnTo>
                  <a:pt x="650" y="643"/>
                </a:lnTo>
                <a:lnTo>
                  <a:pt x="635" y="630"/>
                </a:lnTo>
                <a:lnTo>
                  <a:pt x="618" y="615"/>
                </a:lnTo>
                <a:lnTo>
                  <a:pt x="600" y="599"/>
                </a:lnTo>
                <a:lnTo>
                  <a:pt x="581" y="582"/>
                </a:lnTo>
                <a:lnTo>
                  <a:pt x="562" y="565"/>
                </a:lnTo>
                <a:lnTo>
                  <a:pt x="543" y="545"/>
                </a:lnTo>
                <a:lnTo>
                  <a:pt x="522" y="526"/>
                </a:lnTo>
                <a:lnTo>
                  <a:pt x="499" y="507"/>
                </a:lnTo>
                <a:lnTo>
                  <a:pt x="478" y="486"/>
                </a:lnTo>
                <a:lnTo>
                  <a:pt x="453" y="463"/>
                </a:lnTo>
                <a:lnTo>
                  <a:pt x="430" y="440"/>
                </a:lnTo>
                <a:lnTo>
                  <a:pt x="405" y="417"/>
                </a:lnTo>
                <a:lnTo>
                  <a:pt x="378" y="392"/>
                </a:lnTo>
                <a:lnTo>
                  <a:pt x="351" y="367"/>
                </a:lnTo>
                <a:lnTo>
                  <a:pt x="322" y="340"/>
                </a:lnTo>
                <a:lnTo>
                  <a:pt x="295" y="313"/>
                </a:lnTo>
                <a:lnTo>
                  <a:pt x="264" y="284"/>
                </a:lnTo>
                <a:lnTo>
                  <a:pt x="234" y="256"/>
                </a:lnTo>
                <a:lnTo>
                  <a:pt x="203" y="225"/>
                </a:lnTo>
                <a:lnTo>
                  <a:pt x="172" y="194"/>
                </a:lnTo>
                <a:lnTo>
                  <a:pt x="140" y="162"/>
                </a:lnTo>
                <a:lnTo>
                  <a:pt x="105" y="129"/>
                </a:lnTo>
                <a:lnTo>
                  <a:pt x="71" y="94"/>
                </a:lnTo>
                <a:lnTo>
                  <a:pt x="36" y="60"/>
                </a:lnTo>
                <a:lnTo>
                  <a:pt x="0" y="25"/>
                </a:lnTo>
                <a:lnTo>
                  <a:pt x="40" y="12"/>
                </a:lnTo>
                <a:lnTo>
                  <a:pt x="8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141"/>
          <p:cNvSpPr/>
          <p:nvPr/>
        </p:nvSpPr>
        <p:spPr>
          <a:xfrm>
            <a:off x="5870520" y="3975120"/>
            <a:ext cx="1368360" cy="252360"/>
          </a:xfrm>
          <a:custGeom>
            <a:avLst/>
            <a:gdLst/>
            <a:ahLst/>
            <a:rect l="l" t="t" r="r" b="b"/>
            <a:pathLst>
              <a:path w="1737" h="316">
                <a:moveTo>
                  <a:pt x="1434" y="5"/>
                </a:moveTo>
                <a:lnTo>
                  <a:pt x="1448" y="1"/>
                </a:lnTo>
                <a:lnTo>
                  <a:pt x="1461" y="1"/>
                </a:lnTo>
                <a:lnTo>
                  <a:pt x="1473" y="0"/>
                </a:lnTo>
                <a:lnTo>
                  <a:pt x="1486" y="0"/>
                </a:lnTo>
                <a:lnTo>
                  <a:pt x="1511" y="0"/>
                </a:lnTo>
                <a:lnTo>
                  <a:pt x="1536" y="1"/>
                </a:lnTo>
                <a:lnTo>
                  <a:pt x="1561" y="3"/>
                </a:lnTo>
                <a:lnTo>
                  <a:pt x="1586" y="7"/>
                </a:lnTo>
                <a:lnTo>
                  <a:pt x="1609" y="11"/>
                </a:lnTo>
                <a:lnTo>
                  <a:pt x="1630" y="17"/>
                </a:lnTo>
                <a:lnTo>
                  <a:pt x="1642" y="21"/>
                </a:lnTo>
                <a:lnTo>
                  <a:pt x="1651" y="26"/>
                </a:lnTo>
                <a:lnTo>
                  <a:pt x="1661" y="30"/>
                </a:lnTo>
                <a:lnTo>
                  <a:pt x="1670" y="34"/>
                </a:lnTo>
                <a:lnTo>
                  <a:pt x="1678" y="40"/>
                </a:lnTo>
                <a:lnTo>
                  <a:pt x="1686" y="44"/>
                </a:lnTo>
                <a:lnTo>
                  <a:pt x="1693" y="48"/>
                </a:lnTo>
                <a:lnTo>
                  <a:pt x="1699" y="53"/>
                </a:lnTo>
                <a:lnTo>
                  <a:pt x="1707" y="57"/>
                </a:lnTo>
                <a:lnTo>
                  <a:pt x="1713" y="61"/>
                </a:lnTo>
                <a:lnTo>
                  <a:pt x="1716" y="67"/>
                </a:lnTo>
                <a:lnTo>
                  <a:pt x="1722" y="71"/>
                </a:lnTo>
                <a:lnTo>
                  <a:pt x="1726" y="74"/>
                </a:lnTo>
                <a:lnTo>
                  <a:pt x="1730" y="80"/>
                </a:lnTo>
                <a:lnTo>
                  <a:pt x="1732" y="84"/>
                </a:lnTo>
                <a:lnTo>
                  <a:pt x="1736" y="88"/>
                </a:lnTo>
                <a:lnTo>
                  <a:pt x="1736" y="94"/>
                </a:lnTo>
                <a:lnTo>
                  <a:pt x="1737" y="97"/>
                </a:lnTo>
                <a:lnTo>
                  <a:pt x="1737" y="101"/>
                </a:lnTo>
                <a:lnTo>
                  <a:pt x="1737" y="105"/>
                </a:lnTo>
                <a:lnTo>
                  <a:pt x="1736" y="107"/>
                </a:lnTo>
                <a:lnTo>
                  <a:pt x="1734" y="111"/>
                </a:lnTo>
                <a:lnTo>
                  <a:pt x="1732" y="115"/>
                </a:lnTo>
                <a:lnTo>
                  <a:pt x="1728" y="117"/>
                </a:lnTo>
                <a:lnTo>
                  <a:pt x="1724" y="121"/>
                </a:lnTo>
                <a:lnTo>
                  <a:pt x="1718" y="122"/>
                </a:lnTo>
                <a:lnTo>
                  <a:pt x="1713" y="124"/>
                </a:lnTo>
                <a:lnTo>
                  <a:pt x="1707" y="126"/>
                </a:lnTo>
                <a:lnTo>
                  <a:pt x="1701" y="130"/>
                </a:lnTo>
                <a:lnTo>
                  <a:pt x="1693" y="132"/>
                </a:lnTo>
                <a:lnTo>
                  <a:pt x="1686" y="134"/>
                </a:lnTo>
                <a:lnTo>
                  <a:pt x="1678" y="136"/>
                </a:lnTo>
                <a:lnTo>
                  <a:pt x="1666" y="138"/>
                </a:lnTo>
                <a:lnTo>
                  <a:pt x="1653" y="142"/>
                </a:lnTo>
                <a:lnTo>
                  <a:pt x="1642" y="144"/>
                </a:lnTo>
                <a:lnTo>
                  <a:pt x="1626" y="145"/>
                </a:lnTo>
                <a:lnTo>
                  <a:pt x="1613" y="147"/>
                </a:lnTo>
                <a:lnTo>
                  <a:pt x="1597" y="149"/>
                </a:lnTo>
                <a:lnTo>
                  <a:pt x="1580" y="151"/>
                </a:lnTo>
                <a:lnTo>
                  <a:pt x="1563" y="153"/>
                </a:lnTo>
                <a:lnTo>
                  <a:pt x="1544" y="155"/>
                </a:lnTo>
                <a:lnTo>
                  <a:pt x="1524" y="155"/>
                </a:lnTo>
                <a:lnTo>
                  <a:pt x="1505" y="157"/>
                </a:lnTo>
                <a:lnTo>
                  <a:pt x="1484" y="159"/>
                </a:lnTo>
                <a:lnTo>
                  <a:pt x="1461" y="159"/>
                </a:lnTo>
                <a:lnTo>
                  <a:pt x="1438" y="159"/>
                </a:lnTo>
                <a:lnTo>
                  <a:pt x="1413" y="161"/>
                </a:lnTo>
                <a:lnTo>
                  <a:pt x="1388" y="161"/>
                </a:lnTo>
                <a:lnTo>
                  <a:pt x="1334" y="165"/>
                </a:lnTo>
                <a:lnTo>
                  <a:pt x="1281" y="168"/>
                </a:lnTo>
                <a:lnTo>
                  <a:pt x="1227" y="174"/>
                </a:lnTo>
                <a:lnTo>
                  <a:pt x="1169" y="178"/>
                </a:lnTo>
                <a:lnTo>
                  <a:pt x="1112" y="182"/>
                </a:lnTo>
                <a:lnTo>
                  <a:pt x="1052" y="188"/>
                </a:lnTo>
                <a:lnTo>
                  <a:pt x="1022" y="190"/>
                </a:lnTo>
                <a:lnTo>
                  <a:pt x="989" y="192"/>
                </a:lnTo>
                <a:lnTo>
                  <a:pt x="958" y="193"/>
                </a:lnTo>
                <a:lnTo>
                  <a:pt x="926" y="197"/>
                </a:lnTo>
                <a:lnTo>
                  <a:pt x="860" y="205"/>
                </a:lnTo>
                <a:lnTo>
                  <a:pt x="797" y="215"/>
                </a:lnTo>
                <a:lnTo>
                  <a:pt x="736" y="224"/>
                </a:lnTo>
                <a:lnTo>
                  <a:pt x="672" y="232"/>
                </a:lnTo>
                <a:lnTo>
                  <a:pt x="611" y="241"/>
                </a:lnTo>
                <a:lnTo>
                  <a:pt x="549" y="251"/>
                </a:lnTo>
                <a:lnTo>
                  <a:pt x="428" y="268"/>
                </a:lnTo>
                <a:lnTo>
                  <a:pt x="398" y="274"/>
                </a:lnTo>
                <a:lnTo>
                  <a:pt x="367" y="282"/>
                </a:lnTo>
                <a:lnTo>
                  <a:pt x="340" y="286"/>
                </a:lnTo>
                <a:lnTo>
                  <a:pt x="313" y="291"/>
                </a:lnTo>
                <a:lnTo>
                  <a:pt x="290" y="295"/>
                </a:lnTo>
                <a:lnTo>
                  <a:pt x="267" y="299"/>
                </a:lnTo>
                <a:lnTo>
                  <a:pt x="246" y="303"/>
                </a:lnTo>
                <a:lnTo>
                  <a:pt x="229" y="307"/>
                </a:lnTo>
                <a:lnTo>
                  <a:pt x="212" y="309"/>
                </a:lnTo>
                <a:lnTo>
                  <a:pt x="196" y="311"/>
                </a:lnTo>
                <a:lnTo>
                  <a:pt x="183" y="312"/>
                </a:lnTo>
                <a:lnTo>
                  <a:pt x="171" y="314"/>
                </a:lnTo>
                <a:lnTo>
                  <a:pt x="160" y="314"/>
                </a:lnTo>
                <a:lnTo>
                  <a:pt x="152" y="316"/>
                </a:lnTo>
                <a:lnTo>
                  <a:pt x="144" y="316"/>
                </a:lnTo>
                <a:lnTo>
                  <a:pt x="140" y="316"/>
                </a:lnTo>
                <a:lnTo>
                  <a:pt x="133" y="316"/>
                </a:lnTo>
                <a:lnTo>
                  <a:pt x="127" y="314"/>
                </a:lnTo>
                <a:lnTo>
                  <a:pt x="119" y="314"/>
                </a:lnTo>
                <a:lnTo>
                  <a:pt x="114" y="312"/>
                </a:lnTo>
                <a:lnTo>
                  <a:pt x="108" y="311"/>
                </a:lnTo>
                <a:lnTo>
                  <a:pt x="100" y="307"/>
                </a:lnTo>
                <a:lnTo>
                  <a:pt x="87" y="299"/>
                </a:lnTo>
                <a:lnTo>
                  <a:pt x="75" y="291"/>
                </a:lnTo>
                <a:lnTo>
                  <a:pt x="62" y="282"/>
                </a:lnTo>
                <a:lnTo>
                  <a:pt x="48" y="268"/>
                </a:lnTo>
                <a:lnTo>
                  <a:pt x="37" y="257"/>
                </a:lnTo>
                <a:lnTo>
                  <a:pt x="29" y="249"/>
                </a:lnTo>
                <a:lnTo>
                  <a:pt x="23" y="243"/>
                </a:lnTo>
                <a:lnTo>
                  <a:pt x="20" y="238"/>
                </a:lnTo>
                <a:lnTo>
                  <a:pt x="14" y="234"/>
                </a:lnTo>
                <a:lnTo>
                  <a:pt x="10" y="228"/>
                </a:lnTo>
                <a:lnTo>
                  <a:pt x="8" y="224"/>
                </a:lnTo>
                <a:lnTo>
                  <a:pt x="4" y="220"/>
                </a:lnTo>
                <a:lnTo>
                  <a:pt x="2" y="216"/>
                </a:lnTo>
                <a:lnTo>
                  <a:pt x="2" y="215"/>
                </a:lnTo>
                <a:lnTo>
                  <a:pt x="0" y="211"/>
                </a:lnTo>
                <a:lnTo>
                  <a:pt x="0" y="209"/>
                </a:lnTo>
                <a:lnTo>
                  <a:pt x="2" y="205"/>
                </a:lnTo>
                <a:lnTo>
                  <a:pt x="4" y="203"/>
                </a:lnTo>
                <a:lnTo>
                  <a:pt x="6" y="201"/>
                </a:lnTo>
                <a:lnTo>
                  <a:pt x="8" y="199"/>
                </a:lnTo>
                <a:lnTo>
                  <a:pt x="14" y="197"/>
                </a:lnTo>
                <a:lnTo>
                  <a:pt x="18" y="197"/>
                </a:lnTo>
                <a:lnTo>
                  <a:pt x="23" y="197"/>
                </a:lnTo>
                <a:lnTo>
                  <a:pt x="29" y="195"/>
                </a:lnTo>
                <a:lnTo>
                  <a:pt x="37" y="195"/>
                </a:lnTo>
                <a:lnTo>
                  <a:pt x="45" y="195"/>
                </a:lnTo>
                <a:lnTo>
                  <a:pt x="52" y="195"/>
                </a:lnTo>
                <a:lnTo>
                  <a:pt x="62" y="195"/>
                </a:lnTo>
                <a:lnTo>
                  <a:pt x="71" y="195"/>
                </a:lnTo>
                <a:lnTo>
                  <a:pt x="83" y="193"/>
                </a:lnTo>
                <a:lnTo>
                  <a:pt x="94" y="193"/>
                </a:lnTo>
                <a:lnTo>
                  <a:pt x="106" y="192"/>
                </a:lnTo>
                <a:lnTo>
                  <a:pt x="117" y="192"/>
                </a:lnTo>
                <a:lnTo>
                  <a:pt x="131" y="190"/>
                </a:lnTo>
                <a:lnTo>
                  <a:pt x="146" y="188"/>
                </a:lnTo>
                <a:lnTo>
                  <a:pt x="160" y="186"/>
                </a:lnTo>
                <a:lnTo>
                  <a:pt x="175" y="184"/>
                </a:lnTo>
                <a:lnTo>
                  <a:pt x="190" y="182"/>
                </a:lnTo>
                <a:lnTo>
                  <a:pt x="206" y="180"/>
                </a:lnTo>
                <a:lnTo>
                  <a:pt x="223" y="178"/>
                </a:lnTo>
                <a:lnTo>
                  <a:pt x="240" y="176"/>
                </a:lnTo>
                <a:lnTo>
                  <a:pt x="258" y="176"/>
                </a:lnTo>
                <a:lnTo>
                  <a:pt x="275" y="174"/>
                </a:lnTo>
                <a:lnTo>
                  <a:pt x="294" y="174"/>
                </a:lnTo>
                <a:lnTo>
                  <a:pt x="313" y="172"/>
                </a:lnTo>
                <a:lnTo>
                  <a:pt x="332" y="170"/>
                </a:lnTo>
                <a:lnTo>
                  <a:pt x="354" y="170"/>
                </a:lnTo>
                <a:lnTo>
                  <a:pt x="375" y="168"/>
                </a:lnTo>
                <a:lnTo>
                  <a:pt x="396" y="167"/>
                </a:lnTo>
                <a:lnTo>
                  <a:pt x="417" y="167"/>
                </a:lnTo>
                <a:lnTo>
                  <a:pt x="440" y="165"/>
                </a:lnTo>
                <a:lnTo>
                  <a:pt x="463" y="163"/>
                </a:lnTo>
                <a:lnTo>
                  <a:pt x="486" y="161"/>
                </a:lnTo>
                <a:lnTo>
                  <a:pt x="511" y="159"/>
                </a:lnTo>
                <a:lnTo>
                  <a:pt x="536" y="155"/>
                </a:lnTo>
                <a:lnTo>
                  <a:pt x="563" y="153"/>
                </a:lnTo>
                <a:lnTo>
                  <a:pt x="590" y="149"/>
                </a:lnTo>
                <a:lnTo>
                  <a:pt x="618" y="145"/>
                </a:lnTo>
                <a:lnTo>
                  <a:pt x="649" y="142"/>
                </a:lnTo>
                <a:lnTo>
                  <a:pt x="680" y="138"/>
                </a:lnTo>
                <a:lnTo>
                  <a:pt x="712" y="132"/>
                </a:lnTo>
                <a:lnTo>
                  <a:pt x="745" y="126"/>
                </a:lnTo>
                <a:lnTo>
                  <a:pt x="780" y="121"/>
                </a:lnTo>
                <a:lnTo>
                  <a:pt x="814" y="115"/>
                </a:lnTo>
                <a:lnTo>
                  <a:pt x="851" y="109"/>
                </a:lnTo>
                <a:lnTo>
                  <a:pt x="889" y="101"/>
                </a:lnTo>
                <a:lnTo>
                  <a:pt x="927" y="94"/>
                </a:lnTo>
                <a:lnTo>
                  <a:pt x="966" y="86"/>
                </a:lnTo>
                <a:lnTo>
                  <a:pt x="1006" y="76"/>
                </a:lnTo>
                <a:lnTo>
                  <a:pt x="1046" y="71"/>
                </a:lnTo>
                <a:lnTo>
                  <a:pt x="1085" y="63"/>
                </a:lnTo>
                <a:lnTo>
                  <a:pt x="1123" y="57"/>
                </a:lnTo>
                <a:lnTo>
                  <a:pt x="1158" y="51"/>
                </a:lnTo>
                <a:lnTo>
                  <a:pt x="1190" y="46"/>
                </a:lnTo>
                <a:lnTo>
                  <a:pt x="1223" y="42"/>
                </a:lnTo>
                <a:lnTo>
                  <a:pt x="1254" y="36"/>
                </a:lnTo>
                <a:lnTo>
                  <a:pt x="1281" y="32"/>
                </a:lnTo>
                <a:lnTo>
                  <a:pt x="1294" y="28"/>
                </a:lnTo>
                <a:lnTo>
                  <a:pt x="1308" y="26"/>
                </a:lnTo>
                <a:lnTo>
                  <a:pt x="1319" y="25"/>
                </a:lnTo>
                <a:lnTo>
                  <a:pt x="1331" y="23"/>
                </a:lnTo>
                <a:lnTo>
                  <a:pt x="1342" y="21"/>
                </a:lnTo>
                <a:lnTo>
                  <a:pt x="1354" y="19"/>
                </a:lnTo>
                <a:lnTo>
                  <a:pt x="1363" y="17"/>
                </a:lnTo>
                <a:lnTo>
                  <a:pt x="1375" y="15"/>
                </a:lnTo>
                <a:lnTo>
                  <a:pt x="1382" y="15"/>
                </a:lnTo>
                <a:lnTo>
                  <a:pt x="1392" y="13"/>
                </a:lnTo>
                <a:lnTo>
                  <a:pt x="1400" y="11"/>
                </a:lnTo>
                <a:lnTo>
                  <a:pt x="1407" y="9"/>
                </a:lnTo>
                <a:lnTo>
                  <a:pt x="1415" y="7"/>
                </a:lnTo>
                <a:lnTo>
                  <a:pt x="1423" y="7"/>
                </a:lnTo>
                <a:lnTo>
                  <a:pt x="1428" y="5"/>
                </a:lnTo>
                <a:lnTo>
                  <a:pt x="1434" y="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142"/>
          <p:cNvSpPr/>
          <p:nvPr/>
        </p:nvSpPr>
        <p:spPr>
          <a:xfrm>
            <a:off x="5546880" y="3884760"/>
            <a:ext cx="911160" cy="1011240"/>
          </a:xfrm>
          <a:custGeom>
            <a:avLst/>
            <a:gdLst/>
            <a:ahLst/>
            <a:rect l="l" t="t" r="r" b="b"/>
            <a:pathLst>
              <a:path w="1160" h="1275">
                <a:moveTo>
                  <a:pt x="626" y="935"/>
                </a:moveTo>
                <a:lnTo>
                  <a:pt x="607" y="954"/>
                </a:lnTo>
                <a:lnTo>
                  <a:pt x="586" y="972"/>
                </a:lnTo>
                <a:lnTo>
                  <a:pt x="565" y="989"/>
                </a:lnTo>
                <a:lnTo>
                  <a:pt x="544" y="1006"/>
                </a:lnTo>
                <a:lnTo>
                  <a:pt x="522" y="1022"/>
                </a:lnTo>
                <a:lnTo>
                  <a:pt x="499" y="1039"/>
                </a:lnTo>
                <a:lnTo>
                  <a:pt x="476" y="1054"/>
                </a:lnTo>
                <a:lnTo>
                  <a:pt x="451" y="1070"/>
                </a:lnTo>
                <a:lnTo>
                  <a:pt x="428" y="1087"/>
                </a:lnTo>
                <a:lnTo>
                  <a:pt x="403" y="1100"/>
                </a:lnTo>
                <a:lnTo>
                  <a:pt x="378" y="1116"/>
                </a:lnTo>
                <a:lnTo>
                  <a:pt x="352" y="1131"/>
                </a:lnTo>
                <a:lnTo>
                  <a:pt x="327" y="1146"/>
                </a:lnTo>
                <a:lnTo>
                  <a:pt x="300" y="1160"/>
                </a:lnTo>
                <a:lnTo>
                  <a:pt x="273" y="1173"/>
                </a:lnTo>
                <a:lnTo>
                  <a:pt x="244" y="1189"/>
                </a:lnTo>
                <a:lnTo>
                  <a:pt x="217" y="1200"/>
                </a:lnTo>
                <a:lnTo>
                  <a:pt x="190" y="1214"/>
                </a:lnTo>
                <a:lnTo>
                  <a:pt x="167" y="1223"/>
                </a:lnTo>
                <a:lnTo>
                  <a:pt x="144" y="1233"/>
                </a:lnTo>
                <a:lnTo>
                  <a:pt x="123" y="1242"/>
                </a:lnTo>
                <a:lnTo>
                  <a:pt x="104" y="1250"/>
                </a:lnTo>
                <a:lnTo>
                  <a:pt x="87" y="1256"/>
                </a:lnTo>
                <a:lnTo>
                  <a:pt x="71" y="1262"/>
                </a:lnTo>
                <a:lnTo>
                  <a:pt x="56" y="1265"/>
                </a:lnTo>
                <a:lnTo>
                  <a:pt x="45" y="1269"/>
                </a:lnTo>
                <a:lnTo>
                  <a:pt x="33" y="1271"/>
                </a:lnTo>
                <a:lnTo>
                  <a:pt x="23" y="1273"/>
                </a:lnTo>
                <a:lnTo>
                  <a:pt x="16" y="1275"/>
                </a:lnTo>
                <a:lnTo>
                  <a:pt x="10" y="1275"/>
                </a:lnTo>
                <a:lnTo>
                  <a:pt x="4" y="1273"/>
                </a:lnTo>
                <a:lnTo>
                  <a:pt x="2" y="1271"/>
                </a:lnTo>
                <a:lnTo>
                  <a:pt x="0" y="1269"/>
                </a:lnTo>
                <a:lnTo>
                  <a:pt x="0" y="1265"/>
                </a:lnTo>
                <a:lnTo>
                  <a:pt x="2" y="1262"/>
                </a:lnTo>
                <a:lnTo>
                  <a:pt x="6" y="1256"/>
                </a:lnTo>
                <a:lnTo>
                  <a:pt x="10" y="1250"/>
                </a:lnTo>
                <a:lnTo>
                  <a:pt x="18" y="1244"/>
                </a:lnTo>
                <a:lnTo>
                  <a:pt x="25" y="1237"/>
                </a:lnTo>
                <a:lnTo>
                  <a:pt x="33" y="1229"/>
                </a:lnTo>
                <a:lnTo>
                  <a:pt x="45" y="1221"/>
                </a:lnTo>
                <a:lnTo>
                  <a:pt x="56" y="1214"/>
                </a:lnTo>
                <a:lnTo>
                  <a:pt x="69" y="1204"/>
                </a:lnTo>
                <a:lnTo>
                  <a:pt x="83" y="1194"/>
                </a:lnTo>
                <a:lnTo>
                  <a:pt x="98" y="1185"/>
                </a:lnTo>
                <a:lnTo>
                  <a:pt x="116" y="1173"/>
                </a:lnTo>
                <a:lnTo>
                  <a:pt x="133" y="1164"/>
                </a:lnTo>
                <a:lnTo>
                  <a:pt x="152" y="1152"/>
                </a:lnTo>
                <a:lnTo>
                  <a:pt x="171" y="1141"/>
                </a:lnTo>
                <a:lnTo>
                  <a:pt x="190" y="1127"/>
                </a:lnTo>
                <a:lnTo>
                  <a:pt x="210" y="1114"/>
                </a:lnTo>
                <a:lnTo>
                  <a:pt x="231" y="1100"/>
                </a:lnTo>
                <a:lnTo>
                  <a:pt x="250" y="1085"/>
                </a:lnTo>
                <a:lnTo>
                  <a:pt x="271" y="1070"/>
                </a:lnTo>
                <a:lnTo>
                  <a:pt x="290" y="1054"/>
                </a:lnTo>
                <a:lnTo>
                  <a:pt x="311" y="1037"/>
                </a:lnTo>
                <a:lnTo>
                  <a:pt x="332" y="1022"/>
                </a:lnTo>
                <a:lnTo>
                  <a:pt x="354" y="1002"/>
                </a:lnTo>
                <a:lnTo>
                  <a:pt x="375" y="985"/>
                </a:lnTo>
                <a:lnTo>
                  <a:pt x="396" y="966"/>
                </a:lnTo>
                <a:lnTo>
                  <a:pt x="440" y="928"/>
                </a:lnTo>
                <a:lnTo>
                  <a:pt x="463" y="908"/>
                </a:lnTo>
                <a:lnTo>
                  <a:pt x="488" y="887"/>
                </a:lnTo>
                <a:lnTo>
                  <a:pt x="511" y="866"/>
                </a:lnTo>
                <a:lnTo>
                  <a:pt x="534" y="845"/>
                </a:lnTo>
                <a:lnTo>
                  <a:pt x="555" y="824"/>
                </a:lnTo>
                <a:lnTo>
                  <a:pt x="578" y="801"/>
                </a:lnTo>
                <a:lnTo>
                  <a:pt x="599" y="776"/>
                </a:lnTo>
                <a:lnTo>
                  <a:pt x="622" y="751"/>
                </a:lnTo>
                <a:lnTo>
                  <a:pt x="643" y="726"/>
                </a:lnTo>
                <a:lnTo>
                  <a:pt x="663" y="701"/>
                </a:lnTo>
                <a:lnTo>
                  <a:pt x="684" y="674"/>
                </a:lnTo>
                <a:lnTo>
                  <a:pt x="705" y="647"/>
                </a:lnTo>
                <a:lnTo>
                  <a:pt x="724" y="618"/>
                </a:lnTo>
                <a:lnTo>
                  <a:pt x="745" y="590"/>
                </a:lnTo>
                <a:lnTo>
                  <a:pt x="764" y="561"/>
                </a:lnTo>
                <a:lnTo>
                  <a:pt x="784" y="530"/>
                </a:lnTo>
                <a:lnTo>
                  <a:pt x="803" y="499"/>
                </a:lnTo>
                <a:lnTo>
                  <a:pt x="822" y="469"/>
                </a:lnTo>
                <a:lnTo>
                  <a:pt x="841" y="438"/>
                </a:lnTo>
                <a:lnTo>
                  <a:pt x="858" y="409"/>
                </a:lnTo>
                <a:lnTo>
                  <a:pt x="874" y="380"/>
                </a:lnTo>
                <a:lnTo>
                  <a:pt x="889" y="352"/>
                </a:lnTo>
                <a:lnTo>
                  <a:pt x="903" y="321"/>
                </a:lnTo>
                <a:lnTo>
                  <a:pt x="914" y="292"/>
                </a:lnTo>
                <a:lnTo>
                  <a:pt x="926" y="263"/>
                </a:lnTo>
                <a:lnTo>
                  <a:pt x="935" y="235"/>
                </a:lnTo>
                <a:lnTo>
                  <a:pt x="945" y="204"/>
                </a:lnTo>
                <a:lnTo>
                  <a:pt x="952" y="175"/>
                </a:lnTo>
                <a:lnTo>
                  <a:pt x="958" y="146"/>
                </a:lnTo>
                <a:lnTo>
                  <a:pt x="964" y="117"/>
                </a:lnTo>
                <a:lnTo>
                  <a:pt x="968" y="89"/>
                </a:lnTo>
                <a:lnTo>
                  <a:pt x="970" y="58"/>
                </a:lnTo>
                <a:lnTo>
                  <a:pt x="972" y="29"/>
                </a:lnTo>
                <a:lnTo>
                  <a:pt x="974" y="0"/>
                </a:lnTo>
                <a:lnTo>
                  <a:pt x="993" y="12"/>
                </a:lnTo>
                <a:lnTo>
                  <a:pt x="1014" y="23"/>
                </a:lnTo>
                <a:lnTo>
                  <a:pt x="1031" y="33"/>
                </a:lnTo>
                <a:lnTo>
                  <a:pt x="1048" y="43"/>
                </a:lnTo>
                <a:lnTo>
                  <a:pt x="1064" y="54"/>
                </a:lnTo>
                <a:lnTo>
                  <a:pt x="1079" y="64"/>
                </a:lnTo>
                <a:lnTo>
                  <a:pt x="1093" y="73"/>
                </a:lnTo>
                <a:lnTo>
                  <a:pt x="1104" y="81"/>
                </a:lnTo>
                <a:lnTo>
                  <a:pt x="1114" y="91"/>
                </a:lnTo>
                <a:lnTo>
                  <a:pt x="1123" y="98"/>
                </a:lnTo>
                <a:lnTo>
                  <a:pt x="1133" y="108"/>
                </a:lnTo>
                <a:lnTo>
                  <a:pt x="1141" y="116"/>
                </a:lnTo>
                <a:lnTo>
                  <a:pt x="1146" y="123"/>
                </a:lnTo>
                <a:lnTo>
                  <a:pt x="1150" y="131"/>
                </a:lnTo>
                <a:lnTo>
                  <a:pt x="1154" y="137"/>
                </a:lnTo>
                <a:lnTo>
                  <a:pt x="1158" y="144"/>
                </a:lnTo>
                <a:lnTo>
                  <a:pt x="1160" y="152"/>
                </a:lnTo>
                <a:lnTo>
                  <a:pt x="1160" y="158"/>
                </a:lnTo>
                <a:lnTo>
                  <a:pt x="1160" y="165"/>
                </a:lnTo>
                <a:lnTo>
                  <a:pt x="1160" y="173"/>
                </a:lnTo>
                <a:lnTo>
                  <a:pt x="1158" y="183"/>
                </a:lnTo>
                <a:lnTo>
                  <a:pt x="1156" y="190"/>
                </a:lnTo>
                <a:lnTo>
                  <a:pt x="1154" y="200"/>
                </a:lnTo>
                <a:lnTo>
                  <a:pt x="1152" y="210"/>
                </a:lnTo>
                <a:lnTo>
                  <a:pt x="1148" y="219"/>
                </a:lnTo>
                <a:lnTo>
                  <a:pt x="1144" y="229"/>
                </a:lnTo>
                <a:lnTo>
                  <a:pt x="1139" y="238"/>
                </a:lnTo>
                <a:lnTo>
                  <a:pt x="1135" y="250"/>
                </a:lnTo>
                <a:lnTo>
                  <a:pt x="1129" y="261"/>
                </a:lnTo>
                <a:lnTo>
                  <a:pt x="1123" y="275"/>
                </a:lnTo>
                <a:lnTo>
                  <a:pt x="1117" y="286"/>
                </a:lnTo>
                <a:lnTo>
                  <a:pt x="1112" y="300"/>
                </a:lnTo>
                <a:lnTo>
                  <a:pt x="1102" y="313"/>
                </a:lnTo>
                <a:lnTo>
                  <a:pt x="1093" y="329"/>
                </a:lnTo>
                <a:lnTo>
                  <a:pt x="1083" y="344"/>
                </a:lnTo>
                <a:lnTo>
                  <a:pt x="1073" y="359"/>
                </a:lnTo>
                <a:lnTo>
                  <a:pt x="1064" y="375"/>
                </a:lnTo>
                <a:lnTo>
                  <a:pt x="1054" y="392"/>
                </a:lnTo>
                <a:lnTo>
                  <a:pt x="1043" y="409"/>
                </a:lnTo>
                <a:lnTo>
                  <a:pt x="1031" y="427"/>
                </a:lnTo>
                <a:lnTo>
                  <a:pt x="1020" y="444"/>
                </a:lnTo>
                <a:lnTo>
                  <a:pt x="1008" y="463"/>
                </a:lnTo>
                <a:lnTo>
                  <a:pt x="995" y="482"/>
                </a:lnTo>
                <a:lnTo>
                  <a:pt x="983" y="501"/>
                </a:lnTo>
                <a:lnTo>
                  <a:pt x="970" y="523"/>
                </a:lnTo>
                <a:lnTo>
                  <a:pt x="954" y="544"/>
                </a:lnTo>
                <a:lnTo>
                  <a:pt x="941" y="565"/>
                </a:lnTo>
                <a:lnTo>
                  <a:pt x="926" y="588"/>
                </a:lnTo>
                <a:lnTo>
                  <a:pt x="910" y="613"/>
                </a:lnTo>
                <a:lnTo>
                  <a:pt x="895" y="636"/>
                </a:lnTo>
                <a:lnTo>
                  <a:pt x="879" y="661"/>
                </a:lnTo>
                <a:lnTo>
                  <a:pt x="862" y="684"/>
                </a:lnTo>
                <a:lnTo>
                  <a:pt x="845" y="705"/>
                </a:lnTo>
                <a:lnTo>
                  <a:pt x="826" y="728"/>
                </a:lnTo>
                <a:lnTo>
                  <a:pt x="789" y="770"/>
                </a:lnTo>
                <a:lnTo>
                  <a:pt x="751" y="812"/>
                </a:lnTo>
                <a:lnTo>
                  <a:pt x="711" y="855"/>
                </a:lnTo>
                <a:lnTo>
                  <a:pt x="668" y="895"/>
                </a:lnTo>
                <a:lnTo>
                  <a:pt x="626" y="9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143"/>
          <p:cNvSpPr/>
          <p:nvPr/>
        </p:nvSpPr>
        <p:spPr>
          <a:xfrm>
            <a:off x="6094440" y="3403440"/>
            <a:ext cx="244440" cy="509760"/>
          </a:xfrm>
          <a:custGeom>
            <a:avLst/>
            <a:gdLst/>
            <a:ahLst/>
            <a:rect l="l" t="t" r="r" b="b"/>
            <a:pathLst>
              <a:path w="309" h="641">
                <a:moveTo>
                  <a:pt x="100" y="17"/>
                </a:moveTo>
                <a:lnTo>
                  <a:pt x="113" y="21"/>
                </a:lnTo>
                <a:lnTo>
                  <a:pt x="125" y="27"/>
                </a:lnTo>
                <a:lnTo>
                  <a:pt x="138" y="30"/>
                </a:lnTo>
                <a:lnTo>
                  <a:pt x="150" y="34"/>
                </a:lnTo>
                <a:lnTo>
                  <a:pt x="159" y="40"/>
                </a:lnTo>
                <a:lnTo>
                  <a:pt x="169" y="44"/>
                </a:lnTo>
                <a:lnTo>
                  <a:pt x="173" y="46"/>
                </a:lnTo>
                <a:lnTo>
                  <a:pt x="175" y="48"/>
                </a:lnTo>
                <a:lnTo>
                  <a:pt x="179" y="52"/>
                </a:lnTo>
                <a:lnTo>
                  <a:pt x="180" y="53"/>
                </a:lnTo>
                <a:lnTo>
                  <a:pt x="182" y="55"/>
                </a:lnTo>
                <a:lnTo>
                  <a:pt x="184" y="59"/>
                </a:lnTo>
                <a:lnTo>
                  <a:pt x="184" y="65"/>
                </a:lnTo>
                <a:lnTo>
                  <a:pt x="186" y="71"/>
                </a:lnTo>
                <a:lnTo>
                  <a:pt x="188" y="77"/>
                </a:lnTo>
                <a:lnTo>
                  <a:pt x="190" y="84"/>
                </a:lnTo>
                <a:lnTo>
                  <a:pt x="192" y="94"/>
                </a:lnTo>
                <a:lnTo>
                  <a:pt x="194" y="103"/>
                </a:lnTo>
                <a:lnTo>
                  <a:pt x="196" y="113"/>
                </a:lnTo>
                <a:lnTo>
                  <a:pt x="200" y="125"/>
                </a:lnTo>
                <a:lnTo>
                  <a:pt x="202" y="138"/>
                </a:lnTo>
                <a:lnTo>
                  <a:pt x="205" y="151"/>
                </a:lnTo>
                <a:lnTo>
                  <a:pt x="207" y="167"/>
                </a:lnTo>
                <a:lnTo>
                  <a:pt x="211" y="182"/>
                </a:lnTo>
                <a:lnTo>
                  <a:pt x="215" y="199"/>
                </a:lnTo>
                <a:lnTo>
                  <a:pt x="219" y="217"/>
                </a:lnTo>
                <a:lnTo>
                  <a:pt x="223" y="236"/>
                </a:lnTo>
                <a:lnTo>
                  <a:pt x="227" y="255"/>
                </a:lnTo>
                <a:lnTo>
                  <a:pt x="230" y="276"/>
                </a:lnTo>
                <a:lnTo>
                  <a:pt x="236" y="297"/>
                </a:lnTo>
                <a:lnTo>
                  <a:pt x="240" y="320"/>
                </a:lnTo>
                <a:lnTo>
                  <a:pt x="246" y="343"/>
                </a:lnTo>
                <a:lnTo>
                  <a:pt x="251" y="368"/>
                </a:lnTo>
                <a:lnTo>
                  <a:pt x="255" y="395"/>
                </a:lnTo>
                <a:lnTo>
                  <a:pt x="261" y="422"/>
                </a:lnTo>
                <a:lnTo>
                  <a:pt x="267" y="451"/>
                </a:lnTo>
                <a:lnTo>
                  <a:pt x="275" y="480"/>
                </a:lnTo>
                <a:lnTo>
                  <a:pt x="280" y="510"/>
                </a:lnTo>
                <a:lnTo>
                  <a:pt x="286" y="541"/>
                </a:lnTo>
                <a:lnTo>
                  <a:pt x="294" y="574"/>
                </a:lnTo>
                <a:lnTo>
                  <a:pt x="301" y="606"/>
                </a:lnTo>
                <a:lnTo>
                  <a:pt x="309" y="641"/>
                </a:lnTo>
                <a:lnTo>
                  <a:pt x="298" y="639"/>
                </a:lnTo>
                <a:lnTo>
                  <a:pt x="286" y="637"/>
                </a:lnTo>
                <a:lnTo>
                  <a:pt x="276" y="633"/>
                </a:lnTo>
                <a:lnTo>
                  <a:pt x="265" y="627"/>
                </a:lnTo>
                <a:lnTo>
                  <a:pt x="255" y="620"/>
                </a:lnTo>
                <a:lnTo>
                  <a:pt x="244" y="610"/>
                </a:lnTo>
                <a:lnTo>
                  <a:pt x="234" y="599"/>
                </a:lnTo>
                <a:lnTo>
                  <a:pt x="225" y="587"/>
                </a:lnTo>
                <a:lnTo>
                  <a:pt x="215" y="572"/>
                </a:lnTo>
                <a:lnTo>
                  <a:pt x="205" y="556"/>
                </a:lnTo>
                <a:lnTo>
                  <a:pt x="196" y="539"/>
                </a:lnTo>
                <a:lnTo>
                  <a:pt x="188" y="520"/>
                </a:lnTo>
                <a:lnTo>
                  <a:pt x="179" y="499"/>
                </a:lnTo>
                <a:lnTo>
                  <a:pt x="171" y="476"/>
                </a:lnTo>
                <a:lnTo>
                  <a:pt x="165" y="451"/>
                </a:lnTo>
                <a:lnTo>
                  <a:pt x="157" y="426"/>
                </a:lnTo>
                <a:lnTo>
                  <a:pt x="152" y="399"/>
                </a:lnTo>
                <a:lnTo>
                  <a:pt x="144" y="372"/>
                </a:lnTo>
                <a:lnTo>
                  <a:pt x="138" y="347"/>
                </a:lnTo>
                <a:lnTo>
                  <a:pt x="131" y="324"/>
                </a:lnTo>
                <a:lnTo>
                  <a:pt x="123" y="301"/>
                </a:lnTo>
                <a:lnTo>
                  <a:pt x="115" y="278"/>
                </a:lnTo>
                <a:lnTo>
                  <a:pt x="108" y="257"/>
                </a:lnTo>
                <a:lnTo>
                  <a:pt x="100" y="238"/>
                </a:lnTo>
                <a:lnTo>
                  <a:pt x="92" y="219"/>
                </a:lnTo>
                <a:lnTo>
                  <a:pt x="85" y="201"/>
                </a:lnTo>
                <a:lnTo>
                  <a:pt x="77" y="184"/>
                </a:lnTo>
                <a:lnTo>
                  <a:pt x="69" y="167"/>
                </a:lnTo>
                <a:lnTo>
                  <a:pt x="63" y="151"/>
                </a:lnTo>
                <a:lnTo>
                  <a:pt x="56" y="138"/>
                </a:lnTo>
                <a:lnTo>
                  <a:pt x="48" y="125"/>
                </a:lnTo>
                <a:lnTo>
                  <a:pt x="42" y="113"/>
                </a:lnTo>
                <a:lnTo>
                  <a:pt x="35" y="101"/>
                </a:lnTo>
                <a:lnTo>
                  <a:pt x="27" y="92"/>
                </a:lnTo>
                <a:lnTo>
                  <a:pt x="21" y="82"/>
                </a:lnTo>
                <a:lnTo>
                  <a:pt x="15" y="73"/>
                </a:lnTo>
                <a:lnTo>
                  <a:pt x="10" y="63"/>
                </a:lnTo>
                <a:lnTo>
                  <a:pt x="6" y="55"/>
                </a:lnTo>
                <a:lnTo>
                  <a:pt x="2" y="48"/>
                </a:lnTo>
                <a:lnTo>
                  <a:pt x="0" y="42"/>
                </a:lnTo>
                <a:lnTo>
                  <a:pt x="0" y="34"/>
                </a:lnTo>
                <a:lnTo>
                  <a:pt x="0" y="29"/>
                </a:lnTo>
                <a:lnTo>
                  <a:pt x="0" y="23"/>
                </a:lnTo>
                <a:lnTo>
                  <a:pt x="2" y="19"/>
                </a:lnTo>
                <a:lnTo>
                  <a:pt x="4" y="15"/>
                </a:lnTo>
                <a:lnTo>
                  <a:pt x="8" y="11"/>
                </a:lnTo>
                <a:lnTo>
                  <a:pt x="13" y="7"/>
                </a:lnTo>
                <a:lnTo>
                  <a:pt x="19" y="6"/>
                </a:lnTo>
                <a:lnTo>
                  <a:pt x="23" y="4"/>
                </a:lnTo>
                <a:lnTo>
                  <a:pt x="29" y="2"/>
                </a:lnTo>
                <a:lnTo>
                  <a:pt x="33" y="0"/>
                </a:lnTo>
                <a:lnTo>
                  <a:pt x="37" y="0"/>
                </a:lnTo>
                <a:lnTo>
                  <a:pt x="46" y="0"/>
                </a:lnTo>
                <a:lnTo>
                  <a:pt x="56" y="2"/>
                </a:lnTo>
                <a:lnTo>
                  <a:pt x="65" y="6"/>
                </a:lnTo>
                <a:lnTo>
                  <a:pt x="77" y="9"/>
                </a:lnTo>
                <a:lnTo>
                  <a:pt x="88" y="13"/>
                </a:lnTo>
                <a:lnTo>
                  <a:pt x="100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144"/>
          <p:cNvSpPr/>
          <p:nvPr/>
        </p:nvSpPr>
        <p:spPr>
          <a:xfrm>
            <a:off x="6296040" y="3751200"/>
            <a:ext cx="582480" cy="141480"/>
          </a:xfrm>
          <a:custGeom>
            <a:avLst/>
            <a:gdLst/>
            <a:ahLst/>
            <a:rect l="l" t="t" r="r" b="b"/>
            <a:pathLst>
              <a:path w="740" h="179">
                <a:moveTo>
                  <a:pt x="740" y="0"/>
                </a:moveTo>
                <a:lnTo>
                  <a:pt x="740" y="54"/>
                </a:lnTo>
                <a:lnTo>
                  <a:pt x="740" y="108"/>
                </a:lnTo>
                <a:lnTo>
                  <a:pt x="725" y="108"/>
                </a:lnTo>
                <a:lnTo>
                  <a:pt x="708" y="108"/>
                </a:lnTo>
                <a:lnTo>
                  <a:pt x="691" y="108"/>
                </a:lnTo>
                <a:lnTo>
                  <a:pt x="671" y="110"/>
                </a:lnTo>
                <a:lnTo>
                  <a:pt x="650" y="110"/>
                </a:lnTo>
                <a:lnTo>
                  <a:pt x="631" y="112"/>
                </a:lnTo>
                <a:lnTo>
                  <a:pt x="610" y="114"/>
                </a:lnTo>
                <a:lnTo>
                  <a:pt x="587" y="116"/>
                </a:lnTo>
                <a:lnTo>
                  <a:pt x="564" y="117"/>
                </a:lnTo>
                <a:lnTo>
                  <a:pt x="539" y="119"/>
                </a:lnTo>
                <a:lnTo>
                  <a:pt x="514" y="121"/>
                </a:lnTo>
                <a:lnTo>
                  <a:pt x="489" y="123"/>
                </a:lnTo>
                <a:lnTo>
                  <a:pt x="464" y="125"/>
                </a:lnTo>
                <a:lnTo>
                  <a:pt x="437" y="127"/>
                </a:lnTo>
                <a:lnTo>
                  <a:pt x="410" y="129"/>
                </a:lnTo>
                <a:lnTo>
                  <a:pt x="382" y="131"/>
                </a:lnTo>
                <a:lnTo>
                  <a:pt x="353" y="137"/>
                </a:lnTo>
                <a:lnTo>
                  <a:pt x="326" y="141"/>
                </a:lnTo>
                <a:lnTo>
                  <a:pt x="299" y="144"/>
                </a:lnTo>
                <a:lnTo>
                  <a:pt x="274" y="148"/>
                </a:lnTo>
                <a:lnTo>
                  <a:pt x="247" y="150"/>
                </a:lnTo>
                <a:lnTo>
                  <a:pt x="222" y="154"/>
                </a:lnTo>
                <a:lnTo>
                  <a:pt x="197" y="158"/>
                </a:lnTo>
                <a:lnTo>
                  <a:pt x="174" y="160"/>
                </a:lnTo>
                <a:lnTo>
                  <a:pt x="149" y="164"/>
                </a:lnTo>
                <a:lnTo>
                  <a:pt x="126" y="165"/>
                </a:lnTo>
                <a:lnTo>
                  <a:pt x="105" y="167"/>
                </a:lnTo>
                <a:lnTo>
                  <a:pt x="82" y="171"/>
                </a:lnTo>
                <a:lnTo>
                  <a:pt x="61" y="173"/>
                </a:lnTo>
                <a:lnTo>
                  <a:pt x="40" y="175"/>
                </a:lnTo>
                <a:lnTo>
                  <a:pt x="21" y="177"/>
                </a:lnTo>
                <a:lnTo>
                  <a:pt x="0" y="179"/>
                </a:lnTo>
                <a:lnTo>
                  <a:pt x="0" y="137"/>
                </a:lnTo>
                <a:lnTo>
                  <a:pt x="0" y="96"/>
                </a:lnTo>
                <a:lnTo>
                  <a:pt x="186" y="71"/>
                </a:lnTo>
                <a:lnTo>
                  <a:pt x="370" y="48"/>
                </a:lnTo>
                <a:lnTo>
                  <a:pt x="554" y="23"/>
                </a:lnTo>
                <a:lnTo>
                  <a:pt x="74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145"/>
          <p:cNvSpPr/>
          <p:nvPr/>
        </p:nvSpPr>
        <p:spPr>
          <a:xfrm>
            <a:off x="6249960" y="3551400"/>
            <a:ext cx="509760" cy="142560"/>
          </a:xfrm>
          <a:custGeom>
            <a:avLst/>
            <a:gdLst/>
            <a:ahLst/>
            <a:rect l="l" t="t" r="r" b="b"/>
            <a:pathLst>
              <a:path w="649" h="178">
                <a:moveTo>
                  <a:pt x="649" y="71"/>
                </a:moveTo>
                <a:lnTo>
                  <a:pt x="647" y="73"/>
                </a:lnTo>
                <a:lnTo>
                  <a:pt x="645" y="73"/>
                </a:lnTo>
                <a:lnTo>
                  <a:pt x="643" y="75"/>
                </a:lnTo>
                <a:lnTo>
                  <a:pt x="637" y="77"/>
                </a:lnTo>
                <a:lnTo>
                  <a:pt x="631" y="79"/>
                </a:lnTo>
                <a:lnTo>
                  <a:pt x="624" y="81"/>
                </a:lnTo>
                <a:lnTo>
                  <a:pt x="616" y="82"/>
                </a:lnTo>
                <a:lnTo>
                  <a:pt x="607" y="84"/>
                </a:lnTo>
                <a:lnTo>
                  <a:pt x="595" y="86"/>
                </a:lnTo>
                <a:lnTo>
                  <a:pt x="584" y="88"/>
                </a:lnTo>
                <a:lnTo>
                  <a:pt x="570" y="92"/>
                </a:lnTo>
                <a:lnTo>
                  <a:pt x="557" y="94"/>
                </a:lnTo>
                <a:lnTo>
                  <a:pt x="539" y="98"/>
                </a:lnTo>
                <a:lnTo>
                  <a:pt x="522" y="100"/>
                </a:lnTo>
                <a:lnTo>
                  <a:pt x="505" y="104"/>
                </a:lnTo>
                <a:lnTo>
                  <a:pt x="484" y="106"/>
                </a:lnTo>
                <a:lnTo>
                  <a:pt x="465" y="109"/>
                </a:lnTo>
                <a:lnTo>
                  <a:pt x="441" y="113"/>
                </a:lnTo>
                <a:lnTo>
                  <a:pt x="418" y="117"/>
                </a:lnTo>
                <a:lnTo>
                  <a:pt x="393" y="121"/>
                </a:lnTo>
                <a:lnTo>
                  <a:pt x="367" y="125"/>
                </a:lnTo>
                <a:lnTo>
                  <a:pt x="340" y="129"/>
                </a:lnTo>
                <a:lnTo>
                  <a:pt x="311" y="134"/>
                </a:lnTo>
                <a:lnTo>
                  <a:pt x="282" y="138"/>
                </a:lnTo>
                <a:lnTo>
                  <a:pt x="251" y="142"/>
                </a:lnTo>
                <a:lnTo>
                  <a:pt x="219" y="148"/>
                </a:lnTo>
                <a:lnTo>
                  <a:pt x="186" y="152"/>
                </a:lnTo>
                <a:lnTo>
                  <a:pt x="152" y="157"/>
                </a:lnTo>
                <a:lnTo>
                  <a:pt x="115" y="163"/>
                </a:lnTo>
                <a:lnTo>
                  <a:pt x="79" y="167"/>
                </a:lnTo>
                <a:lnTo>
                  <a:pt x="40" y="173"/>
                </a:lnTo>
                <a:lnTo>
                  <a:pt x="0" y="178"/>
                </a:lnTo>
                <a:lnTo>
                  <a:pt x="0" y="136"/>
                </a:lnTo>
                <a:lnTo>
                  <a:pt x="0" y="96"/>
                </a:lnTo>
                <a:lnTo>
                  <a:pt x="33" y="90"/>
                </a:lnTo>
                <a:lnTo>
                  <a:pt x="63" y="84"/>
                </a:lnTo>
                <a:lnTo>
                  <a:pt x="94" y="79"/>
                </a:lnTo>
                <a:lnTo>
                  <a:pt x="123" y="73"/>
                </a:lnTo>
                <a:lnTo>
                  <a:pt x="152" y="69"/>
                </a:lnTo>
                <a:lnTo>
                  <a:pt x="179" y="63"/>
                </a:lnTo>
                <a:lnTo>
                  <a:pt x="205" y="59"/>
                </a:lnTo>
                <a:lnTo>
                  <a:pt x="230" y="54"/>
                </a:lnTo>
                <a:lnTo>
                  <a:pt x="253" y="50"/>
                </a:lnTo>
                <a:lnTo>
                  <a:pt x="278" y="46"/>
                </a:lnTo>
                <a:lnTo>
                  <a:pt x="299" y="42"/>
                </a:lnTo>
                <a:lnTo>
                  <a:pt x="322" y="38"/>
                </a:lnTo>
                <a:lnTo>
                  <a:pt x="342" y="34"/>
                </a:lnTo>
                <a:lnTo>
                  <a:pt x="361" y="31"/>
                </a:lnTo>
                <a:lnTo>
                  <a:pt x="380" y="27"/>
                </a:lnTo>
                <a:lnTo>
                  <a:pt x="397" y="25"/>
                </a:lnTo>
                <a:lnTo>
                  <a:pt x="415" y="21"/>
                </a:lnTo>
                <a:lnTo>
                  <a:pt x="430" y="19"/>
                </a:lnTo>
                <a:lnTo>
                  <a:pt x="445" y="15"/>
                </a:lnTo>
                <a:lnTo>
                  <a:pt x="459" y="13"/>
                </a:lnTo>
                <a:lnTo>
                  <a:pt x="470" y="11"/>
                </a:lnTo>
                <a:lnTo>
                  <a:pt x="482" y="10"/>
                </a:lnTo>
                <a:lnTo>
                  <a:pt x="493" y="8"/>
                </a:lnTo>
                <a:lnTo>
                  <a:pt x="503" y="6"/>
                </a:lnTo>
                <a:lnTo>
                  <a:pt x="511" y="4"/>
                </a:lnTo>
                <a:lnTo>
                  <a:pt x="518" y="2"/>
                </a:lnTo>
                <a:lnTo>
                  <a:pt x="526" y="2"/>
                </a:lnTo>
                <a:lnTo>
                  <a:pt x="532" y="0"/>
                </a:lnTo>
                <a:lnTo>
                  <a:pt x="536" y="0"/>
                </a:lnTo>
                <a:lnTo>
                  <a:pt x="539" y="0"/>
                </a:lnTo>
                <a:lnTo>
                  <a:pt x="541" y="0"/>
                </a:lnTo>
                <a:lnTo>
                  <a:pt x="543" y="0"/>
                </a:lnTo>
                <a:lnTo>
                  <a:pt x="549" y="0"/>
                </a:lnTo>
                <a:lnTo>
                  <a:pt x="553" y="0"/>
                </a:lnTo>
                <a:lnTo>
                  <a:pt x="559" y="0"/>
                </a:lnTo>
                <a:lnTo>
                  <a:pt x="564" y="0"/>
                </a:lnTo>
                <a:lnTo>
                  <a:pt x="570" y="2"/>
                </a:lnTo>
                <a:lnTo>
                  <a:pt x="580" y="4"/>
                </a:lnTo>
                <a:lnTo>
                  <a:pt x="589" y="8"/>
                </a:lnTo>
                <a:lnTo>
                  <a:pt x="595" y="10"/>
                </a:lnTo>
                <a:lnTo>
                  <a:pt x="601" y="11"/>
                </a:lnTo>
                <a:lnTo>
                  <a:pt x="608" y="13"/>
                </a:lnTo>
                <a:lnTo>
                  <a:pt x="612" y="15"/>
                </a:lnTo>
                <a:lnTo>
                  <a:pt x="618" y="19"/>
                </a:lnTo>
                <a:lnTo>
                  <a:pt x="624" y="23"/>
                </a:lnTo>
                <a:lnTo>
                  <a:pt x="631" y="29"/>
                </a:lnTo>
                <a:lnTo>
                  <a:pt x="637" y="36"/>
                </a:lnTo>
                <a:lnTo>
                  <a:pt x="643" y="44"/>
                </a:lnTo>
                <a:lnTo>
                  <a:pt x="645" y="54"/>
                </a:lnTo>
                <a:lnTo>
                  <a:pt x="647" y="61"/>
                </a:lnTo>
                <a:lnTo>
                  <a:pt x="649" y="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46"/>
          <p:cNvSpPr/>
          <p:nvPr/>
        </p:nvSpPr>
        <p:spPr>
          <a:xfrm>
            <a:off x="6180120" y="3303720"/>
            <a:ext cx="963720" cy="561960"/>
          </a:xfrm>
          <a:custGeom>
            <a:avLst/>
            <a:gdLst/>
            <a:ahLst/>
            <a:rect l="l" t="t" r="r" b="b"/>
            <a:pathLst>
              <a:path w="1224" h="708">
                <a:moveTo>
                  <a:pt x="1017" y="480"/>
                </a:moveTo>
                <a:lnTo>
                  <a:pt x="1011" y="495"/>
                </a:lnTo>
                <a:lnTo>
                  <a:pt x="1006" y="509"/>
                </a:lnTo>
                <a:lnTo>
                  <a:pt x="1000" y="522"/>
                </a:lnTo>
                <a:lnTo>
                  <a:pt x="996" y="534"/>
                </a:lnTo>
                <a:lnTo>
                  <a:pt x="990" y="547"/>
                </a:lnTo>
                <a:lnTo>
                  <a:pt x="985" y="559"/>
                </a:lnTo>
                <a:lnTo>
                  <a:pt x="979" y="570"/>
                </a:lnTo>
                <a:lnTo>
                  <a:pt x="973" y="582"/>
                </a:lnTo>
                <a:lnTo>
                  <a:pt x="962" y="603"/>
                </a:lnTo>
                <a:lnTo>
                  <a:pt x="948" y="620"/>
                </a:lnTo>
                <a:lnTo>
                  <a:pt x="937" y="637"/>
                </a:lnTo>
                <a:lnTo>
                  <a:pt x="925" y="653"/>
                </a:lnTo>
                <a:lnTo>
                  <a:pt x="914" y="666"/>
                </a:lnTo>
                <a:lnTo>
                  <a:pt x="902" y="676"/>
                </a:lnTo>
                <a:lnTo>
                  <a:pt x="889" y="685"/>
                </a:lnTo>
                <a:lnTo>
                  <a:pt x="877" y="693"/>
                </a:lnTo>
                <a:lnTo>
                  <a:pt x="866" y="701"/>
                </a:lnTo>
                <a:lnTo>
                  <a:pt x="854" y="705"/>
                </a:lnTo>
                <a:lnTo>
                  <a:pt x="843" y="706"/>
                </a:lnTo>
                <a:lnTo>
                  <a:pt x="833" y="708"/>
                </a:lnTo>
                <a:lnTo>
                  <a:pt x="839" y="676"/>
                </a:lnTo>
                <a:lnTo>
                  <a:pt x="846" y="647"/>
                </a:lnTo>
                <a:lnTo>
                  <a:pt x="852" y="616"/>
                </a:lnTo>
                <a:lnTo>
                  <a:pt x="860" y="589"/>
                </a:lnTo>
                <a:lnTo>
                  <a:pt x="866" y="561"/>
                </a:lnTo>
                <a:lnTo>
                  <a:pt x="871" y="536"/>
                </a:lnTo>
                <a:lnTo>
                  <a:pt x="877" y="509"/>
                </a:lnTo>
                <a:lnTo>
                  <a:pt x="881" y="486"/>
                </a:lnTo>
                <a:lnTo>
                  <a:pt x="887" y="461"/>
                </a:lnTo>
                <a:lnTo>
                  <a:pt x="890" y="438"/>
                </a:lnTo>
                <a:lnTo>
                  <a:pt x="896" y="417"/>
                </a:lnTo>
                <a:lnTo>
                  <a:pt x="900" y="395"/>
                </a:lnTo>
                <a:lnTo>
                  <a:pt x="904" y="376"/>
                </a:lnTo>
                <a:lnTo>
                  <a:pt x="906" y="357"/>
                </a:lnTo>
                <a:lnTo>
                  <a:pt x="910" y="338"/>
                </a:lnTo>
                <a:lnTo>
                  <a:pt x="912" y="321"/>
                </a:lnTo>
                <a:lnTo>
                  <a:pt x="915" y="305"/>
                </a:lnTo>
                <a:lnTo>
                  <a:pt x="917" y="288"/>
                </a:lnTo>
                <a:lnTo>
                  <a:pt x="919" y="275"/>
                </a:lnTo>
                <a:lnTo>
                  <a:pt x="921" y="261"/>
                </a:lnTo>
                <a:lnTo>
                  <a:pt x="923" y="248"/>
                </a:lnTo>
                <a:lnTo>
                  <a:pt x="925" y="236"/>
                </a:lnTo>
                <a:lnTo>
                  <a:pt x="925" y="225"/>
                </a:lnTo>
                <a:lnTo>
                  <a:pt x="927" y="215"/>
                </a:lnTo>
                <a:lnTo>
                  <a:pt x="927" y="205"/>
                </a:lnTo>
                <a:lnTo>
                  <a:pt x="927" y="198"/>
                </a:lnTo>
                <a:lnTo>
                  <a:pt x="927" y="190"/>
                </a:lnTo>
                <a:lnTo>
                  <a:pt x="927" y="184"/>
                </a:lnTo>
                <a:lnTo>
                  <a:pt x="927" y="179"/>
                </a:lnTo>
                <a:lnTo>
                  <a:pt x="927" y="175"/>
                </a:lnTo>
                <a:lnTo>
                  <a:pt x="925" y="171"/>
                </a:lnTo>
                <a:lnTo>
                  <a:pt x="925" y="169"/>
                </a:lnTo>
                <a:lnTo>
                  <a:pt x="921" y="165"/>
                </a:lnTo>
                <a:lnTo>
                  <a:pt x="917" y="165"/>
                </a:lnTo>
                <a:lnTo>
                  <a:pt x="910" y="163"/>
                </a:lnTo>
                <a:lnTo>
                  <a:pt x="902" y="161"/>
                </a:lnTo>
                <a:lnTo>
                  <a:pt x="892" y="161"/>
                </a:lnTo>
                <a:lnTo>
                  <a:pt x="881" y="161"/>
                </a:lnTo>
                <a:lnTo>
                  <a:pt x="867" y="161"/>
                </a:lnTo>
                <a:lnTo>
                  <a:pt x="854" y="161"/>
                </a:lnTo>
                <a:lnTo>
                  <a:pt x="837" y="161"/>
                </a:lnTo>
                <a:lnTo>
                  <a:pt x="819" y="163"/>
                </a:lnTo>
                <a:lnTo>
                  <a:pt x="798" y="163"/>
                </a:lnTo>
                <a:lnTo>
                  <a:pt x="777" y="165"/>
                </a:lnTo>
                <a:lnTo>
                  <a:pt x="754" y="167"/>
                </a:lnTo>
                <a:lnTo>
                  <a:pt x="729" y="169"/>
                </a:lnTo>
                <a:lnTo>
                  <a:pt x="702" y="173"/>
                </a:lnTo>
                <a:lnTo>
                  <a:pt x="676" y="175"/>
                </a:lnTo>
                <a:lnTo>
                  <a:pt x="645" y="179"/>
                </a:lnTo>
                <a:lnTo>
                  <a:pt x="614" y="182"/>
                </a:lnTo>
                <a:lnTo>
                  <a:pt x="580" y="186"/>
                </a:lnTo>
                <a:lnTo>
                  <a:pt x="545" y="190"/>
                </a:lnTo>
                <a:lnTo>
                  <a:pt x="509" y="194"/>
                </a:lnTo>
                <a:lnTo>
                  <a:pt x="470" y="200"/>
                </a:lnTo>
                <a:lnTo>
                  <a:pt x="432" y="204"/>
                </a:lnTo>
                <a:lnTo>
                  <a:pt x="390" y="209"/>
                </a:lnTo>
                <a:lnTo>
                  <a:pt x="347" y="215"/>
                </a:lnTo>
                <a:lnTo>
                  <a:pt x="301" y="221"/>
                </a:lnTo>
                <a:lnTo>
                  <a:pt x="255" y="228"/>
                </a:lnTo>
                <a:lnTo>
                  <a:pt x="207" y="234"/>
                </a:lnTo>
                <a:lnTo>
                  <a:pt x="159" y="242"/>
                </a:lnTo>
                <a:lnTo>
                  <a:pt x="107" y="248"/>
                </a:lnTo>
                <a:lnTo>
                  <a:pt x="54" y="255"/>
                </a:lnTo>
                <a:lnTo>
                  <a:pt x="0" y="265"/>
                </a:lnTo>
                <a:lnTo>
                  <a:pt x="0" y="217"/>
                </a:lnTo>
                <a:lnTo>
                  <a:pt x="0" y="169"/>
                </a:lnTo>
                <a:lnTo>
                  <a:pt x="31" y="165"/>
                </a:lnTo>
                <a:lnTo>
                  <a:pt x="61" y="163"/>
                </a:lnTo>
                <a:lnTo>
                  <a:pt x="94" y="159"/>
                </a:lnTo>
                <a:lnTo>
                  <a:pt x="127" y="157"/>
                </a:lnTo>
                <a:lnTo>
                  <a:pt x="159" y="154"/>
                </a:lnTo>
                <a:lnTo>
                  <a:pt x="192" y="150"/>
                </a:lnTo>
                <a:lnTo>
                  <a:pt x="226" y="146"/>
                </a:lnTo>
                <a:lnTo>
                  <a:pt x="261" y="142"/>
                </a:lnTo>
                <a:lnTo>
                  <a:pt x="297" y="136"/>
                </a:lnTo>
                <a:lnTo>
                  <a:pt x="334" y="133"/>
                </a:lnTo>
                <a:lnTo>
                  <a:pt x="370" y="127"/>
                </a:lnTo>
                <a:lnTo>
                  <a:pt x="409" y="121"/>
                </a:lnTo>
                <a:lnTo>
                  <a:pt x="447" y="115"/>
                </a:lnTo>
                <a:lnTo>
                  <a:pt x="485" y="109"/>
                </a:lnTo>
                <a:lnTo>
                  <a:pt x="526" y="104"/>
                </a:lnTo>
                <a:lnTo>
                  <a:pt x="566" y="96"/>
                </a:lnTo>
                <a:lnTo>
                  <a:pt x="585" y="92"/>
                </a:lnTo>
                <a:lnTo>
                  <a:pt x="604" y="90"/>
                </a:lnTo>
                <a:lnTo>
                  <a:pt x="622" y="86"/>
                </a:lnTo>
                <a:lnTo>
                  <a:pt x="639" y="83"/>
                </a:lnTo>
                <a:lnTo>
                  <a:pt x="656" y="81"/>
                </a:lnTo>
                <a:lnTo>
                  <a:pt x="674" y="77"/>
                </a:lnTo>
                <a:lnTo>
                  <a:pt x="689" y="75"/>
                </a:lnTo>
                <a:lnTo>
                  <a:pt x="704" y="71"/>
                </a:lnTo>
                <a:lnTo>
                  <a:pt x="720" y="69"/>
                </a:lnTo>
                <a:lnTo>
                  <a:pt x="735" y="65"/>
                </a:lnTo>
                <a:lnTo>
                  <a:pt x="748" y="63"/>
                </a:lnTo>
                <a:lnTo>
                  <a:pt x="762" y="61"/>
                </a:lnTo>
                <a:lnTo>
                  <a:pt x="773" y="58"/>
                </a:lnTo>
                <a:lnTo>
                  <a:pt x="787" y="56"/>
                </a:lnTo>
                <a:lnTo>
                  <a:pt x="798" y="54"/>
                </a:lnTo>
                <a:lnTo>
                  <a:pt x="810" y="52"/>
                </a:lnTo>
                <a:lnTo>
                  <a:pt x="819" y="48"/>
                </a:lnTo>
                <a:lnTo>
                  <a:pt x="829" y="46"/>
                </a:lnTo>
                <a:lnTo>
                  <a:pt x="839" y="44"/>
                </a:lnTo>
                <a:lnTo>
                  <a:pt x="848" y="42"/>
                </a:lnTo>
                <a:lnTo>
                  <a:pt x="856" y="40"/>
                </a:lnTo>
                <a:lnTo>
                  <a:pt x="864" y="38"/>
                </a:lnTo>
                <a:lnTo>
                  <a:pt x="871" y="37"/>
                </a:lnTo>
                <a:lnTo>
                  <a:pt x="879" y="35"/>
                </a:lnTo>
                <a:lnTo>
                  <a:pt x="885" y="35"/>
                </a:lnTo>
                <a:lnTo>
                  <a:pt x="890" y="33"/>
                </a:lnTo>
                <a:lnTo>
                  <a:pt x="896" y="31"/>
                </a:lnTo>
                <a:lnTo>
                  <a:pt x="900" y="29"/>
                </a:lnTo>
                <a:lnTo>
                  <a:pt x="904" y="27"/>
                </a:lnTo>
                <a:lnTo>
                  <a:pt x="908" y="27"/>
                </a:lnTo>
                <a:lnTo>
                  <a:pt x="912" y="25"/>
                </a:lnTo>
                <a:lnTo>
                  <a:pt x="914" y="25"/>
                </a:lnTo>
                <a:lnTo>
                  <a:pt x="931" y="15"/>
                </a:lnTo>
                <a:lnTo>
                  <a:pt x="938" y="12"/>
                </a:lnTo>
                <a:lnTo>
                  <a:pt x="948" y="8"/>
                </a:lnTo>
                <a:lnTo>
                  <a:pt x="956" y="4"/>
                </a:lnTo>
                <a:lnTo>
                  <a:pt x="965" y="2"/>
                </a:lnTo>
                <a:lnTo>
                  <a:pt x="973" y="0"/>
                </a:lnTo>
                <a:lnTo>
                  <a:pt x="983" y="0"/>
                </a:lnTo>
                <a:lnTo>
                  <a:pt x="986" y="2"/>
                </a:lnTo>
                <a:lnTo>
                  <a:pt x="992" y="6"/>
                </a:lnTo>
                <a:lnTo>
                  <a:pt x="998" y="8"/>
                </a:lnTo>
                <a:lnTo>
                  <a:pt x="1004" y="12"/>
                </a:lnTo>
                <a:lnTo>
                  <a:pt x="1011" y="15"/>
                </a:lnTo>
                <a:lnTo>
                  <a:pt x="1017" y="19"/>
                </a:lnTo>
                <a:lnTo>
                  <a:pt x="1027" y="23"/>
                </a:lnTo>
                <a:lnTo>
                  <a:pt x="1034" y="29"/>
                </a:lnTo>
                <a:lnTo>
                  <a:pt x="1044" y="35"/>
                </a:lnTo>
                <a:lnTo>
                  <a:pt x="1054" y="40"/>
                </a:lnTo>
                <a:lnTo>
                  <a:pt x="1063" y="46"/>
                </a:lnTo>
                <a:lnTo>
                  <a:pt x="1073" y="52"/>
                </a:lnTo>
                <a:lnTo>
                  <a:pt x="1084" y="60"/>
                </a:lnTo>
                <a:lnTo>
                  <a:pt x="1096" y="67"/>
                </a:lnTo>
                <a:lnTo>
                  <a:pt x="1107" y="75"/>
                </a:lnTo>
                <a:lnTo>
                  <a:pt x="1121" y="85"/>
                </a:lnTo>
                <a:lnTo>
                  <a:pt x="1134" y="96"/>
                </a:lnTo>
                <a:lnTo>
                  <a:pt x="1146" y="106"/>
                </a:lnTo>
                <a:lnTo>
                  <a:pt x="1155" y="115"/>
                </a:lnTo>
                <a:lnTo>
                  <a:pt x="1167" y="125"/>
                </a:lnTo>
                <a:lnTo>
                  <a:pt x="1176" y="134"/>
                </a:lnTo>
                <a:lnTo>
                  <a:pt x="1184" y="142"/>
                </a:lnTo>
                <a:lnTo>
                  <a:pt x="1192" y="150"/>
                </a:lnTo>
                <a:lnTo>
                  <a:pt x="1200" y="156"/>
                </a:lnTo>
                <a:lnTo>
                  <a:pt x="1205" y="163"/>
                </a:lnTo>
                <a:lnTo>
                  <a:pt x="1211" y="169"/>
                </a:lnTo>
                <a:lnTo>
                  <a:pt x="1215" y="175"/>
                </a:lnTo>
                <a:lnTo>
                  <a:pt x="1219" y="179"/>
                </a:lnTo>
                <a:lnTo>
                  <a:pt x="1221" y="182"/>
                </a:lnTo>
                <a:lnTo>
                  <a:pt x="1223" y="186"/>
                </a:lnTo>
                <a:lnTo>
                  <a:pt x="1224" y="190"/>
                </a:lnTo>
                <a:lnTo>
                  <a:pt x="1224" y="192"/>
                </a:lnTo>
                <a:lnTo>
                  <a:pt x="1221" y="200"/>
                </a:lnTo>
                <a:lnTo>
                  <a:pt x="1217" y="207"/>
                </a:lnTo>
                <a:lnTo>
                  <a:pt x="1211" y="215"/>
                </a:lnTo>
                <a:lnTo>
                  <a:pt x="1205" y="221"/>
                </a:lnTo>
                <a:lnTo>
                  <a:pt x="1198" y="227"/>
                </a:lnTo>
                <a:lnTo>
                  <a:pt x="1190" y="230"/>
                </a:lnTo>
                <a:lnTo>
                  <a:pt x="1178" y="236"/>
                </a:lnTo>
                <a:lnTo>
                  <a:pt x="1175" y="238"/>
                </a:lnTo>
                <a:lnTo>
                  <a:pt x="1167" y="240"/>
                </a:lnTo>
                <a:lnTo>
                  <a:pt x="1161" y="244"/>
                </a:lnTo>
                <a:lnTo>
                  <a:pt x="1153" y="248"/>
                </a:lnTo>
                <a:lnTo>
                  <a:pt x="1146" y="253"/>
                </a:lnTo>
                <a:lnTo>
                  <a:pt x="1138" y="261"/>
                </a:lnTo>
                <a:lnTo>
                  <a:pt x="1129" y="269"/>
                </a:lnTo>
                <a:lnTo>
                  <a:pt x="1119" y="280"/>
                </a:lnTo>
                <a:lnTo>
                  <a:pt x="1109" y="292"/>
                </a:lnTo>
                <a:lnTo>
                  <a:pt x="1100" y="305"/>
                </a:lnTo>
                <a:lnTo>
                  <a:pt x="1090" y="321"/>
                </a:lnTo>
                <a:lnTo>
                  <a:pt x="1081" y="338"/>
                </a:lnTo>
                <a:lnTo>
                  <a:pt x="1071" y="357"/>
                </a:lnTo>
                <a:lnTo>
                  <a:pt x="1059" y="378"/>
                </a:lnTo>
                <a:lnTo>
                  <a:pt x="1050" y="401"/>
                </a:lnTo>
                <a:lnTo>
                  <a:pt x="1038" y="426"/>
                </a:lnTo>
                <a:lnTo>
                  <a:pt x="1033" y="438"/>
                </a:lnTo>
                <a:lnTo>
                  <a:pt x="1029" y="451"/>
                </a:lnTo>
                <a:lnTo>
                  <a:pt x="1023" y="467"/>
                </a:lnTo>
                <a:lnTo>
                  <a:pt x="1017" y="4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47"/>
          <p:cNvSpPr/>
          <p:nvPr/>
        </p:nvSpPr>
        <p:spPr>
          <a:xfrm>
            <a:off x="6161040" y="2881440"/>
            <a:ext cx="268200" cy="480960"/>
          </a:xfrm>
          <a:custGeom>
            <a:avLst/>
            <a:gdLst/>
            <a:ahLst/>
            <a:rect l="l" t="t" r="r" b="b"/>
            <a:pathLst>
              <a:path w="339" h="605">
                <a:moveTo>
                  <a:pt x="224" y="450"/>
                </a:moveTo>
                <a:lnTo>
                  <a:pt x="216" y="426"/>
                </a:lnTo>
                <a:lnTo>
                  <a:pt x="211" y="405"/>
                </a:lnTo>
                <a:lnTo>
                  <a:pt x="203" y="384"/>
                </a:lnTo>
                <a:lnTo>
                  <a:pt x="197" y="363"/>
                </a:lnTo>
                <a:lnTo>
                  <a:pt x="191" y="344"/>
                </a:lnTo>
                <a:lnTo>
                  <a:pt x="186" y="325"/>
                </a:lnTo>
                <a:lnTo>
                  <a:pt x="178" y="306"/>
                </a:lnTo>
                <a:lnTo>
                  <a:pt x="172" y="288"/>
                </a:lnTo>
                <a:lnTo>
                  <a:pt x="166" y="271"/>
                </a:lnTo>
                <a:lnTo>
                  <a:pt x="161" y="254"/>
                </a:lnTo>
                <a:lnTo>
                  <a:pt x="155" y="238"/>
                </a:lnTo>
                <a:lnTo>
                  <a:pt x="149" y="225"/>
                </a:lnTo>
                <a:lnTo>
                  <a:pt x="145" y="210"/>
                </a:lnTo>
                <a:lnTo>
                  <a:pt x="140" y="196"/>
                </a:lnTo>
                <a:lnTo>
                  <a:pt x="136" y="185"/>
                </a:lnTo>
                <a:lnTo>
                  <a:pt x="130" y="173"/>
                </a:lnTo>
                <a:lnTo>
                  <a:pt x="124" y="162"/>
                </a:lnTo>
                <a:lnTo>
                  <a:pt x="119" y="152"/>
                </a:lnTo>
                <a:lnTo>
                  <a:pt x="113" y="142"/>
                </a:lnTo>
                <a:lnTo>
                  <a:pt x="107" y="135"/>
                </a:lnTo>
                <a:lnTo>
                  <a:pt x="101" y="125"/>
                </a:lnTo>
                <a:lnTo>
                  <a:pt x="95" y="119"/>
                </a:lnTo>
                <a:lnTo>
                  <a:pt x="90" y="112"/>
                </a:lnTo>
                <a:lnTo>
                  <a:pt x="84" y="106"/>
                </a:lnTo>
                <a:lnTo>
                  <a:pt x="78" y="102"/>
                </a:lnTo>
                <a:lnTo>
                  <a:pt x="74" y="96"/>
                </a:lnTo>
                <a:lnTo>
                  <a:pt x="69" y="92"/>
                </a:lnTo>
                <a:lnTo>
                  <a:pt x="63" y="89"/>
                </a:lnTo>
                <a:lnTo>
                  <a:pt x="51" y="81"/>
                </a:lnTo>
                <a:lnTo>
                  <a:pt x="38" y="77"/>
                </a:lnTo>
                <a:lnTo>
                  <a:pt x="32" y="77"/>
                </a:lnTo>
                <a:lnTo>
                  <a:pt x="26" y="75"/>
                </a:lnTo>
                <a:lnTo>
                  <a:pt x="21" y="75"/>
                </a:lnTo>
                <a:lnTo>
                  <a:pt x="17" y="75"/>
                </a:lnTo>
                <a:lnTo>
                  <a:pt x="13" y="73"/>
                </a:lnTo>
                <a:lnTo>
                  <a:pt x="9" y="71"/>
                </a:lnTo>
                <a:lnTo>
                  <a:pt x="5" y="69"/>
                </a:lnTo>
                <a:lnTo>
                  <a:pt x="3" y="66"/>
                </a:lnTo>
                <a:lnTo>
                  <a:pt x="1" y="64"/>
                </a:lnTo>
                <a:lnTo>
                  <a:pt x="0" y="60"/>
                </a:lnTo>
                <a:lnTo>
                  <a:pt x="0" y="56"/>
                </a:lnTo>
                <a:lnTo>
                  <a:pt x="0" y="52"/>
                </a:lnTo>
                <a:lnTo>
                  <a:pt x="0" y="46"/>
                </a:lnTo>
                <a:lnTo>
                  <a:pt x="0" y="41"/>
                </a:lnTo>
                <a:lnTo>
                  <a:pt x="1" y="35"/>
                </a:lnTo>
                <a:lnTo>
                  <a:pt x="3" y="29"/>
                </a:lnTo>
                <a:lnTo>
                  <a:pt x="5" y="25"/>
                </a:lnTo>
                <a:lnTo>
                  <a:pt x="9" y="20"/>
                </a:lnTo>
                <a:lnTo>
                  <a:pt x="13" y="16"/>
                </a:lnTo>
                <a:lnTo>
                  <a:pt x="17" y="14"/>
                </a:lnTo>
                <a:lnTo>
                  <a:pt x="23" y="10"/>
                </a:lnTo>
                <a:lnTo>
                  <a:pt x="28" y="8"/>
                </a:lnTo>
                <a:lnTo>
                  <a:pt x="34" y="4"/>
                </a:lnTo>
                <a:lnTo>
                  <a:pt x="42" y="2"/>
                </a:lnTo>
                <a:lnTo>
                  <a:pt x="49" y="2"/>
                </a:lnTo>
                <a:lnTo>
                  <a:pt x="57" y="0"/>
                </a:lnTo>
                <a:lnTo>
                  <a:pt x="69" y="0"/>
                </a:lnTo>
                <a:lnTo>
                  <a:pt x="78" y="0"/>
                </a:lnTo>
                <a:lnTo>
                  <a:pt x="90" y="0"/>
                </a:lnTo>
                <a:lnTo>
                  <a:pt x="103" y="2"/>
                </a:lnTo>
                <a:lnTo>
                  <a:pt x="117" y="2"/>
                </a:lnTo>
                <a:lnTo>
                  <a:pt x="130" y="4"/>
                </a:lnTo>
                <a:lnTo>
                  <a:pt x="143" y="6"/>
                </a:lnTo>
                <a:lnTo>
                  <a:pt x="155" y="10"/>
                </a:lnTo>
                <a:lnTo>
                  <a:pt x="166" y="12"/>
                </a:lnTo>
                <a:lnTo>
                  <a:pt x="178" y="14"/>
                </a:lnTo>
                <a:lnTo>
                  <a:pt x="188" y="16"/>
                </a:lnTo>
                <a:lnTo>
                  <a:pt x="199" y="18"/>
                </a:lnTo>
                <a:lnTo>
                  <a:pt x="207" y="21"/>
                </a:lnTo>
                <a:lnTo>
                  <a:pt x="216" y="23"/>
                </a:lnTo>
                <a:lnTo>
                  <a:pt x="224" y="25"/>
                </a:lnTo>
                <a:lnTo>
                  <a:pt x="230" y="27"/>
                </a:lnTo>
                <a:lnTo>
                  <a:pt x="238" y="29"/>
                </a:lnTo>
                <a:lnTo>
                  <a:pt x="243" y="31"/>
                </a:lnTo>
                <a:lnTo>
                  <a:pt x="247" y="35"/>
                </a:lnTo>
                <a:lnTo>
                  <a:pt x="251" y="37"/>
                </a:lnTo>
                <a:lnTo>
                  <a:pt x="255" y="39"/>
                </a:lnTo>
                <a:lnTo>
                  <a:pt x="259" y="41"/>
                </a:lnTo>
                <a:lnTo>
                  <a:pt x="261" y="43"/>
                </a:lnTo>
                <a:lnTo>
                  <a:pt x="262" y="48"/>
                </a:lnTo>
                <a:lnTo>
                  <a:pt x="264" y="52"/>
                </a:lnTo>
                <a:lnTo>
                  <a:pt x="266" y="58"/>
                </a:lnTo>
                <a:lnTo>
                  <a:pt x="268" y="66"/>
                </a:lnTo>
                <a:lnTo>
                  <a:pt x="272" y="73"/>
                </a:lnTo>
                <a:lnTo>
                  <a:pt x="274" y="83"/>
                </a:lnTo>
                <a:lnTo>
                  <a:pt x="276" y="92"/>
                </a:lnTo>
                <a:lnTo>
                  <a:pt x="280" y="102"/>
                </a:lnTo>
                <a:lnTo>
                  <a:pt x="282" y="114"/>
                </a:lnTo>
                <a:lnTo>
                  <a:pt x="286" y="125"/>
                </a:lnTo>
                <a:lnTo>
                  <a:pt x="289" y="139"/>
                </a:lnTo>
                <a:lnTo>
                  <a:pt x="291" y="152"/>
                </a:lnTo>
                <a:lnTo>
                  <a:pt x="295" y="165"/>
                </a:lnTo>
                <a:lnTo>
                  <a:pt x="299" y="181"/>
                </a:lnTo>
                <a:lnTo>
                  <a:pt x="305" y="196"/>
                </a:lnTo>
                <a:lnTo>
                  <a:pt x="312" y="269"/>
                </a:lnTo>
                <a:lnTo>
                  <a:pt x="316" y="304"/>
                </a:lnTo>
                <a:lnTo>
                  <a:pt x="322" y="338"/>
                </a:lnTo>
                <a:lnTo>
                  <a:pt x="326" y="373"/>
                </a:lnTo>
                <a:lnTo>
                  <a:pt x="330" y="407"/>
                </a:lnTo>
                <a:lnTo>
                  <a:pt x="335" y="440"/>
                </a:lnTo>
                <a:lnTo>
                  <a:pt x="339" y="473"/>
                </a:lnTo>
                <a:lnTo>
                  <a:pt x="339" y="488"/>
                </a:lnTo>
                <a:lnTo>
                  <a:pt x="337" y="501"/>
                </a:lnTo>
                <a:lnTo>
                  <a:pt x="337" y="515"/>
                </a:lnTo>
                <a:lnTo>
                  <a:pt x="337" y="528"/>
                </a:lnTo>
                <a:lnTo>
                  <a:pt x="335" y="540"/>
                </a:lnTo>
                <a:lnTo>
                  <a:pt x="333" y="551"/>
                </a:lnTo>
                <a:lnTo>
                  <a:pt x="333" y="561"/>
                </a:lnTo>
                <a:lnTo>
                  <a:pt x="332" y="570"/>
                </a:lnTo>
                <a:lnTo>
                  <a:pt x="330" y="578"/>
                </a:lnTo>
                <a:lnTo>
                  <a:pt x="328" y="584"/>
                </a:lnTo>
                <a:lnTo>
                  <a:pt x="326" y="590"/>
                </a:lnTo>
                <a:lnTo>
                  <a:pt x="324" y="595"/>
                </a:lnTo>
                <a:lnTo>
                  <a:pt x="322" y="599"/>
                </a:lnTo>
                <a:lnTo>
                  <a:pt x="320" y="601"/>
                </a:lnTo>
                <a:lnTo>
                  <a:pt x="318" y="603"/>
                </a:lnTo>
                <a:lnTo>
                  <a:pt x="316" y="605"/>
                </a:lnTo>
                <a:lnTo>
                  <a:pt x="310" y="605"/>
                </a:lnTo>
                <a:lnTo>
                  <a:pt x="307" y="605"/>
                </a:lnTo>
                <a:lnTo>
                  <a:pt x="301" y="603"/>
                </a:lnTo>
                <a:lnTo>
                  <a:pt x="295" y="601"/>
                </a:lnTo>
                <a:lnTo>
                  <a:pt x="291" y="595"/>
                </a:lnTo>
                <a:lnTo>
                  <a:pt x="286" y="590"/>
                </a:lnTo>
                <a:lnTo>
                  <a:pt x="280" y="580"/>
                </a:lnTo>
                <a:lnTo>
                  <a:pt x="274" y="572"/>
                </a:lnTo>
                <a:lnTo>
                  <a:pt x="268" y="561"/>
                </a:lnTo>
                <a:lnTo>
                  <a:pt x="261" y="549"/>
                </a:lnTo>
                <a:lnTo>
                  <a:pt x="255" y="536"/>
                </a:lnTo>
                <a:lnTo>
                  <a:pt x="249" y="521"/>
                </a:lnTo>
                <a:lnTo>
                  <a:pt x="243" y="503"/>
                </a:lnTo>
                <a:lnTo>
                  <a:pt x="236" y="486"/>
                </a:lnTo>
                <a:lnTo>
                  <a:pt x="230" y="469"/>
                </a:lnTo>
                <a:lnTo>
                  <a:pt x="224" y="4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148"/>
          <p:cNvSpPr/>
          <p:nvPr/>
        </p:nvSpPr>
        <p:spPr>
          <a:xfrm>
            <a:off x="6700680" y="2744640"/>
            <a:ext cx="352440" cy="625680"/>
          </a:xfrm>
          <a:custGeom>
            <a:avLst/>
            <a:gdLst/>
            <a:ahLst/>
            <a:rect l="l" t="t" r="r" b="b"/>
            <a:pathLst>
              <a:path w="447" h="789">
                <a:moveTo>
                  <a:pt x="240" y="512"/>
                </a:moveTo>
                <a:lnTo>
                  <a:pt x="228" y="531"/>
                </a:lnTo>
                <a:lnTo>
                  <a:pt x="217" y="549"/>
                </a:lnTo>
                <a:lnTo>
                  <a:pt x="205" y="564"/>
                </a:lnTo>
                <a:lnTo>
                  <a:pt x="194" y="581"/>
                </a:lnTo>
                <a:lnTo>
                  <a:pt x="184" y="597"/>
                </a:lnTo>
                <a:lnTo>
                  <a:pt x="173" y="610"/>
                </a:lnTo>
                <a:lnTo>
                  <a:pt x="163" y="625"/>
                </a:lnTo>
                <a:lnTo>
                  <a:pt x="154" y="639"/>
                </a:lnTo>
                <a:lnTo>
                  <a:pt x="144" y="652"/>
                </a:lnTo>
                <a:lnTo>
                  <a:pt x="134" y="664"/>
                </a:lnTo>
                <a:lnTo>
                  <a:pt x="127" y="677"/>
                </a:lnTo>
                <a:lnTo>
                  <a:pt x="117" y="689"/>
                </a:lnTo>
                <a:lnTo>
                  <a:pt x="109" y="698"/>
                </a:lnTo>
                <a:lnTo>
                  <a:pt x="102" y="708"/>
                </a:lnTo>
                <a:lnTo>
                  <a:pt x="92" y="718"/>
                </a:lnTo>
                <a:lnTo>
                  <a:pt x="86" y="727"/>
                </a:lnTo>
                <a:lnTo>
                  <a:pt x="79" y="737"/>
                </a:lnTo>
                <a:lnTo>
                  <a:pt x="71" y="744"/>
                </a:lnTo>
                <a:lnTo>
                  <a:pt x="65" y="750"/>
                </a:lnTo>
                <a:lnTo>
                  <a:pt x="58" y="758"/>
                </a:lnTo>
                <a:lnTo>
                  <a:pt x="52" y="764"/>
                </a:lnTo>
                <a:lnTo>
                  <a:pt x="46" y="769"/>
                </a:lnTo>
                <a:lnTo>
                  <a:pt x="42" y="773"/>
                </a:lnTo>
                <a:lnTo>
                  <a:pt x="37" y="777"/>
                </a:lnTo>
                <a:lnTo>
                  <a:pt x="33" y="781"/>
                </a:lnTo>
                <a:lnTo>
                  <a:pt x="27" y="785"/>
                </a:lnTo>
                <a:lnTo>
                  <a:pt x="23" y="787"/>
                </a:lnTo>
                <a:lnTo>
                  <a:pt x="19" y="789"/>
                </a:lnTo>
                <a:lnTo>
                  <a:pt x="15" y="789"/>
                </a:lnTo>
                <a:lnTo>
                  <a:pt x="14" y="789"/>
                </a:lnTo>
                <a:lnTo>
                  <a:pt x="10" y="789"/>
                </a:lnTo>
                <a:lnTo>
                  <a:pt x="8" y="789"/>
                </a:lnTo>
                <a:lnTo>
                  <a:pt x="4" y="787"/>
                </a:lnTo>
                <a:lnTo>
                  <a:pt x="2" y="785"/>
                </a:lnTo>
                <a:lnTo>
                  <a:pt x="0" y="781"/>
                </a:lnTo>
                <a:lnTo>
                  <a:pt x="0" y="775"/>
                </a:lnTo>
                <a:lnTo>
                  <a:pt x="0" y="767"/>
                </a:lnTo>
                <a:lnTo>
                  <a:pt x="2" y="758"/>
                </a:lnTo>
                <a:lnTo>
                  <a:pt x="4" y="748"/>
                </a:lnTo>
                <a:lnTo>
                  <a:pt x="8" y="737"/>
                </a:lnTo>
                <a:lnTo>
                  <a:pt x="12" y="721"/>
                </a:lnTo>
                <a:lnTo>
                  <a:pt x="17" y="708"/>
                </a:lnTo>
                <a:lnTo>
                  <a:pt x="23" y="691"/>
                </a:lnTo>
                <a:lnTo>
                  <a:pt x="31" y="671"/>
                </a:lnTo>
                <a:lnTo>
                  <a:pt x="38" y="652"/>
                </a:lnTo>
                <a:lnTo>
                  <a:pt x="46" y="631"/>
                </a:lnTo>
                <a:lnTo>
                  <a:pt x="56" y="608"/>
                </a:lnTo>
                <a:lnTo>
                  <a:pt x="67" y="585"/>
                </a:lnTo>
                <a:lnTo>
                  <a:pt x="77" y="560"/>
                </a:lnTo>
                <a:lnTo>
                  <a:pt x="86" y="535"/>
                </a:lnTo>
                <a:lnTo>
                  <a:pt x="98" y="512"/>
                </a:lnTo>
                <a:lnTo>
                  <a:pt x="108" y="489"/>
                </a:lnTo>
                <a:lnTo>
                  <a:pt x="117" y="468"/>
                </a:lnTo>
                <a:lnTo>
                  <a:pt x="125" y="445"/>
                </a:lnTo>
                <a:lnTo>
                  <a:pt x="142" y="403"/>
                </a:lnTo>
                <a:lnTo>
                  <a:pt x="157" y="362"/>
                </a:lnTo>
                <a:lnTo>
                  <a:pt x="165" y="343"/>
                </a:lnTo>
                <a:lnTo>
                  <a:pt x="171" y="324"/>
                </a:lnTo>
                <a:lnTo>
                  <a:pt x="179" y="305"/>
                </a:lnTo>
                <a:lnTo>
                  <a:pt x="184" y="286"/>
                </a:lnTo>
                <a:lnTo>
                  <a:pt x="188" y="266"/>
                </a:lnTo>
                <a:lnTo>
                  <a:pt x="194" y="249"/>
                </a:lnTo>
                <a:lnTo>
                  <a:pt x="198" y="232"/>
                </a:lnTo>
                <a:lnTo>
                  <a:pt x="200" y="215"/>
                </a:lnTo>
                <a:lnTo>
                  <a:pt x="204" y="199"/>
                </a:lnTo>
                <a:lnTo>
                  <a:pt x="205" y="184"/>
                </a:lnTo>
                <a:lnTo>
                  <a:pt x="207" y="169"/>
                </a:lnTo>
                <a:lnTo>
                  <a:pt x="209" y="155"/>
                </a:lnTo>
                <a:lnTo>
                  <a:pt x="211" y="144"/>
                </a:lnTo>
                <a:lnTo>
                  <a:pt x="211" y="132"/>
                </a:lnTo>
                <a:lnTo>
                  <a:pt x="211" y="121"/>
                </a:lnTo>
                <a:lnTo>
                  <a:pt x="211" y="111"/>
                </a:lnTo>
                <a:lnTo>
                  <a:pt x="211" y="101"/>
                </a:lnTo>
                <a:lnTo>
                  <a:pt x="211" y="94"/>
                </a:lnTo>
                <a:lnTo>
                  <a:pt x="209" y="86"/>
                </a:lnTo>
                <a:lnTo>
                  <a:pt x="207" y="80"/>
                </a:lnTo>
                <a:lnTo>
                  <a:pt x="207" y="74"/>
                </a:lnTo>
                <a:lnTo>
                  <a:pt x="205" y="69"/>
                </a:lnTo>
                <a:lnTo>
                  <a:pt x="200" y="65"/>
                </a:lnTo>
                <a:lnTo>
                  <a:pt x="198" y="59"/>
                </a:lnTo>
                <a:lnTo>
                  <a:pt x="194" y="55"/>
                </a:lnTo>
                <a:lnTo>
                  <a:pt x="192" y="51"/>
                </a:lnTo>
                <a:lnTo>
                  <a:pt x="188" y="42"/>
                </a:lnTo>
                <a:lnTo>
                  <a:pt x="186" y="34"/>
                </a:lnTo>
                <a:lnTo>
                  <a:pt x="186" y="26"/>
                </a:lnTo>
                <a:lnTo>
                  <a:pt x="186" y="21"/>
                </a:lnTo>
                <a:lnTo>
                  <a:pt x="190" y="13"/>
                </a:lnTo>
                <a:lnTo>
                  <a:pt x="194" y="9"/>
                </a:lnTo>
                <a:lnTo>
                  <a:pt x="198" y="5"/>
                </a:lnTo>
                <a:lnTo>
                  <a:pt x="204" y="2"/>
                </a:lnTo>
                <a:lnTo>
                  <a:pt x="211" y="0"/>
                </a:lnTo>
                <a:lnTo>
                  <a:pt x="219" y="0"/>
                </a:lnTo>
                <a:lnTo>
                  <a:pt x="228" y="0"/>
                </a:lnTo>
                <a:lnTo>
                  <a:pt x="238" y="2"/>
                </a:lnTo>
                <a:lnTo>
                  <a:pt x="250" y="5"/>
                </a:lnTo>
                <a:lnTo>
                  <a:pt x="263" y="9"/>
                </a:lnTo>
                <a:lnTo>
                  <a:pt x="276" y="13"/>
                </a:lnTo>
                <a:lnTo>
                  <a:pt x="290" y="21"/>
                </a:lnTo>
                <a:lnTo>
                  <a:pt x="305" y="26"/>
                </a:lnTo>
                <a:lnTo>
                  <a:pt x="323" y="36"/>
                </a:lnTo>
                <a:lnTo>
                  <a:pt x="338" y="46"/>
                </a:lnTo>
                <a:lnTo>
                  <a:pt x="355" y="55"/>
                </a:lnTo>
                <a:lnTo>
                  <a:pt x="372" y="67"/>
                </a:lnTo>
                <a:lnTo>
                  <a:pt x="390" y="80"/>
                </a:lnTo>
                <a:lnTo>
                  <a:pt x="401" y="94"/>
                </a:lnTo>
                <a:lnTo>
                  <a:pt x="413" y="105"/>
                </a:lnTo>
                <a:lnTo>
                  <a:pt x="422" y="117"/>
                </a:lnTo>
                <a:lnTo>
                  <a:pt x="432" y="128"/>
                </a:lnTo>
                <a:lnTo>
                  <a:pt x="438" y="138"/>
                </a:lnTo>
                <a:lnTo>
                  <a:pt x="443" y="147"/>
                </a:lnTo>
                <a:lnTo>
                  <a:pt x="445" y="151"/>
                </a:lnTo>
                <a:lnTo>
                  <a:pt x="445" y="155"/>
                </a:lnTo>
                <a:lnTo>
                  <a:pt x="447" y="161"/>
                </a:lnTo>
                <a:lnTo>
                  <a:pt x="447" y="165"/>
                </a:lnTo>
                <a:lnTo>
                  <a:pt x="445" y="172"/>
                </a:lnTo>
                <a:lnTo>
                  <a:pt x="440" y="182"/>
                </a:lnTo>
                <a:lnTo>
                  <a:pt x="434" y="193"/>
                </a:lnTo>
                <a:lnTo>
                  <a:pt x="428" y="205"/>
                </a:lnTo>
                <a:lnTo>
                  <a:pt x="420" y="220"/>
                </a:lnTo>
                <a:lnTo>
                  <a:pt x="409" y="236"/>
                </a:lnTo>
                <a:lnTo>
                  <a:pt x="405" y="245"/>
                </a:lnTo>
                <a:lnTo>
                  <a:pt x="399" y="255"/>
                </a:lnTo>
                <a:lnTo>
                  <a:pt x="394" y="264"/>
                </a:lnTo>
                <a:lnTo>
                  <a:pt x="386" y="276"/>
                </a:lnTo>
                <a:lnTo>
                  <a:pt x="380" y="286"/>
                </a:lnTo>
                <a:lnTo>
                  <a:pt x="372" y="297"/>
                </a:lnTo>
                <a:lnTo>
                  <a:pt x="365" y="309"/>
                </a:lnTo>
                <a:lnTo>
                  <a:pt x="357" y="322"/>
                </a:lnTo>
                <a:lnTo>
                  <a:pt x="349" y="336"/>
                </a:lnTo>
                <a:lnTo>
                  <a:pt x="342" y="349"/>
                </a:lnTo>
                <a:lnTo>
                  <a:pt x="332" y="362"/>
                </a:lnTo>
                <a:lnTo>
                  <a:pt x="323" y="378"/>
                </a:lnTo>
                <a:lnTo>
                  <a:pt x="315" y="391"/>
                </a:lnTo>
                <a:lnTo>
                  <a:pt x="303" y="408"/>
                </a:lnTo>
                <a:lnTo>
                  <a:pt x="294" y="424"/>
                </a:lnTo>
                <a:lnTo>
                  <a:pt x="284" y="441"/>
                </a:lnTo>
                <a:lnTo>
                  <a:pt x="273" y="458"/>
                </a:lnTo>
                <a:lnTo>
                  <a:pt x="263" y="476"/>
                </a:lnTo>
                <a:lnTo>
                  <a:pt x="252" y="493"/>
                </a:lnTo>
                <a:lnTo>
                  <a:pt x="240" y="5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49"/>
          <p:cNvSpPr/>
          <p:nvPr/>
        </p:nvSpPr>
        <p:spPr>
          <a:xfrm>
            <a:off x="5818320" y="2971800"/>
            <a:ext cx="1574640" cy="276120"/>
          </a:xfrm>
          <a:custGeom>
            <a:avLst/>
            <a:gdLst/>
            <a:ahLst/>
            <a:rect l="l" t="t" r="r" b="b"/>
            <a:pathLst>
              <a:path w="2000" h="347">
                <a:moveTo>
                  <a:pt x="152" y="226"/>
                </a:moveTo>
                <a:lnTo>
                  <a:pt x="161" y="226"/>
                </a:lnTo>
                <a:lnTo>
                  <a:pt x="173" y="224"/>
                </a:lnTo>
                <a:lnTo>
                  <a:pt x="185" y="222"/>
                </a:lnTo>
                <a:lnTo>
                  <a:pt x="198" y="220"/>
                </a:lnTo>
                <a:lnTo>
                  <a:pt x="213" y="218"/>
                </a:lnTo>
                <a:lnTo>
                  <a:pt x="229" y="217"/>
                </a:lnTo>
                <a:lnTo>
                  <a:pt x="246" y="215"/>
                </a:lnTo>
                <a:lnTo>
                  <a:pt x="263" y="213"/>
                </a:lnTo>
                <a:lnTo>
                  <a:pt x="282" y="211"/>
                </a:lnTo>
                <a:lnTo>
                  <a:pt x="302" y="209"/>
                </a:lnTo>
                <a:lnTo>
                  <a:pt x="323" y="205"/>
                </a:lnTo>
                <a:lnTo>
                  <a:pt x="346" y="203"/>
                </a:lnTo>
                <a:lnTo>
                  <a:pt x="369" y="199"/>
                </a:lnTo>
                <a:lnTo>
                  <a:pt x="392" y="197"/>
                </a:lnTo>
                <a:lnTo>
                  <a:pt x="419" y="193"/>
                </a:lnTo>
                <a:lnTo>
                  <a:pt x="444" y="190"/>
                </a:lnTo>
                <a:lnTo>
                  <a:pt x="472" y="186"/>
                </a:lnTo>
                <a:lnTo>
                  <a:pt x="499" y="182"/>
                </a:lnTo>
                <a:lnTo>
                  <a:pt x="530" y="178"/>
                </a:lnTo>
                <a:lnTo>
                  <a:pt x="561" y="174"/>
                </a:lnTo>
                <a:lnTo>
                  <a:pt x="591" y="169"/>
                </a:lnTo>
                <a:lnTo>
                  <a:pt x="624" y="165"/>
                </a:lnTo>
                <a:lnTo>
                  <a:pt x="657" y="159"/>
                </a:lnTo>
                <a:lnTo>
                  <a:pt x="691" y="155"/>
                </a:lnTo>
                <a:lnTo>
                  <a:pt x="728" y="149"/>
                </a:lnTo>
                <a:lnTo>
                  <a:pt x="764" y="144"/>
                </a:lnTo>
                <a:lnTo>
                  <a:pt x="803" y="138"/>
                </a:lnTo>
                <a:lnTo>
                  <a:pt x="841" y="132"/>
                </a:lnTo>
                <a:lnTo>
                  <a:pt x="881" y="126"/>
                </a:lnTo>
                <a:lnTo>
                  <a:pt x="922" y="121"/>
                </a:lnTo>
                <a:lnTo>
                  <a:pt x="964" y="113"/>
                </a:lnTo>
                <a:lnTo>
                  <a:pt x="1006" y="107"/>
                </a:lnTo>
                <a:lnTo>
                  <a:pt x="1048" y="99"/>
                </a:lnTo>
                <a:lnTo>
                  <a:pt x="1091" y="94"/>
                </a:lnTo>
                <a:lnTo>
                  <a:pt x="1131" y="88"/>
                </a:lnTo>
                <a:lnTo>
                  <a:pt x="1169" y="80"/>
                </a:lnTo>
                <a:lnTo>
                  <a:pt x="1208" y="74"/>
                </a:lnTo>
                <a:lnTo>
                  <a:pt x="1246" y="69"/>
                </a:lnTo>
                <a:lnTo>
                  <a:pt x="1281" y="65"/>
                </a:lnTo>
                <a:lnTo>
                  <a:pt x="1315" y="59"/>
                </a:lnTo>
                <a:lnTo>
                  <a:pt x="1350" y="53"/>
                </a:lnTo>
                <a:lnTo>
                  <a:pt x="1382" y="50"/>
                </a:lnTo>
                <a:lnTo>
                  <a:pt x="1413" y="44"/>
                </a:lnTo>
                <a:lnTo>
                  <a:pt x="1442" y="40"/>
                </a:lnTo>
                <a:lnTo>
                  <a:pt x="1471" y="36"/>
                </a:lnTo>
                <a:lnTo>
                  <a:pt x="1499" y="32"/>
                </a:lnTo>
                <a:lnTo>
                  <a:pt x="1526" y="28"/>
                </a:lnTo>
                <a:lnTo>
                  <a:pt x="1551" y="25"/>
                </a:lnTo>
                <a:lnTo>
                  <a:pt x="1574" y="23"/>
                </a:lnTo>
                <a:lnTo>
                  <a:pt x="1597" y="19"/>
                </a:lnTo>
                <a:lnTo>
                  <a:pt x="1618" y="17"/>
                </a:lnTo>
                <a:lnTo>
                  <a:pt x="1639" y="13"/>
                </a:lnTo>
                <a:lnTo>
                  <a:pt x="1659" y="11"/>
                </a:lnTo>
                <a:lnTo>
                  <a:pt x="1678" y="9"/>
                </a:lnTo>
                <a:lnTo>
                  <a:pt x="1693" y="7"/>
                </a:lnTo>
                <a:lnTo>
                  <a:pt x="1711" y="5"/>
                </a:lnTo>
                <a:lnTo>
                  <a:pt x="1724" y="3"/>
                </a:lnTo>
                <a:lnTo>
                  <a:pt x="1737" y="2"/>
                </a:lnTo>
                <a:lnTo>
                  <a:pt x="1749" y="2"/>
                </a:lnTo>
                <a:lnTo>
                  <a:pt x="1760" y="0"/>
                </a:lnTo>
                <a:lnTo>
                  <a:pt x="1770" y="0"/>
                </a:lnTo>
                <a:lnTo>
                  <a:pt x="1780" y="0"/>
                </a:lnTo>
                <a:lnTo>
                  <a:pt x="1785" y="0"/>
                </a:lnTo>
                <a:lnTo>
                  <a:pt x="1793" y="0"/>
                </a:lnTo>
                <a:lnTo>
                  <a:pt x="1814" y="0"/>
                </a:lnTo>
                <a:lnTo>
                  <a:pt x="1835" y="2"/>
                </a:lnTo>
                <a:lnTo>
                  <a:pt x="1856" y="3"/>
                </a:lnTo>
                <a:lnTo>
                  <a:pt x="1876" y="9"/>
                </a:lnTo>
                <a:lnTo>
                  <a:pt x="1895" y="15"/>
                </a:lnTo>
                <a:lnTo>
                  <a:pt x="1904" y="19"/>
                </a:lnTo>
                <a:lnTo>
                  <a:pt x="1912" y="25"/>
                </a:lnTo>
                <a:lnTo>
                  <a:pt x="1920" y="28"/>
                </a:lnTo>
                <a:lnTo>
                  <a:pt x="1927" y="34"/>
                </a:lnTo>
                <a:lnTo>
                  <a:pt x="1935" y="40"/>
                </a:lnTo>
                <a:lnTo>
                  <a:pt x="1943" y="48"/>
                </a:lnTo>
                <a:lnTo>
                  <a:pt x="1954" y="61"/>
                </a:lnTo>
                <a:lnTo>
                  <a:pt x="1966" y="73"/>
                </a:lnTo>
                <a:lnTo>
                  <a:pt x="1975" y="86"/>
                </a:lnTo>
                <a:lnTo>
                  <a:pt x="1983" y="98"/>
                </a:lnTo>
                <a:lnTo>
                  <a:pt x="1991" y="109"/>
                </a:lnTo>
                <a:lnTo>
                  <a:pt x="1997" y="117"/>
                </a:lnTo>
                <a:lnTo>
                  <a:pt x="1998" y="122"/>
                </a:lnTo>
                <a:lnTo>
                  <a:pt x="1998" y="124"/>
                </a:lnTo>
                <a:lnTo>
                  <a:pt x="2000" y="128"/>
                </a:lnTo>
                <a:lnTo>
                  <a:pt x="2000" y="130"/>
                </a:lnTo>
                <a:lnTo>
                  <a:pt x="1998" y="132"/>
                </a:lnTo>
                <a:lnTo>
                  <a:pt x="1998" y="134"/>
                </a:lnTo>
                <a:lnTo>
                  <a:pt x="1997" y="136"/>
                </a:lnTo>
                <a:lnTo>
                  <a:pt x="1995" y="136"/>
                </a:lnTo>
                <a:lnTo>
                  <a:pt x="1991" y="138"/>
                </a:lnTo>
                <a:lnTo>
                  <a:pt x="1989" y="138"/>
                </a:lnTo>
                <a:lnTo>
                  <a:pt x="1985" y="140"/>
                </a:lnTo>
                <a:lnTo>
                  <a:pt x="1981" y="140"/>
                </a:lnTo>
                <a:lnTo>
                  <a:pt x="1975" y="142"/>
                </a:lnTo>
                <a:lnTo>
                  <a:pt x="1972" y="142"/>
                </a:lnTo>
                <a:lnTo>
                  <a:pt x="1966" y="144"/>
                </a:lnTo>
                <a:lnTo>
                  <a:pt x="1960" y="144"/>
                </a:lnTo>
                <a:lnTo>
                  <a:pt x="1952" y="145"/>
                </a:lnTo>
                <a:lnTo>
                  <a:pt x="1945" y="145"/>
                </a:lnTo>
                <a:lnTo>
                  <a:pt x="1937" y="147"/>
                </a:lnTo>
                <a:lnTo>
                  <a:pt x="1929" y="147"/>
                </a:lnTo>
                <a:lnTo>
                  <a:pt x="1922" y="149"/>
                </a:lnTo>
                <a:lnTo>
                  <a:pt x="1912" y="149"/>
                </a:lnTo>
                <a:lnTo>
                  <a:pt x="1902" y="149"/>
                </a:lnTo>
                <a:lnTo>
                  <a:pt x="1893" y="151"/>
                </a:lnTo>
                <a:lnTo>
                  <a:pt x="1881" y="151"/>
                </a:lnTo>
                <a:lnTo>
                  <a:pt x="1870" y="151"/>
                </a:lnTo>
                <a:lnTo>
                  <a:pt x="1858" y="153"/>
                </a:lnTo>
                <a:lnTo>
                  <a:pt x="1847" y="153"/>
                </a:lnTo>
                <a:lnTo>
                  <a:pt x="1833" y="153"/>
                </a:lnTo>
                <a:lnTo>
                  <a:pt x="1820" y="153"/>
                </a:lnTo>
                <a:lnTo>
                  <a:pt x="1806" y="153"/>
                </a:lnTo>
                <a:lnTo>
                  <a:pt x="1793" y="155"/>
                </a:lnTo>
                <a:lnTo>
                  <a:pt x="1778" y="155"/>
                </a:lnTo>
                <a:lnTo>
                  <a:pt x="1762" y="155"/>
                </a:lnTo>
                <a:lnTo>
                  <a:pt x="1747" y="155"/>
                </a:lnTo>
                <a:lnTo>
                  <a:pt x="1680" y="155"/>
                </a:lnTo>
                <a:lnTo>
                  <a:pt x="1615" y="157"/>
                </a:lnTo>
                <a:lnTo>
                  <a:pt x="1547" y="159"/>
                </a:lnTo>
                <a:lnTo>
                  <a:pt x="1478" y="163"/>
                </a:lnTo>
                <a:lnTo>
                  <a:pt x="1409" y="169"/>
                </a:lnTo>
                <a:lnTo>
                  <a:pt x="1342" y="174"/>
                </a:lnTo>
                <a:lnTo>
                  <a:pt x="1273" y="182"/>
                </a:lnTo>
                <a:lnTo>
                  <a:pt x="1204" y="192"/>
                </a:lnTo>
                <a:lnTo>
                  <a:pt x="1169" y="195"/>
                </a:lnTo>
                <a:lnTo>
                  <a:pt x="1135" y="199"/>
                </a:lnTo>
                <a:lnTo>
                  <a:pt x="1102" y="205"/>
                </a:lnTo>
                <a:lnTo>
                  <a:pt x="1067" y="209"/>
                </a:lnTo>
                <a:lnTo>
                  <a:pt x="1037" y="213"/>
                </a:lnTo>
                <a:lnTo>
                  <a:pt x="1004" y="218"/>
                </a:lnTo>
                <a:lnTo>
                  <a:pt x="973" y="222"/>
                </a:lnTo>
                <a:lnTo>
                  <a:pt x="943" y="226"/>
                </a:lnTo>
                <a:lnTo>
                  <a:pt x="912" y="232"/>
                </a:lnTo>
                <a:lnTo>
                  <a:pt x="883" y="236"/>
                </a:lnTo>
                <a:lnTo>
                  <a:pt x="854" y="240"/>
                </a:lnTo>
                <a:lnTo>
                  <a:pt x="826" y="245"/>
                </a:lnTo>
                <a:lnTo>
                  <a:pt x="797" y="249"/>
                </a:lnTo>
                <a:lnTo>
                  <a:pt x="770" y="253"/>
                </a:lnTo>
                <a:lnTo>
                  <a:pt x="743" y="259"/>
                </a:lnTo>
                <a:lnTo>
                  <a:pt x="718" y="263"/>
                </a:lnTo>
                <a:lnTo>
                  <a:pt x="689" y="266"/>
                </a:lnTo>
                <a:lnTo>
                  <a:pt x="662" y="272"/>
                </a:lnTo>
                <a:lnTo>
                  <a:pt x="636" y="276"/>
                </a:lnTo>
                <a:lnTo>
                  <a:pt x="609" y="280"/>
                </a:lnTo>
                <a:lnTo>
                  <a:pt x="584" y="286"/>
                </a:lnTo>
                <a:lnTo>
                  <a:pt x="559" y="289"/>
                </a:lnTo>
                <a:lnTo>
                  <a:pt x="534" y="293"/>
                </a:lnTo>
                <a:lnTo>
                  <a:pt x="509" y="297"/>
                </a:lnTo>
                <a:lnTo>
                  <a:pt x="486" y="301"/>
                </a:lnTo>
                <a:lnTo>
                  <a:pt x="463" y="305"/>
                </a:lnTo>
                <a:lnTo>
                  <a:pt x="440" y="309"/>
                </a:lnTo>
                <a:lnTo>
                  <a:pt x="419" y="311"/>
                </a:lnTo>
                <a:lnTo>
                  <a:pt x="398" y="314"/>
                </a:lnTo>
                <a:lnTo>
                  <a:pt x="376" y="318"/>
                </a:lnTo>
                <a:lnTo>
                  <a:pt x="355" y="320"/>
                </a:lnTo>
                <a:lnTo>
                  <a:pt x="336" y="322"/>
                </a:lnTo>
                <a:lnTo>
                  <a:pt x="317" y="324"/>
                </a:lnTo>
                <a:lnTo>
                  <a:pt x="298" y="328"/>
                </a:lnTo>
                <a:lnTo>
                  <a:pt x="281" y="330"/>
                </a:lnTo>
                <a:lnTo>
                  <a:pt x="265" y="332"/>
                </a:lnTo>
                <a:lnTo>
                  <a:pt x="250" y="334"/>
                </a:lnTo>
                <a:lnTo>
                  <a:pt x="234" y="336"/>
                </a:lnTo>
                <a:lnTo>
                  <a:pt x="221" y="337"/>
                </a:lnTo>
                <a:lnTo>
                  <a:pt x="209" y="339"/>
                </a:lnTo>
                <a:lnTo>
                  <a:pt x="198" y="341"/>
                </a:lnTo>
                <a:lnTo>
                  <a:pt x="186" y="341"/>
                </a:lnTo>
                <a:lnTo>
                  <a:pt x="179" y="343"/>
                </a:lnTo>
                <a:lnTo>
                  <a:pt x="169" y="345"/>
                </a:lnTo>
                <a:lnTo>
                  <a:pt x="163" y="345"/>
                </a:lnTo>
                <a:lnTo>
                  <a:pt x="158" y="345"/>
                </a:lnTo>
                <a:lnTo>
                  <a:pt x="154" y="347"/>
                </a:lnTo>
                <a:lnTo>
                  <a:pt x="152" y="347"/>
                </a:lnTo>
                <a:lnTo>
                  <a:pt x="148" y="347"/>
                </a:lnTo>
                <a:lnTo>
                  <a:pt x="146" y="345"/>
                </a:lnTo>
                <a:lnTo>
                  <a:pt x="142" y="345"/>
                </a:lnTo>
                <a:lnTo>
                  <a:pt x="138" y="345"/>
                </a:lnTo>
                <a:lnTo>
                  <a:pt x="129" y="341"/>
                </a:lnTo>
                <a:lnTo>
                  <a:pt x="119" y="336"/>
                </a:lnTo>
                <a:lnTo>
                  <a:pt x="108" y="330"/>
                </a:lnTo>
                <a:lnTo>
                  <a:pt x="102" y="326"/>
                </a:lnTo>
                <a:lnTo>
                  <a:pt x="96" y="322"/>
                </a:lnTo>
                <a:lnTo>
                  <a:pt x="89" y="316"/>
                </a:lnTo>
                <a:lnTo>
                  <a:pt x="83" y="311"/>
                </a:lnTo>
                <a:lnTo>
                  <a:pt x="77" y="305"/>
                </a:lnTo>
                <a:lnTo>
                  <a:pt x="69" y="299"/>
                </a:lnTo>
                <a:lnTo>
                  <a:pt x="62" y="291"/>
                </a:lnTo>
                <a:lnTo>
                  <a:pt x="54" y="286"/>
                </a:lnTo>
                <a:lnTo>
                  <a:pt x="46" y="280"/>
                </a:lnTo>
                <a:lnTo>
                  <a:pt x="41" y="276"/>
                </a:lnTo>
                <a:lnTo>
                  <a:pt x="33" y="270"/>
                </a:lnTo>
                <a:lnTo>
                  <a:pt x="27" y="266"/>
                </a:lnTo>
                <a:lnTo>
                  <a:pt x="23" y="263"/>
                </a:lnTo>
                <a:lnTo>
                  <a:pt x="18" y="259"/>
                </a:lnTo>
                <a:lnTo>
                  <a:pt x="14" y="257"/>
                </a:lnTo>
                <a:lnTo>
                  <a:pt x="10" y="253"/>
                </a:lnTo>
                <a:lnTo>
                  <a:pt x="8" y="251"/>
                </a:lnTo>
                <a:lnTo>
                  <a:pt x="6" y="247"/>
                </a:lnTo>
                <a:lnTo>
                  <a:pt x="4" y="245"/>
                </a:lnTo>
                <a:lnTo>
                  <a:pt x="2" y="243"/>
                </a:lnTo>
                <a:lnTo>
                  <a:pt x="0" y="241"/>
                </a:lnTo>
                <a:lnTo>
                  <a:pt x="0" y="240"/>
                </a:lnTo>
                <a:lnTo>
                  <a:pt x="2" y="236"/>
                </a:lnTo>
                <a:lnTo>
                  <a:pt x="2" y="234"/>
                </a:lnTo>
                <a:lnTo>
                  <a:pt x="6" y="234"/>
                </a:lnTo>
                <a:lnTo>
                  <a:pt x="10" y="232"/>
                </a:lnTo>
                <a:lnTo>
                  <a:pt x="14" y="230"/>
                </a:lnTo>
                <a:lnTo>
                  <a:pt x="21" y="230"/>
                </a:lnTo>
                <a:lnTo>
                  <a:pt x="29" y="228"/>
                </a:lnTo>
                <a:lnTo>
                  <a:pt x="37" y="228"/>
                </a:lnTo>
                <a:lnTo>
                  <a:pt x="46" y="228"/>
                </a:lnTo>
                <a:lnTo>
                  <a:pt x="58" y="228"/>
                </a:lnTo>
                <a:lnTo>
                  <a:pt x="69" y="226"/>
                </a:lnTo>
                <a:lnTo>
                  <a:pt x="83" y="226"/>
                </a:lnTo>
                <a:lnTo>
                  <a:pt x="98" y="226"/>
                </a:lnTo>
                <a:lnTo>
                  <a:pt x="115" y="226"/>
                </a:lnTo>
                <a:lnTo>
                  <a:pt x="133" y="226"/>
                </a:lnTo>
                <a:lnTo>
                  <a:pt x="152" y="2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止”的最后一笔稍长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91"/>
          <p:cNvSpPr/>
          <p:nvPr/>
        </p:nvSpPr>
        <p:spPr>
          <a:xfrm>
            <a:off x="7021440" y="3614760"/>
            <a:ext cx="528840" cy="217440"/>
          </a:xfrm>
          <a:custGeom>
            <a:avLst/>
            <a:gdLst/>
            <a:ahLst/>
            <a:rect l="l" t="t" r="r" b="b"/>
            <a:pathLst>
              <a:path w="666" h="275">
                <a:moveTo>
                  <a:pt x="0" y="123"/>
                </a:moveTo>
                <a:lnTo>
                  <a:pt x="42" y="121"/>
                </a:lnTo>
                <a:lnTo>
                  <a:pt x="83" y="119"/>
                </a:lnTo>
                <a:lnTo>
                  <a:pt x="102" y="117"/>
                </a:lnTo>
                <a:lnTo>
                  <a:pt x="123" y="115"/>
                </a:lnTo>
                <a:lnTo>
                  <a:pt x="142" y="113"/>
                </a:lnTo>
                <a:lnTo>
                  <a:pt x="161" y="110"/>
                </a:lnTo>
                <a:lnTo>
                  <a:pt x="181" y="106"/>
                </a:lnTo>
                <a:lnTo>
                  <a:pt x="200" y="102"/>
                </a:lnTo>
                <a:lnTo>
                  <a:pt x="219" y="96"/>
                </a:lnTo>
                <a:lnTo>
                  <a:pt x="238" y="90"/>
                </a:lnTo>
                <a:lnTo>
                  <a:pt x="257" y="85"/>
                </a:lnTo>
                <a:lnTo>
                  <a:pt x="276" y="77"/>
                </a:lnTo>
                <a:lnTo>
                  <a:pt x="296" y="69"/>
                </a:lnTo>
                <a:lnTo>
                  <a:pt x="315" y="62"/>
                </a:lnTo>
                <a:lnTo>
                  <a:pt x="332" y="52"/>
                </a:lnTo>
                <a:lnTo>
                  <a:pt x="351" y="44"/>
                </a:lnTo>
                <a:lnTo>
                  <a:pt x="369" y="39"/>
                </a:lnTo>
                <a:lnTo>
                  <a:pt x="384" y="33"/>
                </a:lnTo>
                <a:lnTo>
                  <a:pt x="401" y="27"/>
                </a:lnTo>
                <a:lnTo>
                  <a:pt x="417" y="21"/>
                </a:lnTo>
                <a:lnTo>
                  <a:pt x="430" y="17"/>
                </a:lnTo>
                <a:lnTo>
                  <a:pt x="443" y="14"/>
                </a:lnTo>
                <a:lnTo>
                  <a:pt x="457" y="10"/>
                </a:lnTo>
                <a:lnTo>
                  <a:pt x="470" y="8"/>
                </a:lnTo>
                <a:lnTo>
                  <a:pt x="482" y="6"/>
                </a:lnTo>
                <a:lnTo>
                  <a:pt x="493" y="4"/>
                </a:lnTo>
                <a:lnTo>
                  <a:pt x="503" y="2"/>
                </a:lnTo>
                <a:lnTo>
                  <a:pt x="513" y="0"/>
                </a:lnTo>
                <a:lnTo>
                  <a:pt x="520" y="0"/>
                </a:lnTo>
                <a:lnTo>
                  <a:pt x="528" y="0"/>
                </a:lnTo>
                <a:lnTo>
                  <a:pt x="541" y="0"/>
                </a:lnTo>
                <a:lnTo>
                  <a:pt x="555" y="2"/>
                </a:lnTo>
                <a:lnTo>
                  <a:pt x="566" y="6"/>
                </a:lnTo>
                <a:lnTo>
                  <a:pt x="578" y="12"/>
                </a:lnTo>
                <a:lnTo>
                  <a:pt x="589" y="17"/>
                </a:lnTo>
                <a:lnTo>
                  <a:pt x="603" y="25"/>
                </a:lnTo>
                <a:lnTo>
                  <a:pt x="614" y="35"/>
                </a:lnTo>
                <a:lnTo>
                  <a:pt x="628" y="46"/>
                </a:lnTo>
                <a:lnTo>
                  <a:pt x="632" y="54"/>
                </a:lnTo>
                <a:lnTo>
                  <a:pt x="637" y="62"/>
                </a:lnTo>
                <a:lnTo>
                  <a:pt x="641" y="69"/>
                </a:lnTo>
                <a:lnTo>
                  <a:pt x="645" y="75"/>
                </a:lnTo>
                <a:lnTo>
                  <a:pt x="647" y="81"/>
                </a:lnTo>
                <a:lnTo>
                  <a:pt x="651" y="87"/>
                </a:lnTo>
                <a:lnTo>
                  <a:pt x="657" y="96"/>
                </a:lnTo>
                <a:lnTo>
                  <a:pt x="660" y="104"/>
                </a:lnTo>
                <a:lnTo>
                  <a:pt x="664" y="112"/>
                </a:lnTo>
                <a:lnTo>
                  <a:pt x="664" y="117"/>
                </a:lnTo>
                <a:lnTo>
                  <a:pt x="666" y="123"/>
                </a:lnTo>
                <a:lnTo>
                  <a:pt x="666" y="125"/>
                </a:lnTo>
                <a:lnTo>
                  <a:pt x="664" y="129"/>
                </a:lnTo>
                <a:lnTo>
                  <a:pt x="662" y="133"/>
                </a:lnTo>
                <a:lnTo>
                  <a:pt x="660" y="136"/>
                </a:lnTo>
                <a:lnTo>
                  <a:pt x="658" y="140"/>
                </a:lnTo>
                <a:lnTo>
                  <a:pt x="657" y="146"/>
                </a:lnTo>
                <a:lnTo>
                  <a:pt x="649" y="156"/>
                </a:lnTo>
                <a:lnTo>
                  <a:pt x="639" y="165"/>
                </a:lnTo>
                <a:lnTo>
                  <a:pt x="628" y="177"/>
                </a:lnTo>
                <a:lnTo>
                  <a:pt x="616" y="186"/>
                </a:lnTo>
                <a:lnTo>
                  <a:pt x="603" y="200"/>
                </a:lnTo>
                <a:lnTo>
                  <a:pt x="599" y="202"/>
                </a:lnTo>
                <a:lnTo>
                  <a:pt x="593" y="206"/>
                </a:lnTo>
                <a:lnTo>
                  <a:pt x="587" y="208"/>
                </a:lnTo>
                <a:lnTo>
                  <a:pt x="582" y="209"/>
                </a:lnTo>
                <a:lnTo>
                  <a:pt x="574" y="213"/>
                </a:lnTo>
                <a:lnTo>
                  <a:pt x="564" y="215"/>
                </a:lnTo>
                <a:lnTo>
                  <a:pt x="555" y="219"/>
                </a:lnTo>
                <a:lnTo>
                  <a:pt x="543" y="221"/>
                </a:lnTo>
                <a:lnTo>
                  <a:pt x="532" y="225"/>
                </a:lnTo>
                <a:lnTo>
                  <a:pt x="520" y="227"/>
                </a:lnTo>
                <a:lnTo>
                  <a:pt x="507" y="231"/>
                </a:lnTo>
                <a:lnTo>
                  <a:pt x="491" y="232"/>
                </a:lnTo>
                <a:lnTo>
                  <a:pt x="476" y="234"/>
                </a:lnTo>
                <a:lnTo>
                  <a:pt x="459" y="238"/>
                </a:lnTo>
                <a:lnTo>
                  <a:pt x="442" y="240"/>
                </a:lnTo>
                <a:lnTo>
                  <a:pt x="424" y="242"/>
                </a:lnTo>
                <a:lnTo>
                  <a:pt x="405" y="246"/>
                </a:lnTo>
                <a:lnTo>
                  <a:pt x="384" y="248"/>
                </a:lnTo>
                <a:lnTo>
                  <a:pt x="363" y="250"/>
                </a:lnTo>
                <a:lnTo>
                  <a:pt x="342" y="252"/>
                </a:lnTo>
                <a:lnTo>
                  <a:pt x="319" y="255"/>
                </a:lnTo>
                <a:lnTo>
                  <a:pt x="294" y="257"/>
                </a:lnTo>
                <a:lnTo>
                  <a:pt x="269" y="259"/>
                </a:lnTo>
                <a:lnTo>
                  <a:pt x="242" y="261"/>
                </a:lnTo>
                <a:lnTo>
                  <a:pt x="215" y="263"/>
                </a:lnTo>
                <a:lnTo>
                  <a:pt x="188" y="265"/>
                </a:lnTo>
                <a:lnTo>
                  <a:pt x="159" y="267"/>
                </a:lnTo>
                <a:lnTo>
                  <a:pt x="129" y="269"/>
                </a:lnTo>
                <a:lnTo>
                  <a:pt x="98" y="271"/>
                </a:lnTo>
                <a:lnTo>
                  <a:pt x="67" y="273"/>
                </a:lnTo>
                <a:lnTo>
                  <a:pt x="35" y="273"/>
                </a:lnTo>
                <a:lnTo>
                  <a:pt x="0" y="275"/>
                </a:lnTo>
                <a:lnTo>
                  <a:pt x="0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92"/>
          <p:cNvSpPr/>
          <p:nvPr/>
        </p:nvSpPr>
        <p:spPr>
          <a:xfrm>
            <a:off x="6858000" y="2724120"/>
            <a:ext cx="260280" cy="2055960"/>
          </a:xfrm>
          <a:custGeom>
            <a:avLst/>
            <a:gdLst/>
            <a:ahLst/>
            <a:rect l="l" t="t" r="r" b="b"/>
            <a:pathLst>
              <a:path w="328" h="2592">
                <a:moveTo>
                  <a:pt x="318" y="160"/>
                </a:moveTo>
                <a:lnTo>
                  <a:pt x="322" y="171"/>
                </a:lnTo>
                <a:lnTo>
                  <a:pt x="324" y="183"/>
                </a:lnTo>
                <a:lnTo>
                  <a:pt x="326" y="196"/>
                </a:lnTo>
                <a:lnTo>
                  <a:pt x="328" y="208"/>
                </a:lnTo>
                <a:lnTo>
                  <a:pt x="326" y="221"/>
                </a:lnTo>
                <a:lnTo>
                  <a:pt x="324" y="235"/>
                </a:lnTo>
                <a:lnTo>
                  <a:pt x="322" y="250"/>
                </a:lnTo>
                <a:lnTo>
                  <a:pt x="318" y="267"/>
                </a:lnTo>
                <a:lnTo>
                  <a:pt x="316" y="271"/>
                </a:lnTo>
                <a:lnTo>
                  <a:pt x="316" y="277"/>
                </a:lnTo>
                <a:lnTo>
                  <a:pt x="315" y="283"/>
                </a:lnTo>
                <a:lnTo>
                  <a:pt x="313" y="290"/>
                </a:lnTo>
                <a:lnTo>
                  <a:pt x="313" y="296"/>
                </a:lnTo>
                <a:lnTo>
                  <a:pt x="311" y="304"/>
                </a:lnTo>
                <a:lnTo>
                  <a:pt x="309" y="313"/>
                </a:lnTo>
                <a:lnTo>
                  <a:pt x="309" y="323"/>
                </a:lnTo>
                <a:lnTo>
                  <a:pt x="307" y="332"/>
                </a:lnTo>
                <a:lnTo>
                  <a:pt x="307" y="342"/>
                </a:lnTo>
                <a:lnTo>
                  <a:pt x="305" y="354"/>
                </a:lnTo>
                <a:lnTo>
                  <a:pt x="303" y="365"/>
                </a:lnTo>
                <a:lnTo>
                  <a:pt x="303" y="378"/>
                </a:lnTo>
                <a:lnTo>
                  <a:pt x="301" y="392"/>
                </a:lnTo>
                <a:lnTo>
                  <a:pt x="301" y="405"/>
                </a:lnTo>
                <a:lnTo>
                  <a:pt x="299" y="421"/>
                </a:lnTo>
                <a:lnTo>
                  <a:pt x="297" y="436"/>
                </a:lnTo>
                <a:lnTo>
                  <a:pt x="297" y="451"/>
                </a:lnTo>
                <a:lnTo>
                  <a:pt x="295" y="469"/>
                </a:lnTo>
                <a:lnTo>
                  <a:pt x="293" y="486"/>
                </a:lnTo>
                <a:lnTo>
                  <a:pt x="293" y="505"/>
                </a:lnTo>
                <a:lnTo>
                  <a:pt x="291" y="522"/>
                </a:lnTo>
                <a:lnTo>
                  <a:pt x="291" y="544"/>
                </a:lnTo>
                <a:lnTo>
                  <a:pt x="290" y="565"/>
                </a:lnTo>
                <a:lnTo>
                  <a:pt x="288" y="586"/>
                </a:lnTo>
                <a:lnTo>
                  <a:pt x="288" y="607"/>
                </a:lnTo>
                <a:lnTo>
                  <a:pt x="286" y="630"/>
                </a:lnTo>
                <a:lnTo>
                  <a:pt x="286" y="653"/>
                </a:lnTo>
                <a:lnTo>
                  <a:pt x="284" y="678"/>
                </a:lnTo>
                <a:lnTo>
                  <a:pt x="282" y="703"/>
                </a:lnTo>
                <a:lnTo>
                  <a:pt x="282" y="730"/>
                </a:lnTo>
                <a:lnTo>
                  <a:pt x="280" y="757"/>
                </a:lnTo>
                <a:lnTo>
                  <a:pt x="280" y="783"/>
                </a:lnTo>
                <a:lnTo>
                  <a:pt x="278" y="814"/>
                </a:lnTo>
                <a:lnTo>
                  <a:pt x="278" y="847"/>
                </a:lnTo>
                <a:lnTo>
                  <a:pt x="276" y="879"/>
                </a:lnTo>
                <a:lnTo>
                  <a:pt x="276" y="916"/>
                </a:lnTo>
                <a:lnTo>
                  <a:pt x="274" y="954"/>
                </a:lnTo>
                <a:lnTo>
                  <a:pt x="274" y="993"/>
                </a:lnTo>
                <a:lnTo>
                  <a:pt x="272" y="1035"/>
                </a:lnTo>
                <a:lnTo>
                  <a:pt x="272" y="1077"/>
                </a:lnTo>
                <a:lnTo>
                  <a:pt x="272" y="1123"/>
                </a:lnTo>
                <a:lnTo>
                  <a:pt x="272" y="1169"/>
                </a:lnTo>
                <a:lnTo>
                  <a:pt x="270" y="1219"/>
                </a:lnTo>
                <a:lnTo>
                  <a:pt x="270" y="1269"/>
                </a:lnTo>
                <a:lnTo>
                  <a:pt x="270" y="1323"/>
                </a:lnTo>
                <a:lnTo>
                  <a:pt x="270" y="1377"/>
                </a:lnTo>
                <a:lnTo>
                  <a:pt x="268" y="1432"/>
                </a:lnTo>
                <a:lnTo>
                  <a:pt x="268" y="1492"/>
                </a:lnTo>
                <a:lnTo>
                  <a:pt x="268" y="1551"/>
                </a:lnTo>
                <a:lnTo>
                  <a:pt x="268" y="1613"/>
                </a:lnTo>
                <a:lnTo>
                  <a:pt x="268" y="1678"/>
                </a:lnTo>
                <a:lnTo>
                  <a:pt x="268" y="1743"/>
                </a:lnTo>
                <a:lnTo>
                  <a:pt x="268" y="1810"/>
                </a:lnTo>
                <a:lnTo>
                  <a:pt x="268" y="1879"/>
                </a:lnTo>
                <a:lnTo>
                  <a:pt x="268" y="1952"/>
                </a:lnTo>
                <a:lnTo>
                  <a:pt x="268" y="2025"/>
                </a:lnTo>
                <a:lnTo>
                  <a:pt x="268" y="2100"/>
                </a:lnTo>
                <a:lnTo>
                  <a:pt x="268" y="2177"/>
                </a:lnTo>
                <a:lnTo>
                  <a:pt x="268" y="2256"/>
                </a:lnTo>
                <a:lnTo>
                  <a:pt x="268" y="2336"/>
                </a:lnTo>
                <a:lnTo>
                  <a:pt x="268" y="2419"/>
                </a:lnTo>
                <a:lnTo>
                  <a:pt x="268" y="2503"/>
                </a:lnTo>
                <a:lnTo>
                  <a:pt x="268" y="2592"/>
                </a:lnTo>
                <a:lnTo>
                  <a:pt x="186" y="2592"/>
                </a:lnTo>
                <a:lnTo>
                  <a:pt x="105" y="2592"/>
                </a:lnTo>
                <a:lnTo>
                  <a:pt x="109" y="2413"/>
                </a:lnTo>
                <a:lnTo>
                  <a:pt x="113" y="2238"/>
                </a:lnTo>
                <a:lnTo>
                  <a:pt x="121" y="1887"/>
                </a:lnTo>
                <a:lnTo>
                  <a:pt x="123" y="1712"/>
                </a:lnTo>
                <a:lnTo>
                  <a:pt x="123" y="1538"/>
                </a:lnTo>
                <a:lnTo>
                  <a:pt x="121" y="1361"/>
                </a:lnTo>
                <a:lnTo>
                  <a:pt x="117" y="1185"/>
                </a:lnTo>
                <a:lnTo>
                  <a:pt x="115" y="1142"/>
                </a:lnTo>
                <a:lnTo>
                  <a:pt x="115" y="1100"/>
                </a:lnTo>
                <a:lnTo>
                  <a:pt x="113" y="1060"/>
                </a:lnTo>
                <a:lnTo>
                  <a:pt x="113" y="1020"/>
                </a:lnTo>
                <a:lnTo>
                  <a:pt x="111" y="981"/>
                </a:lnTo>
                <a:lnTo>
                  <a:pt x="111" y="945"/>
                </a:lnTo>
                <a:lnTo>
                  <a:pt x="111" y="908"/>
                </a:lnTo>
                <a:lnTo>
                  <a:pt x="109" y="872"/>
                </a:lnTo>
                <a:lnTo>
                  <a:pt x="109" y="837"/>
                </a:lnTo>
                <a:lnTo>
                  <a:pt x="109" y="805"/>
                </a:lnTo>
                <a:lnTo>
                  <a:pt x="107" y="772"/>
                </a:lnTo>
                <a:lnTo>
                  <a:pt x="107" y="739"/>
                </a:lnTo>
                <a:lnTo>
                  <a:pt x="107" y="709"/>
                </a:lnTo>
                <a:lnTo>
                  <a:pt x="105" y="680"/>
                </a:lnTo>
                <a:lnTo>
                  <a:pt x="105" y="651"/>
                </a:lnTo>
                <a:lnTo>
                  <a:pt x="105" y="624"/>
                </a:lnTo>
                <a:lnTo>
                  <a:pt x="103" y="597"/>
                </a:lnTo>
                <a:lnTo>
                  <a:pt x="103" y="572"/>
                </a:lnTo>
                <a:lnTo>
                  <a:pt x="103" y="547"/>
                </a:lnTo>
                <a:lnTo>
                  <a:pt x="101" y="524"/>
                </a:lnTo>
                <a:lnTo>
                  <a:pt x="101" y="503"/>
                </a:lnTo>
                <a:lnTo>
                  <a:pt x="101" y="482"/>
                </a:lnTo>
                <a:lnTo>
                  <a:pt x="100" y="461"/>
                </a:lnTo>
                <a:lnTo>
                  <a:pt x="100" y="442"/>
                </a:lnTo>
                <a:lnTo>
                  <a:pt x="100" y="425"/>
                </a:lnTo>
                <a:lnTo>
                  <a:pt x="98" y="407"/>
                </a:lnTo>
                <a:lnTo>
                  <a:pt x="98" y="392"/>
                </a:lnTo>
                <a:lnTo>
                  <a:pt x="96" y="377"/>
                </a:lnTo>
                <a:lnTo>
                  <a:pt x="96" y="363"/>
                </a:lnTo>
                <a:lnTo>
                  <a:pt x="94" y="350"/>
                </a:lnTo>
                <a:lnTo>
                  <a:pt x="94" y="338"/>
                </a:lnTo>
                <a:lnTo>
                  <a:pt x="92" y="329"/>
                </a:lnTo>
                <a:lnTo>
                  <a:pt x="90" y="309"/>
                </a:lnTo>
                <a:lnTo>
                  <a:pt x="86" y="290"/>
                </a:lnTo>
                <a:lnTo>
                  <a:pt x="84" y="271"/>
                </a:lnTo>
                <a:lnTo>
                  <a:pt x="80" y="254"/>
                </a:lnTo>
                <a:lnTo>
                  <a:pt x="76" y="236"/>
                </a:lnTo>
                <a:lnTo>
                  <a:pt x="73" y="221"/>
                </a:lnTo>
                <a:lnTo>
                  <a:pt x="69" y="208"/>
                </a:lnTo>
                <a:lnTo>
                  <a:pt x="65" y="192"/>
                </a:lnTo>
                <a:lnTo>
                  <a:pt x="61" y="179"/>
                </a:lnTo>
                <a:lnTo>
                  <a:pt x="57" y="167"/>
                </a:lnTo>
                <a:lnTo>
                  <a:pt x="52" y="156"/>
                </a:lnTo>
                <a:lnTo>
                  <a:pt x="48" y="146"/>
                </a:lnTo>
                <a:lnTo>
                  <a:pt x="44" y="137"/>
                </a:lnTo>
                <a:lnTo>
                  <a:pt x="38" y="127"/>
                </a:lnTo>
                <a:lnTo>
                  <a:pt x="34" y="121"/>
                </a:lnTo>
                <a:lnTo>
                  <a:pt x="29" y="114"/>
                </a:lnTo>
                <a:lnTo>
                  <a:pt x="21" y="108"/>
                </a:lnTo>
                <a:lnTo>
                  <a:pt x="13" y="100"/>
                </a:lnTo>
                <a:lnTo>
                  <a:pt x="7" y="91"/>
                </a:lnTo>
                <a:lnTo>
                  <a:pt x="2" y="79"/>
                </a:lnTo>
                <a:lnTo>
                  <a:pt x="0" y="68"/>
                </a:lnTo>
                <a:lnTo>
                  <a:pt x="0" y="62"/>
                </a:lnTo>
                <a:lnTo>
                  <a:pt x="0" y="54"/>
                </a:lnTo>
                <a:lnTo>
                  <a:pt x="0" y="46"/>
                </a:lnTo>
                <a:lnTo>
                  <a:pt x="0" y="39"/>
                </a:lnTo>
                <a:lnTo>
                  <a:pt x="2" y="31"/>
                </a:lnTo>
                <a:lnTo>
                  <a:pt x="4" y="23"/>
                </a:lnTo>
                <a:lnTo>
                  <a:pt x="5" y="18"/>
                </a:lnTo>
                <a:lnTo>
                  <a:pt x="7" y="12"/>
                </a:lnTo>
                <a:lnTo>
                  <a:pt x="9" y="8"/>
                </a:lnTo>
                <a:lnTo>
                  <a:pt x="13" y="6"/>
                </a:lnTo>
                <a:lnTo>
                  <a:pt x="19" y="2"/>
                </a:lnTo>
                <a:lnTo>
                  <a:pt x="25" y="2"/>
                </a:lnTo>
                <a:lnTo>
                  <a:pt x="32" y="0"/>
                </a:lnTo>
                <a:lnTo>
                  <a:pt x="42" y="0"/>
                </a:lnTo>
                <a:lnTo>
                  <a:pt x="52" y="2"/>
                </a:lnTo>
                <a:lnTo>
                  <a:pt x="63" y="4"/>
                </a:lnTo>
                <a:lnTo>
                  <a:pt x="75" y="8"/>
                </a:lnTo>
                <a:lnTo>
                  <a:pt x="88" y="12"/>
                </a:lnTo>
                <a:lnTo>
                  <a:pt x="103" y="16"/>
                </a:lnTo>
                <a:lnTo>
                  <a:pt x="119" y="23"/>
                </a:lnTo>
                <a:lnTo>
                  <a:pt x="136" y="29"/>
                </a:lnTo>
                <a:lnTo>
                  <a:pt x="155" y="39"/>
                </a:lnTo>
                <a:lnTo>
                  <a:pt x="172" y="46"/>
                </a:lnTo>
                <a:lnTo>
                  <a:pt x="190" y="54"/>
                </a:lnTo>
                <a:lnTo>
                  <a:pt x="205" y="62"/>
                </a:lnTo>
                <a:lnTo>
                  <a:pt x="220" y="69"/>
                </a:lnTo>
                <a:lnTo>
                  <a:pt x="234" y="77"/>
                </a:lnTo>
                <a:lnTo>
                  <a:pt x="247" y="85"/>
                </a:lnTo>
                <a:lnTo>
                  <a:pt x="259" y="92"/>
                </a:lnTo>
                <a:lnTo>
                  <a:pt x="268" y="98"/>
                </a:lnTo>
                <a:lnTo>
                  <a:pt x="278" y="106"/>
                </a:lnTo>
                <a:lnTo>
                  <a:pt x="288" y="114"/>
                </a:lnTo>
                <a:lnTo>
                  <a:pt x="295" y="121"/>
                </a:lnTo>
                <a:lnTo>
                  <a:pt x="301" y="129"/>
                </a:lnTo>
                <a:lnTo>
                  <a:pt x="307" y="137"/>
                </a:lnTo>
                <a:lnTo>
                  <a:pt x="311" y="144"/>
                </a:lnTo>
                <a:lnTo>
                  <a:pt x="315" y="152"/>
                </a:lnTo>
                <a:lnTo>
                  <a:pt x="318" y="1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93"/>
          <p:cNvSpPr/>
          <p:nvPr/>
        </p:nvSpPr>
        <p:spPr>
          <a:xfrm>
            <a:off x="6099120" y="4659480"/>
            <a:ext cx="1673280" cy="330120"/>
          </a:xfrm>
          <a:custGeom>
            <a:avLst/>
            <a:gdLst/>
            <a:ahLst/>
            <a:rect l="l" t="t" r="r" b="b"/>
            <a:pathLst>
              <a:path w="2107" h="417">
                <a:moveTo>
                  <a:pt x="2090" y="184"/>
                </a:moveTo>
                <a:lnTo>
                  <a:pt x="2096" y="188"/>
                </a:lnTo>
                <a:lnTo>
                  <a:pt x="2098" y="194"/>
                </a:lnTo>
                <a:lnTo>
                  <a:pt x="2102" y="200"/>
                </a:lnTo>
                <a:lnTo>
                  <a:pt x="2104" y="203"/>
                </a:lnTo>
                <a:lnTo>
                  <a:pt x="2105" y="207"/>
                </a:lnTo>
                <a:lnTo>
                  <a:pt x="2107" y="211"/>
                </a:lnTo>
                <a:lnTo>
                  <a:pt x="2107" y="215"/>
                </a:lnTo>
                <a:lnTo>
                  <a:pt x="2107" y="219"/>
                </a:lnTo>
                <a:lnTo>
                  <a:pt x="2107" y="223"/>
                </a:lnTo>
                <a:lnTo>
                  <a:pt x="2105" y="227"/>
                </a:lnTo>
                <a:lnTo>
                  <a:pt x="2102" y="230"/>
                </a:lnTo>
                <a:lnTo>
                  <a:pt x="2100" y="232"/>
                </a:lnTo>
                <a:lnTo>
                  <a:pt x="2096" y="236"/>
                </a:lnTo>
                <a:lnTo>
                  <a:pt x="2090" y="238"/>
                </a:lnTo>
                <a:lnTo>
                  <a:pt x="2084" y="242"/>
                </a:lnTo>
                <a:lnTo>
                  <a:pt x="2079" y="244"/>
                </a:lnTo>
                <a:lnTo>
                  <a:pt x="2071" y="248"/>
                </a:lnTo>
                <a:lnTo>
                  <a:pt x="2061" y="250"/>
                </a:lnTo>
                <a:lnTo>
                  <a:pt x="2054" y="251"/>
                </a:lnTo>
                <a:lnTo>
                  <a:pt x="2042" y="253"/>
                </a:lnTo>
                <a:lnTo>
                  <a:pt x="2031" y="255"/>
                </a:lnTo>
                <a:lnTo>
                  <a:pt x="2019" y="255"/>
                </a:lnTo>
                <a:lnTo>
                  <a:pt x="2006" y="255"/>
                </a:lnTo>
                <a:lnTo>
                  <a:pt x="1990" y="255"/>
                </a:lnTo>
                <a:lnTo>
                  <a:pt x="1975" y="255"/>
                </a:lnTo>
                <a:lnTo>
                  <a:pt x="1958" y="255"/>
                </a:lnTo>
                <a:lnTo>
                  <a:pt x="1938" y="255"/>
                </a:lnTo>
                <a:lnTo>
                  <a:pt x="1919" y="253"/>
                </a:lnTo>
                <a:lnTo>
                  <a:pt x="1898" y="251"/>
                </a:lnTo>
                <a:lnTo>
                  <a:pt x="1875" y="250"/>
                </a:lnTo>
                <a:lnTo>
                  <a:pt x="1852" y="248"/>
                </a:lnTo>
                <a:lnTo>
                  <a:pt x="1827" y="244"/>
                </a:lnTo>
                <a:lnTo>
                  <a:pt x="1814" y="244"/>
                </a:lnTo>
                <a:lnTo>
                  <a:pt x="1800" y="242"/>
                </a:lnTo>
                <a:lnTo>
                  <a:pt x="1785" y="240"/>
                </a:lnTo>
                <a:lnTo>
                  <a:pt x="1770" y="240"/>
                </a:lnTo>
                <a:lnTo>
                  <a:pt x="1754" y="240"/>
                </a:lnTo>
                <a:lnTo>
                  <a:pt x="1737" y="238"/>
                </a:lnTo>
                <a:lnTo>
                  <a:pt x="1720" y="238"/>
                </a:lnTo>
                <a:lnTo>
                  <a:pt x="1702" y="238"/>
                </a:lnTo>
                <a:lnTo>
                  <a:pt x="1683" y="238"/>
                </a:lnTo>
                <a:lnTo>
                  <a:pt x="1664" y="238"/>
                </a:lnTo>
                <a:lnTo>
                  <a:pt x="1643" y="240"/>
                </a:lnTo>
                <a:lnTo>
                  <a:pt x="1622" y="240"/>
                </a:lnTo>
                <a:lnTo>
                  <a:pt x="1601" y="240"/>
                </a:lnTo>
                <a:lnTo>
                  <a:pt x="1578" y="242"/>
                </a:lnTo>
                <a:lnTo>
                  <a:pt x="1555" y="242"/>
                </a:lnTo>
                <a:lnTo>
                  <a:pt x="1532" y="244"/>
                </a:lnTo>
                <a:lnTo>
                  <a:pt x="1507" y="246"/>
                </a:lnTo>
                <a:lnTo>
                  <a:pt x="1482" y="248"/>
                </a:lnTo>
                <a:lnTo>
                  <a:pt x="1455" y="250"/>
                </a:lnTo>
                <a:lnTo>
                  <a:pt x="1430" y="251"/>
                </a:lnTo>
                <a:lnTo>
                  <a:pt x="1401" y="253"/>
                </a:lnTo>
                <a:lnTo>
                  <a:pt x="1372" y="255"/>
                </a:lnTo>
                <a:lnTo>
                  <a:pt x="1343" y="259"/>
                </a:lnTo>
                <a:lnTo>
                  <a:pt x="1315" y="261"/>
                </a:lnTo>
                <a:lnTo>
                  <a:pt x="1284" y="265"/>
                </a:lnTo>
                <a:lnTo>
                  <a:pt x="1253" y="267"/>
                </a:lnTo>
                <a:lnTo>
                  <a:pt x="1221" y="271"/>
                </a:lnTo>
                <a:lnTo>
                  <a:pt x="1188" y="274"/>
                </a:lnTo>
                <a:lnTo>
                  <a:pt x="1153" y="278"/>
                </a:lnTo>
                <a:lnTo>
                  <a:pt x="1119" y="282"/>
                </a:lnTo>
                <a:lnTo>
                  <a:pt x="1084" y="286"/>
                </a:lnTo>
                <a:lnTo>
                  <a:pt x="1048" y="290"/>
                </a:lnTo>
                <a:lnTo>
                  <a:pt x="1011" y="296"/>
                </a:lnTo>
                <a:lnTo>
                  <a:pt x="977" y="299"/>
                </a:lnTo>
                <a:lnTo>
                  <a:pt x="942" y="303"/>
                </a:lnTo>
                <a:lnTo>
                  <a:pt x="910" y="307"/>
                </a:lnTo>
                <a:lnTo>
                  <a:pt x="877" y="311"/>
                </a:lnTo>
                <a:lnTo>
                  <a:pt x="844" y="315"/>
                </a:lnTo>
                <a:lnTo>
                  <a:pt x="814" y="319"/>
                </a:lnTo>
                <a:lnTo>
                  <a:pt x="785" y="322"/>
                </a:lnTo>
                <a:lnTo>
                  <a:pt x="756" y="326"/>
                </a:lnTo>
                <a:lnTo>
                  <a:pt x="727" y="328"/>
                </a:lnTo>
                <a:lnTo>
                  <a:pt x="700" y="332"/>
                </a:lnTo>
                <a:lnTo>
                  <a:pt x="674" y="336"/>
                </a:lnTo>
                <a:lnTo>
                  <a:pt x="649" y="340"/>
                </a:lnTo>
                <a:lnTo>
                  <a:pt x="624" y="342"/>
                </a:lnTo>
                <a:lnTo>
                  <a:pt x="601" y="346"/>
                </a:lnTo>
                <a:lnTo>
                  <a:pt x="578" y="347"/>
                </a:lnTo>
                <a:lnTo>
                  <a:pt x="556" y="351"/>
                </a:lnTo>
                <a:lnTo>
                  <a:pt x="535" y="353"/>
                </a:lnTo>
                <a:lnTo>
                  <a:pt x="516" y="355"/>
                </a:lnTo>
                <a:lnTo>
                  <a:pt x="497" y="359"/>
                </a:lnTo>
                <a:lnTo>
                  <a:pt x="480" y="361"/>
                </a:lnTo>
                <a:lnTo>
                  <a:pt x="462" y="363"/>
                </a:lnTo>
                <a:lnTo>
                  <a:pt x="447" y="365"/>
                </a:lnTo>
                <a:lnTo>
                  <a:pt x="432" y="367"/>
                </a:lnTo>
                <a:lnTo>
                  <a:pt x="416" y="370"/>
                </a:lnTo>
                <a:lnTo>
                  <a:pt x="405" y="372"/>
                </a:lnTo>
                <a:lnTo>
                  <a:pt x="391" y="374"/>
                </a:lnTo>
                <a:lnTo>
                  <a:pt x="380" y="376"/>
                </a:lnTo>
                <a:lnTo>
                  <a:pt x="370" y="378"/>
                </a:lnTo>
                <a:lnTo>
                  <a:pt x="361" y="378"/>
                </a:lnTo>
                <a:lnTo>
                  <a:pt x="351" y="380"/>
                </a:lnTo>
                <a:lnTo>
                  <a:pt x="345" y="382"/>
                </a:lnTo>
                <a:lnTo>
                  <a:pt x="330" y="386"/>
                </a:lnTo>
                <a:lnTo>
                  <a:pt x="317" y="388"/>
                </a:lnTo>
                <a:lnTo>
                  <a:pt x="305" y="390"/>
                </a:lnTo>
                <a:lnTo>
                  <a:pt x="294" y="393"/>
                </a:lnTo>
                <a:lnTo>
                  <a:pt x="282" y="395"/>
                </a:lnTo>
                <a:lnTo>
                  <a:pt x="270" y="399"/>
                </a:lnTo>
                <a:lnTo>
                  <a:pt x="259" y="401"/>
                </a:lnTo>
                <a:lnTo>
                  <a:pt x="249" y="403"/>
                </a:lnTo>
                <a:lnTo>
                  <a:pt x="242" y="405"/>
                </a:lnTo>
                <a:lnTo>
                  <a:pt x="232" y="407"/>
                </a:lnTo>
                <a:lnTo>
                  <a:pt x="224" y="409"/>
                </a:lnTo>
                <a:lnTo>
                  <a:pt x="217" y="411"/>
                </a:lnTo>
                <a:lnTo>
                  <a:pt x="211" y="411"/>
                </a:lnTo>
                <a:lnTo>
                  <a:pt x="205" y="413"/>
                </a:lnTo>
                <a:lnTo>
                  <a:pt x="199" y="413"/>
                </a:lnTo>
                <a:lnTo>
                  <a:pt x="194" y="413"/>
                </a:lnTo>
                <a:lnTo>
                  <a:pt x="188" y="415"/>
                </a:lnTo>
                <a:lnTo>
                  <a:pt x="184" y="417"/>
                </a:lnTo>
                <a:lnTo>
                  <a:pt x="176" y="417"/>
                </a:lnTo>
                <a:lnTo>
                  <a:pt x="171" y="417"/>
                </a:lnTo>
                <a:lnTo>
                  <a:pt x="163" y="415"/>
                </a:lnTo>
                <a:lnTo>
                  <a:pt x="155" y="413"/>
                </a:lnTo>
                <a:lnTo>
                  <a:pt x="148" y="409"/>
                </a:lnTo>
                <a:lnTo>
                  <a:pt x="138" y="405"/>
                </a:lnTo>
                <a:lnTo>
                  <a:pt x="130" y="401"/>
                </a:lnTo>
                <a:lnTo>
                  <a:pt x="121" y="395"/>
                </a:lnTo>
                <a:lnTo>
                  <a:pt x="111" y="390"/>
                </a:lnTo>
                <a:lnTo>
                  <a:pt x="100" y="382"/>
                </a:lnTo>
                <a:lnTo>
                  <a:pt x="90" y="376"/>
                </a:lnTo>
                <a:lnTo>
                  <a:pt x="79" y="369"/>
                </a:lnTo>
                <a:lnTo>
                  <a:pt x="56" y="351"/>
                </a:lnTo>
                <a:lnTo>
                  <a:pt x="44" y="342"/>
                </a:lnTo>
                <a:lnTo>
                  <a:pt x="34" y="334"/>
                </a:lnTo>
                <a:lnTo>
                  <a:pt x="27" y="326"/>
                </a:lnTo>
                <a:lnTo>
                  <a:pt x="19" y="317"/>
                </a:lnTo>
                <a:lnTo>
                  <a:pt x="11" y="309"/>
                </a:lnTo>
                <a:lnTo>
                  <a:pt x="8" y="301"/>
                </a:lnTo>
                <a:lnTo>
                  <a:pt x="4" y="294"/>
                </a:lnTo>
                <a:lnTo>
                  <a:pt x="0" y="286"/>
                </a:lnTo>
                <a:lnTo>
                  <a:pt x="0" y="280"/>
                </a:lnTo>
                <a:lnTo>
                  <a:pt x="0" y="273"/>
                </a:lnTo>
                <a:lnTo>
                  <a:pt x="2" y="267"/>
                </a:lnTo>
                <a:lnTo>
                  <a:pt x="4" y="261"/>
                </a:lnTo>
                <a:lnTo>
                  <a:pt x="9" y="255"/>
                </a:lnTo>
                <a:lnTo>
                  <a:pt x="15" y="251"/>
                </a:lnTo>
                <a:lnTo>
                  <a:pt x="21" y="248"/>
                </a:lnTo>
                <a:lnTo>
                  <a:pt x="31" y="244"/>
                </a:lnTo>
                <a:lnTo>
                  <a:pt x="34" y="242"/>
                </a:lnTo>
                <a:lnTo>
                  <a:pt x="40" y="242"/>
                </a:lnTo>
                <a:lnTo>
                  <a:pt x="46" y="240"/>
                </a:lnTo>
                <a:lnTo>
                  <a:pt x="54" y="238"/>
                </a:lnTo>
                <a:lnTo>
                  <a:pt x="63" y="236"/>
                </a:lnTo>
                <a:lnTo>
                  <a:pt x="73" y="234"/>
                </a:lnTo>
                <a:lnTo>
                  <a:pt x="84" y="232"/>
                </a:lnTo>
                <a:lnTo>
                  <a:pt x="96" y="230"/>
                </a:lnTo>
                <a:lnTo>
                  <a:pt x="109" y="228"/>
                </a:lnTo>
                <a:lnTo>
                  <a:pt x="125" y="225"/>
                </a:lnTo>
                <a:lnTo>
                  <a:pt x="140" y="223"/>
                </a:lnTo>
                <a:lnTo>
                  <a:pt x="157" y="221"/>
                </a:lnTo>
                <a:lnTo>
                  <a:pt x="175" y="217"/>
                </a:lnTo>
                <a:lnTo>
                  <a:pt x="194" y="215"/>
                </a:lnTo>
                <a:lnTo>
                  <a:pt x="213" y="211"/>
                </a:lnTo>
                <a:lnTo>
                  <a:pt x="234" y="209"/>
                </a:lnTo>
                <a:lnTo>
                  <a:pt x="257" y="205"/>
                </a:lnTo>
                <a:lnTo>
                  <a:pt x="280" y="202"/>
                </a:lnTo>
                <a:lnTo>
                  <a:pt x="305" y="198"/>
                </a:lnTo>
                <a:lnTo>
                  <a:pt x="330" y="194"/>
                </a:lnTo>
                <a:lnTo>
                  <a:pt x="357" y="190"/>
                </a:lnTo>
                <a:lnTo>
                  <a:pt x="386" y="186"/>
                </a:lnTo>
                <a:lnTo>
                  <a:pt x="414" y="182"/>
                </a:lnTo>
                <a:lnTo>
                  <a:pt x="443" y="179"/>
                </a:lnTo>
                <a:lnTo>
                  <a:pt x="474" y="173"/>
                </a:lnTo>
                <a:lnTo>
                  <a:pt x="507" y="169"/>
                </a:lnTo>
                <a:lnTo>
                  <a:pt x="539" y="165"/>
                </a:lnTo>
                <a:lnTo>
                  <a:pt x="574" y="159"/>
                </a:lnTo>
                <a:lnTo>
                  <a:pt x="610" y="154"/>
                </a:lnTo>
                <a:lnTo>
                  <a:pt x="645" y="148"/>
                </a:lnTo>
                <a:lnTo>
                  <a:pt x="683" y="144"/>
                </a:lnTo>
                <a:lnTo>
                  <a:pt x="722" y="138"/>
                </a:lnTo>
                <a:lnTo>
                  <a:pt x="760" y="132"/>
                </a:lnTo>
                <a:lnTo>
                  <a:pt x="796" y="129"/>
                </a:lnTo>
                <a:lnTo>
                  <a:pt x="835" y="125"/>
                </a:lnTo>
                <a:lnTo>
                  <a:pt x="869" y="121"/>
                </a:lnTo>
                <a:lnTo>
                  <a:pt x="906" y="115"/>
                </a:lnTo>
                <a:lnTo>
                  <a:pt x="940" y="111"/>
                </a:lnTo>
                <a:lnTo>
                  <a:pt x="973" y="108"/>
                </a:lnTo>
                <a:lnTo>
                  <a:pt x="1006" y="104"/>
                </a:lnTo>
                <a:lnTo>
                  <a:pt x="1038" y="100"/>
                </a:lnTo>
                <a:lnTo>
                  <a:pt x="1069" y="96"/>
                </a:lnTo>
                <a:lnTo>
                  <a:pt x="1100" y="90"/>
                </a:lnTo>
                <a:lnTo>
                  <a:pt x="1130" y="86"/>
                </a:lnTo>
                <a:lnTo>
                  <a:pt x="1159" y="83"/>
                </a:lnTo>
                <a:lnTo>
                  <a:pt x="1186" y="79"/>
                </a:lnTo>
                <a:lnTo>
                  <a:pt x="1215" y="77"/>
                </a:lnTo>
                <a:lnTo>
                  <a:pt x="1242" y="73"/>
                </a:lnTo>
                <a:lnTo>
                  <a:pt x="1267" y="69"/>
                </a:lnTo>
                <a:lnTo>
                  <a:pt x="1292" y="65"/>
                </a:lnTo>
                <a:lnTo>
                  <a:pt x="1317" y="61"/>
                </a:lnTo>
                <a:lnTo>
                  <a:pt x="1340" y="60"/>
                </a:lnTo>
                <a:lnTo>
                  <a:pt x="1363" y="56"/>
                </a:lnTo>
                <a:lnTo>
                  <a:pt x="1384" y="52"/>
                </a:lnTo>
                <a:lnTo>
                  <a:pt x="1405" y="50"/>
                </a:lnTo>
                <a:lnTo>
                  <a:pt x="1426" y="48"/>
                </a:lnTo>
                <a:lnTo>
                  <a:pt x="1445" y="44"/>
                </a:lnTo>
                <a:lnTo>
                  <a:pt x="1464" y="42"/>
                </a:lnTo>
                <a:lnTo>
                  <a:pt x="1484" y="40"/>
                </a:lnTo>
                <a:lnTo>
                  <a:pt x="1501" y="38"/>
                </a:lnTo>
                <a:lnTo>
                  <a:pt x="1516" y="35"/>
                </a:lnTo>
                <a:lnTo>
                  <a:pt x="1533" y="33"/>
                </a:lnTo>
                <a:lnTo>
                  <a:pt x="1549" y="33"/>
                </a:lnTo>
                <a:lnTo>
                  <a:pt x="1562" y="31"/>
                </a:lnTo>
                <a:lnTo>
                  <a:pt x="1591" y="27"/>
                </a:lnTo>
                <a:lnTo>
                  <a:pt x="1616" y="25"/>
                </a:lnTo>
                <a:lnTo>
                  <a:pt x="1643" y="21"/>
                </a:lnTo>
                <a:lnTo>
                  <a:pt x="1666" y="19"/>
                </a:lnTo>
                <a:lnTo>
                  <a:pt x="1689" y="17"/>
                </a:lnTo>
                <a:lnTo>
                  <a:pt x="1710" y="13"/>
                </a:lnTo>
                <a:lnTo>
                  <a:pt x="1731" y="12"/>
                </a:lnTo>
                <a:lnTo>
                  <a:pt x="1750" y="10"/>
                </a:lnTo>
                <a:lnTo>
                  <a:pt x="1768" y="8"/>
                </a:lnTo>
                <a:lnTo>
                  <a:pt x="1783" y="6"/>
                </a:lnTo>
                <a:lnTo>
                  <a:pt x="1798" y="4"/>
                </a:lnTo>
                <a:lnTo>
                  <a:pt x="1812" y="2"/>
                </a:lnTo>
                <a:lnTo>
                  <a:pt x="1823" y="2"/>
                </a:lnTo>
                <a:lnTo>
                  <a:pt x="1835" y="0"/>
                </a:lnTo>
                <a:lnTo>
                  <a:pt x="1844" y="0"/>
                </a:lnTo>
                <a:lnTo>
                  <a:pt x="1852" y="0"/>
                </a:lnTo>
                <a:lnTo>
                  <a:pt x="1866" y="0"/>
                </a:lnTo>
                <a:lnTo>
                  <a:pt x="1883" y="2"/>
                </a:lnTo>
                <a:lnTo>
                  <a:pt x="1890" y="4"/>
                </a:lnTo>
                <a:lnTo>
                  <a:pt x="1898" y="8"/>
                </a:lnTo>
                <a:lnTo>
                  <a:pt x="1908" y="10"/>
                </a:lnTo>
                <a:lnTo>
                  <a:pt x="1917" y="13"/>
                </a:lnTo>
                <a:lnTo>
                  <a:pt x="1925" y="17"/>
                </a:lnTo>
                <a:lnTo>
                  <a:pt x="1935" y="21"/>
                </a:lnTo>
                <a:lnTo>
                  <a:pt x="1944" y="27"/>
                </a:lnTo>
                <a:lnTo>
                  <a:pt x="1952" y="33"/>
                </a:lnTo>
                <a:lnTo>
                  <a:pt x="1961" y="38"/>
                </a:lnTo>
                <a:lnTo>
                  <a:pt x="1971" y="44"/>
                </a:lnTo>
                <a:lnTo>
                  <a:pt x="1981" y="52"/>
                </a:lnTo>
                <a:lnTo>
                  <a:pt x="1990" y="61"/>
                </a:lnTo>
                <a:lnTo>
                  <a:pt x="2008" y="79"/>
                </a:lnTo>
                <a:lnTo>
                  <a:pt x="2025" y="96"/>
                </a:lnTo>
                <a:lnTo>
                  <a:pt x="2040" y="111"/>
                </a:lnTo>
                <a:lnTo>
                  <a:pt x="2054" y="129"/>
                </a:lnTo>
                <a:lnTo>
                  <a:pt x="2061" y="136"/>
                </a:lnTo>
                <a:lnTo>
                  <a:pt x="2067" y="144"/>
                </a:lnTo>
                <a:lnTo>
                  <a:pt x="2071" y="150"/>
                </a:lnTo>
                <a:lnTo>
                  <a:pt x="2077" y="157"/>
                </a:lnTo>
                <a:lnTo>
                  <a:pt x="2080" y="165"/>
                </a:lnTo>
                <a:lnTo>
                  <a:pt x="2084" y="171"/>
                </a:lnTo>
                <a:lnTo>
                  <a:pt x="2088" y="177"/>
                </a:lnTo>
                <a:lnTo>
                  <a:pt x="2090" y="1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94"/>
          <p:cNvSpPr/>
          <p:nvPr/>
        </p:nvSpPr>
        <p:spPr>
          <a:xfrm>
            <a:off x="6475320" y="3532320"/>
            <a:ext cx="209520" cy="1307880"/>
          </a:xfrm>
          <a:custGeom>
            <a:avLst/>
            <a:gdLst/>
            <a:ahLst/>
            <a:rect l="l" t="t" r="r" b="b"/>
            <a:pathLst>
              <a:path w="265" h="1646">
                <a:moveTo>
                  <a:pt x="248" y="119"/>
                </a:moveTo>
                <a:lnTo>
                  <a:pt x="251" y="136"/>
                </a:lnTo>
                <a:lnTo>
                  <a:pt x="255" y="151"/>
                </a:lnTo>
                <a:lnTo>
                  <a:pt x="259" y="165"/>
                </a:lnTo>
                <a:lnTo>
                  <a:pt x="263" y="178"/>
                </a:lnTo>
                <a:lnTo>
                  <a:pt x="265" y="190"/>
                </a:lnTo>
                <a:lnTo>
                  <a:pt x="265" y="203"/>
                </a:lnTo>
                <a:lnTo>
                  <a:pt x="265" y="209"/>
                </a:lnTo>
                <a:lnTo>
                  <a:pt x="263" y="215"/>
                </a:lnTo>
                <a:lnTo>
                  <a:pt x="263" y="220"/>
                </a:lnTo>
                <a:lnTo>
                  <a:pt x="261" y="226"/>
                </a:lnTo>
                <a:lnTo>
                  <a:pt x="259" y="230"/>
                </a:lnTo>
                <a:lnTo>
                  <a:pt x="257" y="236"/>
                </a:lnTo>
                <a:lnTo>
                  <a:pt x="257" y="245"/>
                </a:lnTo>
                <a:lnTo>
                  <a:pt x="255" y="259"/>
                </a:lnTo>
                <a:lnTo>
                  <a:pt x="255" y="272"/>
                </a:lnTo>
                <a:lnTo>
                  <a:pt x="255" y="289"/>
                </a:lnTo>
                <a:lnTo>
                  <a:pt x="253" y="309"/>
                </a:lnTo>
                <a:lnTo>
                  <a:pt x="253" y="332"/>
                </a:lnTo>
                <a:lnTo>
                  <a:pt x="253" y="357"/>
                </a:lnTo>
                <a:lnTo>
                  <a:pt x="251" y="383"/>
                </a:lnTo>
                <a:lnTo>
                  <a:pt x="251" y="414"/>
                </a:lnTo>
                <a:lnTo>
                  <a:pt x="251" y="447"/>
                </a:lnTo>
                <a:lnTo>
                  <a:pt x="251" y="483"/>
                </a:lnTo>
                <a:lnTo>
                  <a:pt x="251" y="520"/>
                </a:lnTo>
                <a:lnTo>
                  <a:pt x="251" y="560"/>
                </a:lnTo>
                <a:lnTo>
                  <a:pt x="251" y="604"/>
                </a:lnTo>
                <a:lnTo>
                  <a:pt x="251" y="650"/>
                </a:lnTo>
                <a:lnTo>
                  <a:pt x="251" y="698"/>
                </a:lnTo>
                <a:lnTo>
                  <a:pt x="251" y="748"/>
                </a:lnTo>
                <a:lnTo>
                  <a:pt x="251" y="802"/>
                </a:lnTo>
                <a:lnTo>
                  <a:pt x="251" y="858"/>
                </a:lnTo>
                <a:lnTo>
                  <a:pt x="251" y="917"/>
                </a:lnTo>
                <a:lnTo>
                  <a:pt x="253" y="978"/>
                </a:lnTo>
                <a:lnTo>
                  <a:pt x="253" y="1042"/>
                </a:lnTo>
                <a:lnTo>
                  <a:pt x="253" y="1109"/>
                </a:lnTo>
                <a:lnTo>
                  <a:pt x="255" y="1178"/>
                </a:lnTo>
                <a:lnTo>
                  <a:pt x="255" y="1249"/>
                </a:lnTo>
                <a:lnTo>
                  <a:pt x="255" y="1324"/>
                </a:lnTo>
                <a:lnTo>
                  <a:pt x="257" y="1401"/>
                </a:lnTo>
                <a:lnTo>
                  <a:pt x="257" y="1479"/>
                </a:lnTo>
                <a:lnTo>
                  <a:pt x="259" y="1562"/>
                </a:lnTo>
                <a:lnTo>
                  <a:pt x="261" y="1646"/>
                </a:lnTo>
                <a:lnTo>
                  <a:pt x="123" y="1646"/>
                </a:lnTo>
                <a:lnTo>
                  <a:pt x="123" y="1600"/>
                </a:lnTo>
                <a:lnTo>
                  <a:pt x="121" y="1554"/>
                </a:lnTo>
                <a:lnTo>
                  <a:pt x="121" y="1508"/>
                </a:lnTo>
                <a:lnTo>
                  <a:pt x="121" y="1464"/>
                </a:lnTo>
                <a:lnTo>
                  <a:pt x="121" y="1420"/>
                </a:lnTo>
                <a:lnTo>
                  <a:pt x="121" y="1376"/>
                </a:lnTo>
                <a:lnTo>
                  <a:pt x="121" y="1334"/>
                </a:lnTo>
                <a:lnTo>
                  <a:pt x="119" y="1291"/>
                </a:lnTo>
                <a:lnTo>
                  <a:pt x="119" y="1251"/>
                </a:lnTo>
                <a:lnTo>
                  <a:pt x="119" y="1211"/>
                </a:lnTo>
                <a:lnTo>
                  <a:pt x="117" y="1170"/>
                </a:lnTo>
                <a:lnTo>
                  <a:pt x="117" y="1132"/>
                </a:lnTo>
                <a:lnTo>
                  <a:pt x="115" y="1094"/>
                </a:lnTo>
                <a:lnTo>
                  <a:pt x="115" y="1055"/>
                </a:lnTo>
                <a:lnTo>
                  <a:pt x="113" y="1019"/>
                </a:lnTo>
                <a:lnTo>
                  <a:pt x="111" y="982"/>
                </a:lnTo>
                <a:lnTo>
                  <a:pt x="111" y="946"/>
                </a:lnTo>
                <a:lnTo>
                  <a:pt x="109" y="911"/>
                </a:lnTo>
                <a:lnTo>
                  <a:pt x="107" y="879"/>
                </a:lnTo>
                <a:lnTo>
                  <a:pt x="107" y="844"/>
                </a:lnTo>
                <a:lnTo>
                  <a:pt x="106" y="811"/>
                </a:lnTo>
                <a:lnTo>
                  <a:pt x="104" y="781"/>
                </a:lnTo>
                <a:lnTo>
                  <a:pt x="102" y="748"/>
                </a:lnTo>
                <a:lnTo>
                  <a:pt x="100" y="719"/>
                </a:lnTo>
                <a:lnTo>
                  <a:pt x="98" y="689"/>
                </a:lnTo>
                <a:lnTo>
                  <a:pt x="96" y="660"/>
                </a:lnTo>
                <a:lnTo>
                  <a:pt x="94" y="631"/>
                </a:lnTo>
                <a:lnTo>
                  <a:pt x="92" y="604"/>
                </a:lnTo>
                <a:lnTo>
                  <a:pt x="90" y="577"/>
                </a:lnTo>
                <a:lnTo>
                  <a:pt x="88" y="550"/>
                </a:lnTo>
                <a:lnTo>
                  <a:pt x="86" y="525"/>
                </a:lnTo>
                <a:lnTo>
                  <a:pt x="84" y="501"/>
                </a:lnTo>
                <a:lnTo>
                  <a:pt x="82" y="478"/>
                </a:lnTo>
                <a:lnTo>
                  <a:pt x="79" y="456"/>
                </a:lnTo>
                <a:lnTo>
                  <a:pt x="77" y="435"/>
                </a:lnTo>
                <a:lnTo>
                  <a:pt x="75" y="414"/>
                </a:lnTo>
                <a:lnTo>
                  <a:pt x="73" y="393"/>
                </a:lnTo>
                <a:lnTo>
                  <a:pt x="71" y="374"/>
                </a:lnTo>
                <a:lnTo>
                  <a:pt x="67" y="355"/>
                </a:lnTo>
                <a:lnTo>
                  <a:pt x="65" y="337"/>
                </a:lnTo>
                <a:lnTo>
                  <a:pt x="63" y="320"/>
                </a:lnTo>
                <a:lnTo>
                  <a:pt x="61" y="303"/>
                </a:lnTo>
                <a:lnTo>
                  <a:pt x="59" y="286"/>
                </a:lnTo>
                <a:lnTo>
                  <a:pt x="58" y="270"/>
                </a:lnTo>
                <a:lnTo>
                  <a:pt x="54" y="255"/>
                </a:lnTo>
                <a:lnTo>
                  <a:pt x="52" y="241"/>
                </a:lnTo>
                <a:lnTo>
                  <a:pt x="50" y="228"/>
                </a:lnTo>
                <a:lnTo>
                  <a:pt x="48" y="215"/>
                </a:lnTo>
                <a:lnTo>
                  <a:pt x="46" y="201"/>
                </a:lnTo>
                <a:lnTo>
                  <a:pt x="44" y="190"/>
                </a:lnTo>
                <a:lnTo>
                  <a:pt x="42" y="178"/>
                </a:lnTo>
                <a:lnTo>
                  <a:pt x="40" y="167"/>
                </a:lnTo>
                <a:lnTo>
                  <a:pt x="38" y="157"/>
                </a:lnTo>
                <a:lnTo>
                  <a:pt x="36" y="147"/>
                </a:lnTo>
                <a:lnTo>
                  <a:pt x="34" y="140"/>
                </a:lnTo>
                <a:lnTo>
                  <a:pt x="33" y="130"/>
                </a:lnTo>
                <a:lnTo>
                  <a:pt x="31" y="122"/>
                </a:lnTo>
                <a:lnTo>
                  <a:pt x="29" y="117"/>
                </a:lnTo>
                <a:lnTo>
                  <a:pt x="29" y="111"/>
                </a:lnTo>
                <a:lnTo>
                  <a:pt x="27" y="105"/>
                </a:lnTo>
                <a:lnTo>
                  <a:pt x="25" y="99"/>
                </a:lnTo>
                <a:lnTo>
                  <a:pt x="23" y="96"/>
                </a:lnTo>
                <a:lnTo>
                  <a:pt x="23" y="92"/>
                </a:lnTo>
                <a:lnTo>
                  <a:pt x="21" y="88"/>
                </a:lnTo>
                <a:lnTo>
                  <a:pt x="17" y="82"/>
                </a:lnTo>
                <a:lnTo>
                  <a:pt x="13" y="76"/>
                </a:lnTo>
                <a:lnTo>
                  <a:pt x="10" y="71"/>
                </a:lnTo>
                <a:lnTo>
                  <a:pt x="8" y="65"/>
                </a:lnTo>
                <a:lnTo>
                  <a:pt x="4" y="59"/>
                </a:lnTo>
                <a:lnTo>
                  <a:pt x="4" y="55"/>
                </a:lnTo>
                <a:lnTo>
                  <a:pt x="0" y="44"/>
                </a:lnTo>
                <a:lnTo>
                  <a:pt x="0" y="34"/>
                </a:lnTo>
                <a:lnTo>
                  <a:pt x="2" y="26"/>
                </a:lnTo>
                <a:lnTo>
                  <a:pt x="4" y="19"/>
                </a:lnTo>
                <a:lnTo>
                  <a:pt x="10" y="11"/>
                </a:lnTo>
                <a:lnTo>
                  <a:pt x="11" y="9"/>
                </a:lnTo>
                <a:lnTo>
                  <a:pt x="15" y="7"/>
                </a:lnTo>
                <a:lnTo>
                  <a:pt x="19" y="5"/>
                </a:lnTo>
                <a:lnTo>
                  <a:pt x="23" y="3"/>
                </a:lnTo>
                <a:lnTo>
                  <a:pt x="27" y="1"/>
                </a:lnTo>
                <a:lnTo>
                  <a:pt x="33" y="1"/>
                </a:lnTo>
                <a:lnTo>
                  <a:pt x="40" y="0"/>
                </a:lnTo>
                <a:lnTo>
                  <a:pt x="46" y="0"/>
                </a:lnTo>
                <a:lnTo>
                  <a:pt x="54" y="0"/>
                </a:lnTo>
                <a:lnTo>
                  <a:pt x="61" y="1"/>
                </a:lnTo>
                <a:lnTo>
                  <a:pt x="71" y="1"/>
                </a:lnTo>
                <a:lnTo>
                  <a:pt x="79" y="3"/>
                </a:lnTo>
                <a:lnTo>
                  <a:pt x="88" y="5"/>
                </a:lnTo>
                <a:lnTo>
                  <a:pt x="100" y="7"/>
                </a:lnTo>
                <a:lnTo>
                  <a:pt x="111" y="9"/>
                </a:lnTo>
                <a:lnTo>
                  <a:pt x="123" y="11"/>
                </a:lnTo>
                <a:lnTo>
                  <a:pt x="144" y="23"/>
                </a:lnTo>
                <a:lnTo>
                  <a:pt x="167" y="34"/>
                </a:lnTo>
                <a:lnTo>
                  <a:pt x="177" y="40"/>
                </a:lnTo>
                <a:lnTo>
                  <a:pt x="186" y="48"/>
                </a:lnTo>
                <a:lnTo>
                  <a:pt x="196" y="53"/>
                </a:lnTo>
                <a:lnTo>
                  <a:pt x="203" y="59"/>
                </a:lnTo>
                <a:lnTo>
                  <a:pt x="211" y="67"/>
                </a:lnTo>
                <a:lnTo>
                  <a:pt x="219" y="73"/>
                </a:lnTo>
                <a:lnTo>
                  <a:pt x="225" y="80"/>
                </a:lnTo>
                <a:lnTo>
                  <a:pt x="232" y="86"/>
                </a:lnTo>
                <a:lnTo>
                  <a:pt x="236" y="94"/>
                </a:lnTo>
                <a:lnTo>
                  <a:pt x="242" y="101"/>
                </a:lnTo>
                <a:lnTo>
                  <a:pt x="244" y="111"/>
                </a:lnTo>
                <a:lnTo>
                  <a:pt x="248" y="1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95"/>
          <p:cNvSpPr/>
          <p:nvPr/>
        </p:nvSpPr>
        <p:spPr>
          <a:xfrm>
            <a:off x="5500800" y="4229280"/>
            <a:ext cx="914400" cy="650520"/>
          </a:xfrm>
          <a:custGeom>
            <a:avLst/>
            <a:gdLst/>
            <a:ahLst/>
            <a:rect l="l" t="t" r="r" b="b"/>
            <a:pathLst>
              <a:path w="1151" h="819">
                <a:moveTo>
                  <a:pt x="1036" y="159"/>
                </a:moveTo>
                <a:lnTo>
                  <a:pt x="1019" y="171"/>
                </a:lnTo>
                <a:lnTo>
                  <a:pt x="1000" y="184"/>
                </a:lnTo>
                <a:lnTo>
                  <a:pt x="980" y="199"/>
                </a:lnTo>
                <a:lnTo>
                  <a:pt x="957" y="217"/>
                </a:lnTo>
                <a:lnTo>
                  <a:pt x="934" y="234"/>
                </a:lnTo>
                <a:lnTo>
                  <a:pt x="909" y="253"/>
                </a:lnTo>
                <a:lnTo>
                  <a:pt x="884" y="274"/>
                </a:lnTo>
                <a:lnTo>
                  <a:pt x="856" y="295"/>
                </a:lnTo>
                <a:lnTo>
                  <a:pt x="827" y="318"/>
                </a:lnTo>
                <a:lnTo>
                  <a:pt x="796" y="343"/>
                </a:lnTo>
                <a:lnTo>
                  <a:pt x="765" y="370"/>
                </a:lnTo>
                <a:lnTo>
                  <a:pt x="731" y="399"/>
                </a:lnTo>
                <a:lnTo>
                  <a:pt x="696" y="428"/>
                </a:lnTo>
                <a:lnTo>
                  <a:pt x="660" y="458"/>
                </a:lnTo>
                <a:lnTo>
                  <a:pt x="623" y="491"/>
                </a:lnTo>
                <a:lnTo>
                  <a:pt x="583" y="526"/>
                </a:lnTo>
                <a:lnTo>
                  <a:pt x="562" y="545"/>
                </a:lnTo>
                <a:lnTo>
                  <a:pt x="543" y="562"/>
                </a:lnTo>
                <a:lnTo>
                  <a:pt x="524" y="579"/>
                </a:lnTo>
                <a:lnTo>
                  <a:pt x="504" y="597"/>
                </a:lnTo>
                <a:lnTo>
                  <a:pt x="485" y="612"/>
                </a:lnTo>
                <a:lnTo>
                  <a:pt x="468" y="627"/>
                </a:lnTo>
                <a:lnTo>
                  <a:pt x="451" y="641"/>
                </a:lnTo>
                <a:lnTo>
                  <a:pt x="433" y="656"/>
                </a:lnTo>
                <a:lnTo>
                  <a:pt x="418" y="670"/>
                </a:lnTo>
                <a:lnTo>
                  <a:pt x="403" y="681"/>
                </a:lnTo>
                <a:lnTo>
                  <a:pt x="387" y="695"/>
                </a:lnTo>
                <a:lnTo>
                  <a:pt x="372" y="706"/>
                </a:lnTo>
                <a:lnTo>
                  <a:pt x="358" y="718"/>
                </a:lnTo>
                <a:lnTo>
                  <a:pt x="345" y="727"/>
                </a:lnTo>
                <a:lnTo>
                  <a:pt x="333" y="737"/>
                </a:lnTo>
                <a:lnTo>
                  <a:pt x="320" y="746"/>
                </a:lnTo>
                <a:lnTo>
                  <a:pt x="309" y="754"/>
                </a:lnTo>
                <a:lnTo>
                  <a:pt x="297" y="764"/>
                </a:lnTo>
                <a:lnTo>
                  <a:pt x="287" y="769"/>
                </a:lnTo>
                <a:lnTo>
                  <a:pt x="278" y="777"/>
                </a:lnTo>
                <a:lnTo>
                  <a:pt x="268" y="783"/>
                </a:lnTo>
                <a:lnTo>
                  <a:pt x="261" y="789"/>
                </a:lnTo>
                <a:lnTo>
                  <a:pt x="253" y="794"/>
                </a:lnTo>
                <a:lnTo>
                  <a:pt x="245" y="798"/>
                </a:lnTo>
                <a:lnTo>
                  <a:pt x="238" y="802"/>
                </a:lnTo>
                <a:lnTo>
                  <a:pt x="232" y="806"/>
                </a:lnTo>
                <a:lnTo>
                  <a:pt x="226" y="810"/>
                </a:lnTo>
                <a:lnTo>
                  <a:pt x="220" y="812"/>
                </a:lnTo>
                <a:lnTo>
                  <a:pt x="216" y="814"/>
                </a:lnTo>
                <a:lnTo>
                  <a:pt x="213" y="815"/>
                </a:lnTo>
                <a:lnTo>
                  <a:pt x="209" y="815"/>
                </a:lnTo>
                <a:lnTo>
                  <a:pt x="207" y="815"/>
                </a:lnTo>
                <a:lnTo>
                  <a:pt x="201" y="817"/>
                </a:lnTo>
                <a:lnTo>
                  <a:pt x="197" y="819"/>
                </a:lnTo>
                <a:lnTo>
                  <a:pt x="191" y="819"/>
                </a:lnTo>
                <a:lnTo>
                  <a:pt x="186" y="819"/>
                </a:lnTo>
                <a:lnTo>
                  <a:pt x="180" y="817"/>
                </a:lnTo>
                <a:lnTo>
                  <a:pt x="174" y="815"/>
                </a:lnTo>
                <a:lnTo>
                  <a:pt x="167" y="812"/>
                </a:lnTo>
                <a:lnTo>
                  <a:pt x="161" y="808"/>
                </a:lnTo>
                <a:lnTo>
                  <a:pt x="155" y="804"/>
                </a:lnTo>
                <a:lnTo>
                  <a:pt x="147" y="798"/>
                </a:lnTo>
                <a:lnTo>
                  <a:pt x="142" y="792"/>
                </a:lnTo>
                <a:lnTo>
                  <a:pt x="134" y="787"/>
                </a:lnTo>
                <a:lnTo>
                  <a:pt x="126" y="779"/>
                </a:lnTo>
                <a:lnTo>
                  <a:pt x="120" y="771"/>
                </a:lnTo>
                <a:lnTo>
                  <a:pt x="107" y="754"/>
                </a:lnTo>
                <a:lnTo>
                  <a:pt x="92" y="737"/>
                </a:lnTo>
                <a:lnTo>
                  <a:pt x="78" y="720"/>
                </a:lnTo>
                <a:lnTo>
                  <a:pt x="65" y="702"/>
                </a:lnTo>
                <a:lnTo>
                  <a:pt x="53" y="685"/>
                </a:lnTo>
                <a:lnTo>
                  <a:pt x="42" y="670"/>
                </a:lnTo>
                <a:lnTo>
                  <a:pt x="32" y="652"/>
                </a:lnTo>
                <a:lnTo>
                  <a:pt x="28" y="643"/>
                </a:lnTo>
                <a:lnTo>
                  <a:pt x="24" y="635"/>
                </a:lnTo>
                <a:lnTo>
                  <a:pt x="21" y="625"/>
                </a:lnTo>
                <a:lnTo>
                  <a:pt x="19" y="618"/>
                </a:lnTo>
                <a:lnTo>
                  <a:pt x="13" y="608"/>
                </a:lnTo>
                <a:lnTo>
                  <a:pt x="11" y="601"/>
                </a:lnTo>
                <a:lnTo>
                  <a:pt x="7" y="593"/>
                </a:lnTo>
                <a:lnTo>
                  <a:pt x="3" y="585"/>
                </a:lnTo>
                <a:lnTo>
                  <a:pt x="1" y="579"/>
                </a:lnTo>
                <a:lnTo>
                  <a:pt x="1" y="572"/>
                </a:lnTo>
                <a:lnTo>
                  <a:pt x="0" y="566"/>
                </a:lnTo>
                <a:lnTo>
                  <a:pt x="0" y="560"/>
                </a:lnTo>
                <a:lnTo>
                  <a:pt x="0" y="554"/>
                </a:lnTo>
                <a:lnTo>
                  <a:pt x="1" y="549"/>
                </a:lnTo>
                <a:lnTo>
                  <a:pt x="1" y="545"/>
                </a:lnTo>
                <a:lnTo>
                  <a:pt x="3" y="539"/>
                </a:lnTo>
                <a:lnTo>
                  <a:pt x="7" y="535"/>
                </a:lnTo>
                <a:lnTo>
                  <a:pt x="11" y="531"/>
                </a:lnTo>
                <a:lnTo>
                  <a:pt x="13" y="530"/>
                </a:lnTo>
                <a:lnTo>
                  <a:pt x="19" y="526"/>
                </a:lnTo>
                <a:lnTo>
                  <a:pt x="24" y="520"/>
                </a:lnTo>
                <a:lnTo>
                  <a:pt x="30" y="516"/>
                </a:lnTo>
                <a:lnTo>
                  <a:pt x="38" y="514"/>
                </a:lnTo>
                <a:lnTo>
                  <a:pt x="46" y="514"/>
                </a:lnTo>
                <a:lnTo>
                  <a:pt x="53" y="514"/>
                </a:lnTo>
                <a:lnTo>
                  <a:pt x="63" y="516"/>
                </a:lnTo>
                <a:lnTo>
                  <a:pt x="72" y="520"/>
                </a:lnTo>
                <a:lnTo>
                  <a:pt x="82" y="526"/>
                </a:lnTo>
                <a:lnTo>
                  <a:pt x="86" y="531"/>
                </a:lnTo>
                <a:lnTo>
                  <a:pt x="94" y="537"/>
                </a:lnTo>
                <a:lnTo>
                  <a:pt x="99" y="543"/>
                </a:lnTo>
                <a:lnTo>
                  <a:pt x="107" y="547"/>
                </a:lnTo>
                <a:lnTo>
                  <a:pt x="117" y="551"/>
                </a:lnTo>
                <a:lnTo>
                  <a:pt x="124" y="553"/>
                </a:lnTo>
                <a:lnTo>
                  <a:pt x="134" y="554"/>
                </a:lnTo>
                <a:lnTo>
                  <a:pt x="143" y="556"/>
                </a:lnTo>
                <a:lnTo>
                  <a:pt x="145" y="556"/>
                </a:lnTo>
                <a:lnTo>
                  <a:pt x="147" y="554"/>
                </a:lnTo>
                <a:lnTo>
                  <a:pt x="151" y="553"/>
                </a:lnTo>
                <a:lnTo>
                  <a:pt x="157" y="551"/>
                </a:lnTo>
                <a:lnTo>
                  <a:pt x="163" y="549"/>
                </a:lnTo>
                <a:lnTo>
                  <a:pt x="168" y="545"/>
                </a:lnTo>
                <a:lnTo>
                  <a:pt x="176" y="541"/>
                </a:lnTo>
                <a:lnTo>
                  <a:pt x="184" y="537"/>
                </a:lnTo>
                <a:lnTo>
                  <a:pt x="193" y="531"/>
                </a:lnTo>
                <a:lnTo>
                  <a:pt x="203" y="526"/>
                </a:lnTo>
                <a:lnTo>
                  <a:pt x="214" y="520"/>
                </a:lnTo>
                <a:lnTo>
                  <a:pt x="226" y="512"/>
                </a:lnTo>
                <a:lnTo>
                  <a:pt x="239" y="505"/>
                </a:lnTo>
                <a:lnTo>
                  <a:pt x="253" y="497"/>
                </a:lnTo>
                <a:lnTo>
                  <a:pt x="268" y="487"/>
                </a:lnTo>
                <a:lnTo>
                  <a:pt x="284" y="480"/>
                </a:lnTo>
                <a:lnTo>
                  <a:pt x="301" y="468"/>
                </a:lnTo>
                <a:lnTo>
                  <a:pt x="318" y="458"/>
                </a:lnTo>
                <a:lnTo>
                  <a:pt x="337" y="447"/>
                </a:lnTo>
                <a:lnTo>
                  <a:pt x="357" y="435"/>
                </a:lnTo>
                <a:lnTo>
                  <a:pt x="378" y="424"/>
                </a:lnTo>
                <a:lnTo>
                  <a:pt x="399" y="410"/>
                </a:lnTo>
                <a:lnTo>
                  <a:pt x="420" y="397"/>
                </a:lnTo>
                <a:lnTo>
                  <a:pt x="443" y="384"/>
                </a:lnTo>
                <a:lnTo>
                  <a:pt x="468" y="368"/>
                </a:lnTo>
                <a:lnTo>
                  <a:pt x="491" y="353"/>
                </a:lnTo>
                <a:lnTo>
                  <a:pt x="518" y="338"/>
                </a:lnTo>
                <a:lnTo>
                  <a:pt x="545" y="322"/>
                </a:lnTo>
                <a:lnTo>
                  <a:pt x="572" y="305"/>
                </a:lnTo>
                <a:lnTo>
                  <a:pt x="600" y="288"/>
                </a:lnTo>
                <a:lnTo>
                  <a:pt x="629" y="268"/>
                </a:lnTo>
                <a:lnTo>
                  <a:pt x="660" y="251"/>
                </a:lnTo>
                <a:lnTo>
                  <a:pt x="689" y="232"/>
                </a:lnTo>
                <a:lnTo>
                  <a:pt x="715" y="215"/>
                </a:lnTo>
                <a:lnTo>
                  <a:pt x="742" y="197"/>
                </a:lnTo>
                <a:lnTo>
                  <a:pt x="769" y="180"/>
                </a:lnTo>
                <a:lnTo>
                  <a:pt x="794" y="165"/>
                </a:lnTo>
                <a:lnTo>
                  <a:pt x="819" y="149"/>
                </a:lnTo>
                <a:lnTo>
                  <a:pt x="842" y="136"/>
                </a:lnTo>
                <a:lnTo>
                  <a:pt x="865" y="123"/>
                </a:lnTo>
                <a:lnTo>
                  <a:pt x="886" y="109"/>
                </a:lnTo>
                <a:lnTo>
                  <a:pt x="907" y="98"/>
                </a:lnTo>
                <a:lnTo>
                  <a:pt x="929" y="86"/>
                </a:lnTo>
                <a:lnTo>
                  <a:pt x="948" y="77"/>
                </a:lnTo>
                <a:lnTo>
                  <a:pt x="967" y="67"/>
                </a:lnTo>
                <a:lnTo>
                  <a:pt x="984" y="57"/>
                </a:lnTo>
                <a:lnTo>
                  <a:pt x="1000" y="50"/>
                </a:lnTo>
                <a:lnTo>
                  <a:pt x="1017" y="40"/>
                </a:lnTo>
                <a:lnTo>
                  <a:pt x="1030" y="34"/>
                </a:lnTo>
                <a:lnTo>
                  <a:pt x="1046" y="27"/>
                </a:lnTo>
                <a:lnTo>
                  <a:pt x="1059" y="21"/>
                </a:lnTo>
                <a:lnTo>
                  <a:pt x="1071" y="17"/>
                </a:lnTo>
                <a:lnTo>
                  <a:pt x="1082" y="11"/>
                </a:lnTo>
                <a:lnTo>
                  <a:pt x="1092" y="7"/>
                </a:lnTo>
                <a:lnTo>
                  <a:pt x="1101" y="5"/>
                </a:lnTo>
                <a:lnTo>
                  <a:pt x="1111" y="4"/>
                </a:lnTo>
                <a:lnTo>
                  <a:pt x="1119" y="2"/>
                </a:lnTo>
                <a:lnTo>
                  <a:pt x="1126" y="0"/>
                </a:lnTo>
                <a:lnTo>
                  <a:pt x="1132" y="0"/>
                </a:lnTo>
                <a:lnTo>
                  <a:pt x="1138" y="0"/>
                </a:lnTo>
                <a:lnTo>
                  <a:pt x="1142" y="0"/>
                </a:lnTo>
                <a:lnTo>
                  <a:pt x="1145" y="2"/>
                </a:lnTo>
                <a:lnTo>
                  <a:pt x="1147" y="4"/>
                </a:lnTo>
                <a:lnTo>
                  <a:pt x="1149" y="5"/>
                </a:lnTo>
                <a:lnTo>
                  <a:pt x="1151" y="15"/>
                </a:lnTo>
                <a:lnTo>
                  <a:pt x="1151" y="23"/>
                </a:lnTo>
                <a:lnTo>
                  <a:pt x="1151" y="32"/>
                </a:lnTo>
                <a:lnTo>
                  <a:pt x="1149" y="40"/>
                </a:lnTo>
                <a:lnTo>
                  <a:pt x="1145" y="50"/>
                </a:lnTo>
                <a:lnTo>
                  <a:pt x="1142" y="57"/>
                </a:lnTo>
                <a:lnTo>
                  <a:pt x="1136" y="67"/>
                </a:lnTo>
                <a:lnTo>
                  <a:pt x="1130" y="77"/>
                </a:lnTo>
                <a:lnTo>
                  <a:pt x="1122" y="86"/>
                </a:lnTo>
                <a:lnTo>
                  <a:pt x="1113" y="96"/>
                </a:lnTo>
                <a:lnTo>
                  <a:pt x="1103" y="105"/>
                </a:lnTo>
                <a:lnTo>
                  <a:pt x="1092" y="115"/>
                </a:lnTo>
                <a:lnTo>
                  <a:pt x="1080" y="125"/>
                </a:lnTo>
                <a:lnTo>
                  <a:pt x="1067" y="136"/>
                </a:lnTo>
                <a:lnTo>
                  <a:pt x="1051" y="148"/>
                </a:lnTo>
                <a:lnTo>
                  <a:pt x="1036" y="1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96"/>
          <p:cNvSpPr/>
          <p:nvPr/>
        </p:nvSpPr>
        <p:spPr>
          <a:xfrm>
            <a:off x="5857920" y="2817720"/>
            <a:ext cx="255600" cy="1766880"/>
          </a:xfrm>
          <a:custGeom>
            <a:avLst/>
            <a:gdLst/>
            <a:ahLst/>
            <a:rect l="l" t="t" r="r" b="b"/>
            <a:pathLst>
              <a:path w="320" h="2227">
                <a:moveTo>
                  <a:pt x="295" y="240"/>
                </a:moveTo>
                <a:lnTo>
                  <a:pt x="295" y="242"/>
                </a:lnTo>
                <a:lnTo>
                  <a:pt x="293" y="244"/>
                </a:lnTo>
                <a:lnTo>
                  <a:pt x="293" y="246"/>
                </a:lnTo>
                <a:lnTo>
                  <a:pt x="291" y="250"/>
                </a:lnTo>
                <a:lnTo>
                  <a:pt x="291" y="254"/>
                </a:lnTo>
                <a:lnTo>
                  <a:pt x="289" y="258"/>
                </a:lnTo>
                <a:lnTo>
                  <a:pt x="289" y="263"/>
                </a:lnTo>
                <a:lnTo>
                  <a:pt x="289" y="267"/>
                </a:lnTo>
                <a:lnTo>
                  <a:pt x="287" y="273"/>
                </a:lnTo>
                <a:lnTo>
                  <a:pt x="287" y="281"/>
                </a:lnTo>
                <a:lnTo>
                  <a:pt x="287" y="286"/>
                </a:lnTo>
                <a:lnTo>
                  <a:pt x="286" y="294"/>
                </a:lnTo>
                <a:lnTo>
                  <a:pt x="286" y="309"/>
                </a:lnTo>
                <a:lnTo>
                  <a:pt x="286" y="329"/>
                </a:lnTo>
                <a:lnTo>
                  <a:pt x="284" y="348"/>
                </a:lnTo>
                <a:lnTo>
                  <a:pt x="284" y="369"/>
                </a:lnTo>
                <a:lnTo>
                  <a:pt x="284" y="392"/>
                </a:lnTo>
                <a:lnTo>
                  <a:pt x="284" y="417"/>
                </a:lnTo>
                <a:lnTo>
                  <a:pt x="284" y="442"/>
                </a:lnTo>
                <a:lnTo>
                  <a:pt x="284" y="471"/>
                </a:lnTo>
                <a:lnTo>
                  <a:pt x="284" y="499"/>
                </a:lnTo>
                <a:lnTo>
                  <a:pt x="284" y="530"/>
                </a:lnTo>
                <a:lnTo>
                  <a:pt x="282" y="545"/>
                </a:lnTo>
                <a:lnTo>
                  <a:pt x="282" y="563"/>
                </a:lnTo>
                <a:lnTo>
                  <a:pt x="280" y="580"/>
                </a:lnTo>
                <a:lnTo>
                  <a:pt x="280" y="599"/>
                </a:lnTo>
                <a:lnTo>
                  <a:pt x="278" y="618"/>
                </a:lnTo>
                <a:lnTo>
                  <a:pt x="278" y="638"/>
                </a:lnTo>
                <a:lnTo>
                  <a:pt x="276" y="659"/>
                </a:lnTo>
                <a:lnTo>
                  <a:pt x="276" y="680"/>
                </a:lnTo>
                <a:lnTo>
                  <a:pt x="276" y="701"/>
                </a:lnTo>
                <a:lnTo>
                  <a:pt x="274" y="724"/>
                </a:lnTo>
                <a:lnTo>
                  <a:pt x="274" y="747"/>
                </a:lnTo>
                <a:lnTo>
                  <a:pt x="274" y="772"/>
                </a:lnTo>
                <a:lnTo>
                  <a:pt x="274" y="795"/>
                </a:lnTo>
                <a:lnTo>
                  <a:pt x="272" y="822"/>
                </a:lnTo>
                <a:lnTo>
                  <a:pt x="272" y="847"/>
                </a:lnTo>
                <a:lnTo>
                  <a:pt x="272" y="874"/>
                </a:lnTo>
                <a:lnTo>
                  <a:pt x="272" y="902"/>
                </a:lnTo>
                <a:lnTo>
                  <a:pt x="272" y="929"/>
                </a:lnTo>
                <a:lnTo>
                  <a:pt x="272" y="960"/>
                </a:lnTo>
                <a:lnTo>
                  <a:pt x="272" y="989"/>
                </a:lnTo>
                <a:lnTo>
                  <a:pt x="272" y="1020"/>
                </a:lnTo>
                <a:lnTo>
                  <a:pt x="270" y="1050"/>
                </a:lnTo>
                <a:lnTo>
                  <a:pt x="270" y="1083"/>
                </a:lnTo>
                <a:lnTo>
                  <a:pt x="270" y="1116"/>
                </a:lnTo>
                <a:lnTo>
                  <a:pt x="270" y="1148"/>
                </a:lnTo>
                <a:lnTo>
                  <a:pt x="270" y="1183"/>
                </a:lnTo>
                <a:lnTo>
                  <a:pt x="270" y="1217"/>
                </a:lnTo>
                <a:lnTo>
                  <a:pt x="270" y="1252"/>
                </a:lnTo>
                <a:lnTo>
                  <a:pt x="270" y="1288"/>
                </a:lnTo>
                <a:lnTo>
                  <a:pt x="270" y="1325"/>
                </a:lnTo>
                <a:lnTo>
                  <a:pt x="270" y="1363"/>
                </a:lnTo>
                <a:lnTo>
                  <a:pt x="270" y="1402"/>
                </a:lnTo>
                <a:lnTo>
                  <a:pt x="270" y="1440"/>
                </a:lnTo>
                <a:lnTo>
                  <a:pt x="268" y="1476"/>
                </a:lnTo>
                <a:lnTo>
                  <a:pt x="268" y="1513"/>
                </a:lnTo>
                <a:lnTo>
                  <a:pt x="266" y="1549"/>
                </a:lnTo>
                <a:lnTo>
                  <a:pt x="266" y="1582"/>
                </a:lnTo>
                <a:lnTo>
                  <a:pt x="264" y="1617"/>
                </a:lnTo>
                <a:lnTo>
                  <a:pt x="264" y="1649"/>
                </a:lnTo>
                <a:lnTo>
                  <a:pt x="263" y="1680"/>
                </a:lnTo>
                <a:lnTo>
                  <a:pt x="263" y="1711"/>
                </a:lnTo>
                <a:lnTo>
                  <a:pt x="263" y="1739"/>
                </a:lnTo>
                <a:lnTo>
                  <a:pt x="261" y="1768"/>
                </a:lnTo>
                <a:lnTo>
                  <a:pt x="261" y="1795"/>
                </a:lnTo>
                <a:lnTo>
                  <a:pt x="261" y="1822"/>
                </a:lnTo>
                <a:lnTo>
                  <a:pt x="259" y="1847"/>
                </a:lnTo>
                <a:lnTo>
                  <a:pt x="259" y="1872"/>
                </a:lnTo>
                <a:lnTo>
                  <a:pt x="259" y="1895"/>
                </a:lnTo>
                <a:lnTo>
                  <a:pt x="257" y="1918"/>
                </a:lnTo>
                <a:lnTo>
                  <a:pt x="257" y="1939"/>
                </a:lnTo>
                <a:lnTo>
                  <a:pt x="257" y="1958"/>
                </a:lnTo>
                <a:lnTo>
                  <a:pt x="255" y="1979"/>
                </a:lnTo>
                <a:lnTo>
                  <a:pt x="255" y="1997"/>
                </a:lnTo>
                <a:lnTo>
                  <a:pt x="255" y="2014"/>
                </a:lnTo>
                <a:lnTo>
                  <a:pt x="253" y="2031"/>
                </a:lnTo>
                <a:lnTo>
                  <a:pt x="253" y="2046"/>
                </a:lnTo>
                <a:lnTo>
                  <a:pt x="253" y="2062"/>
                </a:lnTo>
                <a:lnTo>
                  <a:pt x="251" y="2075"/>
                </a:lnTo>
                <a:lnTo>
                  <a:pt x="251" y="2087"/>
                </a:lnTo>
                <a:lnTo>
                  <a:pt x="249" y="2098"/>
                </a:lnTo>
                <a:lnTo>
                  <a:pt x="249" y="2110"/>
                </a:lnTo>
                <a:lnTo>
                  <a:pt x="247" y="2119"/>
                </a:lnTo>
                <a:lnTo>
                  <a:pt x="247" y="2127"/>
                </a:lnTo>
                <a:lnTo>
                  <a:pt x="245" y="2135"/>
                </a:lnTo>
                <a:lnTo>
                  <a:pt x="215" y="2158"/>
                </a:lnTo>
                <a:lnTo>
                  <a:pt x="182" y="2181"/>
                </a:lnTo>
                <a:lnTo>
                  <a:pt x="151" y="2204"/>
                </a:lnTo>
                <a:lnTo>
                  <a:pt x="121" y="2227"/>
                </a:lnTo>
                <a:lnTo>
                  <a:pt x="121" y="2133"/>
                </a:lnTo>
                <a:lnTo>
                  <a:pt x="121" y="2043"/>
                </a:lnTo>
                <a:lnTo>
                  <a:pt x="121" y="1954"/>
                </a:lnTo>
                <a:lnTo>
                  <a:pt x="119" y="1868"/>
                </a:lnTo>
                <a:lnTo>
                  <a:pt x="119" y="1783"/>
                </a:lnTo>
                <a:lnTo>
                  <a:pt x="119" y="1703"/>
                </a:lnTo>
                <a:lnTo>
                  <a:pt x="119" y="1624"/>
                </a:lnTo>
                <a:lnTo>
                  <a:pt x="119" y="1547"/>
                </a:lnTo>
                <a:lnTo>
                  <a:pt x="117" y="1473"/>
                </a:lnTo>
                <a:lnTo>
                  <a:pt x="117" y="1402"/>
                </a:lnTo>
                <a:lnTo>
                  <a:pt x="117" y="1332"/>
                </a:lnTo>
                <a:lnTo>
                  <a:pt x="115" y="1265"/>
                </a:lnTo>
                <a:lnTo>
                  <a:pt x="115" y="1200"/>
                </a:lnTo>
                <a:lnTo>
                  <a:pt x="113" y="1139"/>
                </a:lnTo>
                <a:lnTo>
                  <a:pt x="113" y="1079"/>
                </a:lnTo>
                <a:lnTo>
                  <a:pt x="113" y="1021"/>
                </a:lnTo>
                <a:lnTo>
                  <a:pt x="111" y="966"/>
                </a:lnTo>
                <a:lnTo>
                  <a:pt x="111" y="914"/>
                </a:lnTo>
                <a:lnTo>
                  <a:pt x="109" y="864"/>
                </a:lnTo>
                <a:lnTo>
                  <a:pt x="109" y="816"/>
                </a:lnTo>
                <a:lnTo>
                  <a:pt x="107" y="770"/>
                </a:lnTo>
                <a:lnTo>
                  <a:pt x="105" y="726"/>
                </a:lnTo>
                <a:lnTo>
                  <a:pt x="105" y="686"/>
                </a:lnTo>
                <a:lnTo>
                  <a:pt x="103" y="647"/>
                </a:lnTo>
                <a:lnTo>
                  <a:pt x="103" y="611"/>
                </a:lnTo>
                <a:lnTo>
                  <a:pt x="101" y="576"/>
                </a:lnTo>
                <a:lnTo>
                  <a:pt x="101" y="545"/>
                </a:lnTo>
                <a:lnTo>
                  <a:pt x="99" y="517"/>
                </a:lnTo>
                <a:lnTo>
                  <a:pt x="97" y="490"/>
                </a:lnTo>
                <a:lnTo>
                  <a:pt x="97" y="465"/>
                </a:lnTo>
                <a:lnTo>
                  <a:pt x="96" y="444"/>
                </a:lnTo>
                <a:lnTo>
                  <a:pt x="96" y="423"/>
                </a:lnTo>
                <a:lnTo>
                  <a:pt x="94" y="405"/>
                </a:lnTo>
                <a:lnTo>
                  <a:pt x="92" y="386"/>
                </a:lnTo>
                <a:lnTo>
                  <a:pt x="92" y="369"/>
                </a:lnTo>
                <a:lnTo>
                  <a:pt x="90" y="354"/>
                </a:lnTo>
                <a:lnTo>
                  <a:pt x="88" y="336"/>
                </a:lnTo>
                <a:lnTo>
                  <a:pt x="86" y="321"/>
                </a:lnTo>
                <a:lnTo>
                  <a:pt x="84" y="306"/>
                </a:lnTo>
                <a:lnTo>
                  <a:pt x="84" y="292"/>
                </a:lnTo>
                <a:lnTo>
                  <a:pt x="82" y="277"/>
                </a:lnTo>
                <a:lnTo>
                  <a:pt x="80" y="263"/>
                </a:lnTo>
                <a:lnTo>
                  <a:pt x="78" y="250"/>
                </a:lnTo>
                <a:lnTo>
                  <a:pt x="76" y="238"/>
                </a:lnTo>
                <a:lnTo>
                  <a:pt x="74" y="225"/>
                </a:lnTo>
                <a:lnTo>
                  <a:pt x="73" y="213"/>
                </a:lnTo>
                <a:lnTo>
                  <a:pt x="71" y="202"/>
                </a:lnTo>
                <a:lnTo>
                  <a:pt x="69" y="192"/>
                </a:lnTo>
                <a:lnTo>
                  <a:pt x="67" y="183"/>
                </a:lnTo>
                <a:lnTo>
                  <a:pt x="63" y="173"/>
                </a:lnTo>
                <a:lnTo>
                  <a:pt x="61" y="164"/>
                </a:lnTo>
                <a:lnTo>
                  <a:pt x="59" y="154"/>
                </a:lnTo>
                <a:lnTo>
                  <a:pt x="55" y="139"/>
                </a:lnTo>
                <a:lnTo>
                  <a:pt x="49" y="125"/>
                </a:lnTo>
                <a:lnTo>
                  <a:pt x="46" y="112"/>
                </a:lnTo>
                <a:lnTo>
                  <a:pt x="42" y="102"/>
                </a:lnTo>
                <a:lnTo>
                  <a:pt x="36" y="94"/>
                </a:lnTo>
                <a:lnTo>
                  <a:pt x="32" y="87"/>
                </a:lnTo>
                <a:lnTo>
                  <a:pt x="25" y="83"/>
                </a:lnTo>
                <a:lnTo>
                  <a:pt x="19" y="81"/>
                </a:lnTo>
                <a:lnTo>
                  <a:pt x="15" y="77"/>
                </a:lnTo>
                <a:lnTo>
                  <a:pt x="11" y="73"/>
                </a:lnTo>
                <a:lnTo>
                  <a:pt x="7" y="68"/>
                </a:lnTo>
                <a:lnTo>
                  <a:pt x="3" y="64"/>
                </a:lnTo>
                <a:lnTo>
                  <a:pt x="1" y="60"/>
                </a:lnTo>
                <a:lnTo>
                  <a:pt x="1" y="54"/>
                </a:lnTo>
                <a:lnTo>
                  <a:pt x="0" y="48"/>
                </a:lnTo>
                <a:lnTo>
                  <a:pt x="0" y="45"/>
                </a:lnTo>
                <a:lnTo>
                  <a:pt x="0" y="39"/>
                </a:lnTo>
                <a:lnTo>
                  <a:pt x="0" y="33"/>
                </a:lnTo>
                <a:lnTo>
                  <a:pt x="3" y="21"/>
                </a:lnTo>
                <a:lnTo>
                  <a:pt x="7" y="10"/>
                </a:lnTo>
                <a:lnTo>
                  <a:pt x="9" y="8"/>
                </a:lnTo>
                <a:lnTo>
                  <a:pt x="13" y="6"/>
                </a:lnTo>
                <a:lnTo>
                  <a:pt x="19" y="4"/>
                </a:lnTo>
                <a:lnTo>
                  <a:pt x="23" y="2"/>
                </a:lnTo>
                <a:lnTo>
                  <a:pt x="30" y="0"/>
                </a:lnTo>
                <a:lnTo>
                  <a:pt x="38" y="0"/>
                </a:lnTo>
                <a:lnTo>
                  <a:pt x="46" y="0"/>
                </a:lnTo>
                <a:lnTo>
                  <a:pt x="55" y="0"/>
                </a:lnTo>
                <a:lnTo>
                  <a:pt x="67" y="2"/>
                </a:lnTo>
                <a:lnTo>
                  <a:pt x="78" y="2"/>
                </a:lnTo>
                <a:lnTo>
                  <a:pt x="90" y="6"/>
                </a:lnTo>
                <a:lnTo>
                  <a:pt x="103" y="8"/>
                </a:lnTo>
                <a:lnTo>
                  <a:pt x="119" y="12"/>
                </a:lnTo>
                <a:lnTo>
                  <a:pt x="134" y="16"/>
                </a:lnTo>
                <a:lnTo>
                  <a:pt x="151" y="20"/>
                </a:lnTo>
                <a:lnTo>
                  <a:pt x="170" y="25"/>
                </a:lnTo>
                <a:lnTo>
                  <a:pt x="186" y="35"/>
                </a:lnTo>
                <a:lnTo>
                  <a:pt x="201" y="43"/>
                </a:lnTo>
                <a:lnTo>
                  <a:pt x="215" y="50"/>
                </a:lnTo>
                <a:lnTo>
                  <a:pt x="228" y="58"/>
                </a:lnTo>
                <a:lnTo>
                  <a:pt x="241" y="66"/>
                </a:lnTo>
                <a:lnTo>
                  <a:pt x="253" y="73"/>
                </a:lnTo>
                <a:lnTo>
                  <a:pt x="264" y="81"/>
                </a:lnTo>
                <a:lnTo>
                  <a:pt x="274" y="87"/>
                </a:lnTo>
                <a:lnTo>
                  <a:pt x="284" y="94"/>
                </a:lnTo>
                <a:lnTo>
                  <a:pt x="291" y="102"/>
                </a:lnTo>
                <a:lnTo>
                  <a:pt x="299" y="108"/>
                </a:lnTo>
                <a:lnTo>
                  <a:pt x="305" y="116"/>
                </a:lnTo>
                <a:lnTo>
                  <a:pt x="311" y="123"/>
                </a:lnTo>
                <a:lnTo>
                  <a:pt x="314" y="131"/>
                </a:lnTo>
                <a:lnTo>
                  <a:pt x="318" y="140"/>
                </a:lnTo>
                <a:lnTo>
                  <a:pt x="320" y="148"/>
                </a:lnTo>
                <a:lnTo>
                  <a:pt x="320" y="165"/>
                </a:lnTo>
                <a:lnTo>
                  <a:pt x="318" y="179"/>
                </a:lnTo>
                <a:lnTo>
                  <a:pt x="316" y="192"/>
                </a:lnTo>
                <a:lnTo>
                  <a:pt x="312" y="206"/>
                </a:lnTo>
                <a:lnTo>
                  <a:pt x="309" y="215"/>
                </a:lnTo>
                <a:lnTo>
                  <a:pt x="305" y="225"/>
                </a:lnTo>
                <a:lnTo>
                  <a:pt x="301" y="233"/>
                </a:lnTo>
                <a:lnTo>
                  <a:pt x="295" y="2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97"/>
          <p:cNvSpPr/>
          <p:nvPr/>
        </p:nvSpPr>
        <p:spPr>
          <a:xfrm>
            <a:off x="5614920" y="3565440"/>
            <a:ext cx="747720" cy="303120"/>
          </a:xfrm>
          <a:custGeom>
            <a:avLst/>
            <a:gdLst/>
            <a:ahLst/>
            <a:rect l="l" t="t" r="r" b="b"/>
            <a:pathLst>
              <a:path w="943" h="382">
                <a:moveTo>
                  <a:pt x="943" y="123"/>
                </a:moveTo>
                <a:lnTo>
                  <a:pt x="943" y="126"/>
                </a:lnTo>
                <a:lnTo>
                  <a:pt x="941" y="130"/>
                </a:lnTo>
                <a:lnTo>
                  <a:pt x="939" y="136"/>
                </a:lnTo>
                <a:lnTo>
                  <a:pt x="937" y="140"/>
                </a:lnTo>
                <a:lnTo>
                  <a:pt x="933" y="144"/>
                </a:lnTo>
                <a:lnTo>
                  <a:pt x="929" y="148"/>
                </a:lnTo>
                <a:lnTo>
                  <a:pt x="926" y="153"/>
                </a:lnTo>
                <a:lnTo>
                  <a:pt x="920" y="157"/>
                </a:lnTo>
                <a:lnTo>
                  <a:pt x="914" y="161"/>
                </a:lnTo>
                <a:lnTo>
                  <a:pt x="906" y="165"/>
                </a:lnTo>
                <a:lnTo>
                  <a:pt x="899" y="171"/>
                </a:lnTo>
                <a:lnTo>
                  <a:pt x="891" y="174"/>
                </a:lnTo>
                <a:lnTo>
                  <a:pt x="881" y="178"/>
                </a:lnTo>
                <a:lnTo>
                  <a:pt x="872" y="184"/>
                </a:lnTo>
                <a:lnTo>
                  <a:pt x="860" y="188"/>
                </a:lnTo>
                <a:lnTo>
                  <a:pt x="851" y="192"/>
                </a:lnTo>
                <a:lnTo>
                  <a:pt x="837" y="197"/>
                </a:lnTo>
                <a:lnTo>
                  <a:pt x="826" y="201"/>
                </a:lnTo>
                <a:lnTo>
                  <a:pt x="812" y="207"/>
                </a:lnTo>
                <a:lnTo>
                  <a:pt x="799" y="211"/>
                </a:lnTo>
                <a:lnTo>
                  <a:pt x="784" y="217"/>
                </a:lnTo>
                <a:lnTo>
                  <a:pt x="768" y="221"/>
                </a:lnTo>
                <a:lnTo>
                  <a:pt x="753" y="226"/>
                </a:lnTo>
                <a:lnTo>
                  <a:pt x="736" y="232"/>
                </a:lnTo>
                <a:lnTo>
                  <a:pt x="718" y="236"/>
                </a:lnTo>
                <a:lnTo>
                  <a:pt x="701" y="242"/>
                </a:lnTo>
                <a:lnTo>
                  <a:pt x="682" y="247"/>
                </a:lnTo>
                <a:lnTo>
                  <a:pt x="663" y="253"/>
                </a:lnTo>
                <a:lnTo>
                  <a:pt x="643" y="259"/>
                </a:lnTo>
                <a:lnTo>
                  <a:pt x="622" y="265"/>
                </a:lnTo>
                <a:lnTo>
                  <a:pt x="601" y="270"/>
                </a:lnTo>
                <a:lnTo>
                  <a:pt x="578" y="276"/>
                </a:lnTo>
                <a:lnTo>
                  <a:pt x="555" y="282"/>
                </a:lnTo>
                <a:lnTo>
                  <a:pt x="532" y="290"/>
                </a:lnTo>
                <a:lnTo>
                  <a:pt x="511" y="295"/>
                </a:lnTo>
                <a:lnTo>
                  <a:pt x="490" y="303"/>
                </a:lnTo>
                <a:lnTo>
                  <a:pt x="469" y="309"/>
                </a:lnTo>
                <a:lnTo>
                  <a:pt x="450" y="315"/>
                </a:lnTo>
                <a:lnTo>
                  <a:pt x="430" y="320"/>
                </a:lnTo>
                <a:lnTo>
                  <a:pt x="411" y="324"/>
                </a:lnTo>
                <a:lnTo>
                  <a:pt x="394" y="330"/>
                </a:lnTo>
                <a:lnTo>
                  <a:pt x="377" y="334"/>
                </a:lnTo>
                <a:lnTo>
                  <a:pt x="359" y="340"/>
                </a:lnTo>
                <a:lnTo>
                  <a:pt x="344" y="343"/>
                </a:lnTo>
                <a:lnTo>
                  <a:pt x="327" y="347"/>
                </a:lnTo>
                <a:lnTo>
                  <a:pt x="313" y="351"/>
                </a:lnTo>
                <a:lnTo>
                  <a:pt x="298" y="355"/>
                </a:lnTo>
                <a:lnTo>
                  <a:pt x="285" y="359"/>
                </a:lnTo>
                <a:lnTo>
                  <a:pt x="273" y="361"/>
                </a:lnTo>
                <a:lnTo>
                  <a:pt x="260" y="364"/>
                </a:lnTo>
                <a:lnTo>
                  <a:pt x="248" y="366"/>
                </a:lnTo>
                <a:lnTo>
                  <a:pt x="237" y="368"/>
                </a:lnTo>
                <a:lnTo>
                  <a:pt x="227" y="370"/>
                </a:lnTo>
                <a:lnTo>
                  <a:pt x="217" y="372"/>
                </a:lnTo>
                <a:lnTo>
                  <a:pt x="208" y="374"/>
                </a:lnTo>
                <a:lnTo>
                  <a:pt x="198" y="376"/>
                </a:lnTo>
                <a:lnTo>
                  <a:pt x="190" y="378"/>
                </a:lnTo>
                <a:lnTo>
                  <a:pt x="183" y="380"/>
                </a:lnTo>
                <a:lnTo>
                  <a:pt x="177" y="380"/>
                </a:lnTo>
                <a:lnTo>
                  <a:pt x="171" y="382"/>
                </a:lnTo>
                <a:lnTo>
                  <a:pt x="166" y="382"/>
                </a:lnTo>
                <a:lnTo>
                  <a:pt x="160" y="382"/>
                </a:lnTo>
                <a:lnTo>
                  <a:pt x="156" y="382"/>
                </a:lnTo>
                <a:lnTo>
                  <a:pt x="152" y="382"/>
                </a:lnTo>
                <a:lnTo>
                  <a:pt x="139" y="382"/>
                </a:lnTo>
                <a:lnTo>
                  <a:pt x="125" y="380"/>
                </a:lnTo>
                <a:lnTo>
                  <a:pt x="114" y="376"/>
                </a:lnTo>
                <a:lnTo>
                  <a:pt x="100" y="370"/>
                </a:lnTo>
                <a:lnTo>
                  <a:pt x="89" y="364"/>
                </a:lnTo>
                <a:lnTo>
                  <a:pt x="77" y="357"/>
                </a:lnTo>
                <a:lnTo>
                  <a:pt x="64" y="347"/>
                </a:lnTo>
                <a:lnTo>
                  <a:pt x="50" y="336"/>
                </a:lnTo>
                <a:lnTo>
                  <a:pt x="45" y="334"/>
                </a:lnTo>
                <a:lnTo>
                  <a:pt x="39" y="330"/>
                </a:lnTo>
                <a:lnTo>
                  <a:pt x="33" y="326"/>
                </a:lnTo>
                <a:lnTo>
                  <a:pt x="27" y="322"/>
                </a:lnTo>
                <a:lnTo>
                  <a:pt x="24" y="318"/>
                </a:lnTo>
                <a:lnTo>
                  <a:pt x="18" y="315"/>
                </a:lnTo>
                <a:lnTo>
                  <a:pt x="12" y="305"/>
                </a:lnTo>
                <a:lnTo>
                  <a:pt x="6" y="297"/>
                </a:lnTo>
                <a:lnTo>
                  <a:pt x="4" y="290"/>
                </a:lnTo>
                <a:lnTo>
                  <a:pt x="2" y="282"/>
                </a:lnTo>
                <a:lnTo>
                  <a:pt x="0" y="276"/>
                </a:lnTo>
                <a:lnTo>
                  <a:pt x="0" y="274"/>
                </a:lnTo>
                <a:lnTo>
                  <a:pt x="2" y="272"/>
                </a:lnTo>
                <a:lnTo>
                  <a:pt x="4" y="270"/>
                </a:lnTo>
                <a:lnTo>
                  <a:pt x="6" y="269"/>
                </a:lnTo>
                <a:lnTo>
                  <a:pt x="10" y="267"/>
                </a:lnTo>
                <a:lnTo>
                  <a:pt x="14" y="263"/>
                </a:lnTo>
                <a:lnTo>
                  <a:pt x="20" y="261"/>
                </a:lnTo>
                <a:lnTo>
                  <a:pt x="25" y="259"/>
                </a:lnTo>
                <a:lnTo>
                  <a:pt x="31" y="255"/>
                </a:lnTo>
                <a:lnTo>
                  <a:pt x="39" y="251"/>
                </a:lnTo>
                <a:lnTo>
                  <a:pt x="47" y="249"/>
                </a:lnTo>
                <a:lnTo>
                  <a:pt x="54" y="245"/>
                </a:lnTo>
                <a:lnTo>
                  <a:pt x="64" y="242"/>
                </a:lnTo>
                <a:lnTo>
                  <a:pt x="73" y="238"/>
                </a:lnTo>
                <a:lnTo>
                  <a:pt x="85" y="232"/>
                </a:lnTo>
                <a:lnTo>
                  <a:pt x="96" y="228"/>
                </a:lnTo>
                <a:lnTo>
                  <a:pt x="110" y="222"/>
                </a:lnTo>
                <a:lnTo>
                  <a:pt x="123" y="219"/>
                </a:lnTo>
                <a:lnTo>
                  <a:pt x="137" y="213"/>
                </a:lnTo>
                <a:lnTo>
                  <a:pt x="152" y="207"/>
                </a:lnTo>
                <a:lnTo>
                  <a:pt x="167" y="201"/>
                </a:lnTo>
                <a:lnTo>
                  <a:pt x="183" y="196"/>
                </a:lnTo>
                <a:lnTo>
                  <a:pt x="200" y="190"/>
                </a:lnTo>
                <a:lnTo>
                  <a:pt x="219" y="184"/>
                </a:lnTo>
                <a:lnTo>
                  <a:pt x="237" y="176"/>
                </a:lnTo>
                <a:lnTo>
                  <a:pt x="256" y="171"/>
                </a:lnTo>
                <a:lnTo>
                  <a:pt x="277" y="163"/>
                </a:lnTo>
                <a:lnTo>
                  <a:pt x="298" y="155"/>
                </a:lnTo>
                <a:lnTo>
                  <a:pt x="319" y="148"/>
                </a:lnTo>
                <a:lnTo>
                  <a:pt x="342" y="140"/>
                </a:lnTo>
                <a:lnTo>
                  <a:pt x="365" y="130"/>
                </a:lnTo>
                <a:lnTo>
                  <a:pt x="390" y="123"/>
                </a:lnTo>
                <a:lnTo>
                  <a:pt x="413" y="115"/>
                </a:lnTo>
                <a:lnTo>
                  <a:pt x="436" y="107"/>
                </a:lnTo>
                <a:lnTo>
                  <a:pt x="457" y="102"/>
                </a:lnTo>
                <a:lnTo>
                  <a:pt x="478" y="94"/>
                </a:lnTo>
                <a:lnTo>
                  <a:pt x="500" y="88"/>
                </a:lnTo>
                <a:lnTo>
                  <a:pt x="519" y="82"/>
                </a:lnTo>
                <a:lnTo>
                  <a:pt x="538" y="77"/>
                </a:lnTo>
                <a:lnTo>
                  <a:pt x="557" y="71"/>
                </a:lnTo>
                <a:lnTo>
                  <a:pt x="574" y="65"/>
                </a:lnTo>
                <a:lnTo>
                  <a:pt x="592" y="59"/>
                </a:lnTo>
                <a:lnTo>
                  <a:pt x="609" y="54"/>
                </a:lnTo>
                <a:lnTo>
                  <a:pt x="624" y="50"/>
                </a:lnTo>
                <a:lnTo>
                  <a:pt x="640" y="44"/>
                </a:lnTo>
                <a:lnTo>
                  <a:pt x="655" y="40"/>
                </a:lnTo>
                <a:lnTo>
                  <a:pt x="668" y="36"/>
                </a:lnTo>
                <a:lnTo>
                  <a:pt x="682" y="32"/>
                </a:lnTo>
                <a:lnTo>
                  <a:pt x="695" y="29"/>
                </a:lnTo>
                <a:lnTo>
                  <a:pt x="707" y="25"/>
                </a:lnTo>
                <a:lnTo>
                  <a:pt x="718" y="21"/>
                </a:lnTo>
                <a:lnTo>
                  <a:pt x="728" y="19"/>
                </a:lnTo>
                <a:lnTo>
                  <a:pt x="739" y="15"/>
                </a:lnTo>
                <a:lnTo>
                  <a:pt x="747" y="13"/>
                </a:lnTo>
                <a:lnTo>
                  <a:pt x="757" y="9"/>
                </a:lnTo>
                <a:lnTo>
                  <a:pt x="764" y="7"/>
                </a:lnTo>
                <a:lnTo>
                  <a:pt x="772" y="6"/>
                </a:lnTo>
                <a:lnTo>
                  <a:pt x="778" y="4"/>
                </a:lnTo>
                <a:lnTo>
                  <a:pt x="786" y="4"/>
                </a:lnTo>
                <a:lnTo>
                  <a:pt x="789" y="2"/>
                </a:lnTo>
                <a:lnTo>
                  <a:pt x="795" y="2"/>
                </a:lnTo>
                <a:lnTo>
                  <a:pt x="799" y="0"/>
                </a:lnTo>
                <a:lnTo>
                  <a:pt x="803" y="0"/>
                </a:lnTo>
                <a:lnTo>
                  <a:pt x="805" y="0"/>
                </a:lnTo>
                <a:lnTo>
                  <a:pt x="824" y="0"/>
                </a:lnTo>
                <a:lnTo>
                  <a:pt x="834" y="0"/>
                </a:lnTo>
                <a:lnTo>
                  <a:pt x="843" y="2"/>
                </a:lnTo>
                <a:lnTo>
                  <a:pt x="855" y="4"/>
                </a:lnTo>
                <a:lnTo>
                  <a:pt x="866" y="6"/>
                </a:lnTo>
                <a:lnTo>
                  <a:pt x="880" y="9"/>
                </a:lnTo>
                <a:lnTo>
                  <a:pt x="893" y="15"/>
                </a:lnTo>
                <a:lnTo>
                  <a:pt x="899" y="19"/>
                </a:lnTo>
                <a:lnTo>
                  <a:pt x="905" y="23"/>
                </a:lnTo>
                <a:lnTo>
                  <a:pt x="910" y="27"/>
                </a:lnTo>
                <a:lnTo>
                  <a:pt x="916" y="32"/>
                </a:lnTo>
                <a:lnTo>
                  <a:pt x="920" y="38"/>
                </a:lnTo>
                <a:lnTo>
                  <a:pt x="926" y="44"/>
                </a:lnTo>
                <a:lnTo>
                  <a:pt x="931" y="57"/>
                </a:lnTo>
                <a:lnTo>
                  <a:pt x="937" y="73"/>
                </a:lnTo>
                <a:lnTo>
                  <a:pt x="941" y="88"/>
                </a:lnTo>
                <a:lnTo>
                  <a:pt x="943" y="105"/>
                </a:lnTo>
                <a:lnTo>
                  <a:pt x="943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2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14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石”较窄偏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84"/>
          <p:cNvSpPr/>
          <p:nvPr/>
        </p:nvSpPr>
        <p:spPr>
          <a:xfrm>
            <a:off x="7015320" y="3268800"/>
            <a:ext cx="734760" cy="1736640"/>
          </a:xfrm>
          <a:custGeom>
            <a:avLst/>
            <a:gdLst/>
            <a:ahLst/>
            <a:rect l="l" t="t" r="r" b="b"/>
            <a:pathLst>
              <a:path w="925" h="2188">
                <a:moveTo>
                  <a:pt x="839" y="593"/>
                </a:moveTo>
                <a:lnTo>
                  <a:pt x="837" y="634"/>
                </a:lnTo>
                <a:lnTo>
                  <a:pt x="833" y="678"/>
                </a:lnTo>
                <a:lnTo>
                  <a:pt x="831" y="722"/>
                </a:lnTo>
                <a:lnTo>
                  <a:pt x="827" y="768"/>
                </a:lnTo>
                <a:lnTo>
                  <a:pt x="824" y="814"/>
                </a:lnTo>
                <a:lnTo>
                  <a:pt x="820" y="864"/>
                </a:lnTo>
                <a:lnTo>
                  <a:pt x="814" y="914"/>
                </a:lnTo>
                <a:lnTo>
                  <a:pt x="808" y="964"/>
                </a:lnTo>
                <a:lnTo>
                  <a:pt x="803" y="1016"/>
                </a:lnTo>
                <a:lnTo>
                  <a:pt x="797" y="1069"/>
                </a:lnTo>
                <a:lnTo>
                  <a:pt x="789" y="1125"/>
                </a:lnTo>
                <a:lnTo>
                  <a:pt x="781" y="1181"/>
                </a:lnTo>
                <a:lnTo>
                  <a:pt x="774" y="1238"/>
                </a:lnTo>
                <a:lnTo>
                  <a:pt x="764" y="1296"/>
                </a:lnTo>
                <a:lnTo>
                  <a:pt x="755" y="1357"/>
                </a:lnTo>
                <a:lnTo>
                  <a:pt x="745" y="1419"/>
                </a:lnTo>
                <a:lnTo>
                  <a:pt x="739" y="1449"/>
                </a:lnTo>
                <a:lnTo>
                  <a:pt x="733" y="1480"/>
                </a:lnTo>
                <a:lnTo>
                  <a:pt x="728" y="1511"/>
                </a:lnTo>
                <a:lnTo>
                  <a:pt x="722" y="1540"/>
                </a:lnTo>
                <a:lnTo>
                  <a:pt x="716" y="1568"/>
                </a:lnTo>
                <a:lnTo>
                  <a:pt x="710" y="1597"/>
                </a:lnTo>
                <a:lnTo>
                  <a:pt x="705" y="1624"/>
                </a:lnTo>
                <a:lnTo>
                  <a:pt x="699" y="1651"/>
                </a:lnTo>
                <a:lnTo>
                  <a:pt x="693" y="1676"/>
                </a:lnTo>
                <a:lnTo>
                  <a:pt x="687" y="1701"/>
                </a:lnTo>
                <a:lnTo>
                  <a:pt x="682" y="1724"/>
                </a:lnTo>
                <a:lnTo>
                  <a:pt x="676" y="1747"/>
                </a:lnTo>
                <a:lnTo>
                  <a:pt x="668" y="1770"/>
                </a:lnTo>
                <a:lnTo>
                  <a:pt x="662" y="1791"/>
                </a:lnTo>
                <a:lnTo>
                  <a:pt x="657" y="1812"/>
                </a:lnTo>
                <a:lnTo>
                  <a:pt x="651" y="1831"/>
                </a:lnTo>
                <a:lnTo>
                  <a:pt x="645" y="1852"/>
                </a:lnTo>
                <a:lnTo>
                  <a:pt x="639" y="1870"/>
                </a:lnTo>
                <a:lnTo>
                  <a:pt x="632" y="1887"/>
                </a:lnTo>
                <a:lnTo>
                  <a:pt x="626" y="1904"/>
                </a:lnTo>
                <a:lnTo>
                  <a:pt x="620" y="1922"/>
                </a:lnTo>
                <a:lnTo>
                  <a:pt x="614" y="1937"/>
                </a:lnTo>
                <a:lnTo>
                  <a:pt x="609" y="1950"/>
                </a:lnTo>
                <a:lnTo>
                  <a:pt x="603" y="1966"/>
                </a:lnTo>
                <a:lnTo>
                  <a:pt x="597" y="1979"/>
                </a:lnTo>
                <a:lnTo>
                  <a:pt x="591" y="1991"/>
                </a:lnTo>
                <a:lnTo>
                  <a:pt x="586" y="2002"/>
                </a:lnTo>
                <a:lnTo>
                  <a:pt x="580" y="2014"/>
                </a:lnTo>
                <a:lnTo>
                  <a:pt x="574" y="2023"/>
                </a:lnTo>
                <a:lnTo>
                  <a:pt x="568" y="2033"/>
                </a:lnTo>
                <a:lnTo>
                  <a:pt x="563" y="2043"/>
                </a:lnTo>
                <a:lnTo>
                  <a:pt x="557" y="2050"/>
                </a:lnTo>
                <a:lnTo>
                  <a:pt x="545" y="2067"/>
                </a:lnTo>
                <a:lnTo>
                  <a:pt x="536" y="2085"/>
                </a:lnTo>
                <a:lnTo>
                  <a:pt x="526" y="2100"/>
                </a:lnTo>
                <a:lnTo>
                  <a:pt x="515" y="2114"/>
                </a:lnTo>
                <a:lnTo>
                  <a:pt x="505" y="2125"/>
                </a:lnTo>
                <a:lnTo>
                  <a:pt x="497" y="2137"/>
                </a:lnTo>
                <a:lnTo>
                  <a:pt x="488" y="2146"/>
                </a:lnTo>
                <a:lnTo>
                  <a:pt x="480" y="2156"/>
                </a:lnTo>
                <a:lnTo>
                  <a:pt x="470" y="2163"/>
                </a:lnTo>
                <a:lnTo>
                  <a:pt x="463" y="2171"/>
                </a:lnTo>
                <a:lnTo>
                  <a:pt x="457" y="2177"/>
                </a:lnTo>
                <a:lnTo>
                  <a:pt x="449" y="2181"/>
                </a:lnTo>
                <a:lnTo>
                  <a:pt x="444" y="2185"/>
                </a:lnTo>
                <a:lnTo>
                  <a:pt x="438" y="2186"/>
                </a:lnTo>
                <a:lnTo>
                  <a:pt x="432" y="2188"/>
                </a:lnTo>
                <a:lnTo>
                  <a:pt x="428" y="2188"/>
                </a:lnTo>
                <a:lnTo>
                  <a:pt x="421" y="2188"/>
                </a:lnTo>
                <a:lnTo>
                  <a:pt x="415" y="2186"/>
                </a:lnTo>
                <a:lnTo>
                  <a:pt x="409" y="2185"/>
                </a:lnTo>
                <a:lnTo>
                  <a:pt x="405" y="2183"/>
                </a:lnTo>
                <a:lnTo>
                  <a:pt x="401" y="2181"/>
                </a:lnTo>
                <a:lnTo>
                  <a:pt x="398" y="2177"/>
                </a:lnTo>
                <a:lnTo>
                  <a:pt x="394" y="2171"/>
                </a:lnTo>
                <a:lnTo>
                  <a:pt x="390" y="2165"/>
                </a:lnTo>
                <a:lnTo>
                  <a:pt x="388" y="2160"/>
                </a:lnTo>
                <a:lnTo>
                  <a:pt x="386" y="2152"/>
                </a:lnTo>
                <a:lnTo>
                  <a:pt x="384" y="2144"/>
                </a:lnTo>
                <a:lnTo>
                  <a:pt x="382" y="2137"/>
                </a:lnTo>
                <a:lnTo>
                  <a:pt x="382" y="2127"/>
                </a:lnTo>
                <a:lnTo>
                  <a:pt x="380" y="2115"/>
                </a:lnTo>
                <a:lnTo>
                  <a:pt x="380" y="2104"/>
                </a:lnTo>
                <a:lnTo>
                  <a:pt x="380" y="2092"/>
                </a:lnTo>
                <a:lnTo>
                  <a:pt x="380" y="2079"/>
                </a:lnTo>
                <a:lnTo>
                  <a:pt x="378" y="2066"/>
                </a:lnTo>
                <a:lnTo>
                  <a:pt x="376" y="2054"/>
                </a:lnTo>
                <a:lnTo>
                  <a:pt x="374" y="2041"/>
                </a:lnTo>
                <a:lnTo>
                  <a:pt x="371" y="2027"/>
                </a:lnTo>
                <a:lnTo>
                  <a:pt x="367" y="2014"/>
                </a:lnTo>
                <a:lnTo>
                  <a:pt x="361" y="2000"/>
                </a:lnTo>
                <a:lnTo>
                  <a:pt x="355" y="1985"/>
                </a:lnTo>
                <a:lnTo>
                  <a:pt x="350" y="1971"/>
                </a:lnTo>
                <a:lnTo>
                  <a:pt x="342" y="1956"/>
                </a:lnTo>
                <a:lnTo>
                  <a:pt x="334" y="1941"/>
                </a:lnTo>
                <a:lnTo>
                  <a:pt x="326" y="1925"/>
                </a:lnTo>
                <a:lnTo>
                  <a:pt x="317" y="1910"/>
                </a:lnTo>
                <a:lnTo>
                  <a:pt x="307" y="1893"/>
                </a:lnTo>
                <a:lnTo>
                  <a:pt x="298" y="1876"/>
                </a:lnTo>
                <a:lnTo>
                  <a:pt x="286" y="1858"/>
                </a:lnTo>
                <a:lnTo>
                  <a:pt x="275" y="1841"/>
                </a:lnTo>
                <a:lnTo>
                  <a:pt x="263" y="1824"/>
                </a:lnTo>
                <a:lnTo>
                  <a:pt x="252" y="1808"/>
                </a:lnTo>
                <a:lnTo>
                  <a:pt x="240" y="1793"/>
                </a:lnTo>
                <a:lnTo>
                  <a:pt x="232" y="1780"/>
                </a:lnTo>
                <a:lnTo>
                  <a:pt x="223" y="1768"/>
                </a:lnTo>
                <a:lnTo>
                  <a:pt x="215" y="1755"/>
                </a:lnTo>
                <a:lnTo>
                  <a:pt x="209" y="1745"/>
                </a:lnTo>
                <a:lnTo>
                  <a:pt x="204" y="1735"/>
                </a:lnTo>
                <a:lnTo>
                  <a:pt x="200" y="1726"/>
                </a:lnTo>
                <a:lnTo>
                  <a:pt x="196" y="1718"/>
                </a:lnTo>
                <a:lnTo>
                  <a:pt x="192" y="1710"/>
                </a:lnTo>
                <a:lnTo>
                  <a:pt x="190" y="1705"/>
                </a:lnTo>
                <a:lnTo>
                  <a:pt x="190" y="1701"/>
                </a:lnTo>
                <a:lnTo>
                  <a:pt x="190" y="1697"/>
                </a:lnTo>
                <a:lnTo>
                  <a:pt x="192" y="1693"/>
                </a:lnTo>
                <a:lnTo>
                  <a:pt x="196" y="1691"/>
                </a:lnTo>
                <a:lnTo>
                  <a:pt x="198" y="1689"/>
                </a:lnTo>
                <a:lnTo>
                  <a:pt x="202" y="1687"/>
                </a:lnTo>
                <a:lnTo>
                  <a:pt x="206" y="1687"/>
                </a:lnTo>
                <a:lnTo>
                  <a:pt x="211" y="1687"/>
                </a:lnTo>
                <a:lnTo>
                  <a:pt x="217" y="1689"/>
                </a:lnTo>
                <a:lnTo>
                  <a:pt x="223" y="1691"/>
                </a:lnTo>
                <a:lnTo>
                  <a:pt x="229" y="1693"/>
                </a:lnTo>
                <a:lnTo>
                  <a:pt x="236" y="1695"/>
                </a:lnTo>
                <a:lnTo>
                  <a:pt x="246" y="1699"/>
                </a:lnTo>
                <a:lnTo>
                  <a:pt x="254" y="1703"/>
                </a:lnTo>
                <a:lnTo>
                  <a:pt x="263" y="1709"/>
                </a:lnTo>
                <a:lnTo>
                  <a:pt x="275" y="1714"/>
                </a:lnTo>
                <a:lnTo>
                  <a:pt x="286" y="1720"/>
                </a:lnTo>
                <a:lnTo>
                  <a:pt x="298" y="1728"/>
                </a:lnTo>
                <a:lnTo>
                  <a:pt x="311" y="1735"/>
                </a:lnTo>
                <a:lnTo>
                  <a:pt x="321" y="1741"/>
                </a:lnTo>
                <a:lnTo>
                  <a:pt x="332" y="1749"/>
                </a:lnTo>
                <a:lnTo>
                  <a:pt x="342" y="1755"/>
                </a:lnTo>
                <a:lnTo>
                  <a:pt x="351" y="1760"/>
                </a:lnTo>
                <a:lnTo>
                  <a:pt x="361" y="1766"/>
                </a:lnTo>
                <a:lnTo>
                  <a:pt x="371" y="1770"/>
                </a:lnTo>
                <a:lnTo>
                  <a:pt x="378" y="1774"/>
                </a:lnTo>
                <a:lnTo>
                  <a:pt x="388" y="1778"/>
                </a:lnTo>
                <a:lnTo>
                  <a:pt x="396" y="1780"/>
                </a:lnTo>
                <a:lnTo>
                  <a:pt x="403" y="1783"/>
                </a:lnTo>
                <a:lnTo>
                  <a:pt x="411" y="1785"/>
                </a:lnTo>
                <a:lnTo>
                  <a:pt x="417" y="1787"/>
                </a:lnTo>
                <a:lnTo>
                  <a:pt x="424" y="1787"/>
                </a:lnTo>
                <a:lnTo>
                  <a:pt x="430" y="1789"/>
                </a:lnTo>
                <a:lnTo>
                  <a:pt x="434" y="1789"/>
                </a:lnTo>
                <a:lnTo>
                  <a:pt x="440" y="1789"/>
                </a:lnTo>
                <a:lnTo>
                  <a:pt x="442" y="1789"/>
                </a:lnTo>
                <a:lnTo>
                  <a:pt x="444" y="1787"/>
                </a:lnTo>
                <a:lnTo>
                  <a:pt x="447" y="1785"/>
                </a:lnTo>
                <a:lnTo>
                  <a:pt x="451" y="1781"/>
                </a:lnTo>
                <a:lnTo>
                  <a:pt x="453" y="1778"/>
                </a:lnTo>
                <a:lnTo>
                  <a:pt x="457" y="1772"/>
                </a:lnTo>
                <a:lnTo>
                  <a:pt x="461" y="1764"/>
                </a:lnTo>
                <a:lnTo>
                  <a:pt x="467" y="1757"/>
                </a:lnTo>
                <a:lnTo>
                  <a:pt x="470" y="1747"/>
                </a:lnTo>
                <a:lnTo>
                  <a:pt x="476" y="1737"/>
                </a:lnTo>
                <a:lnTo>
                  <a:pt x="480" y="1726"/>
                </a:lnTo>
                <a:lnTo>
                  <a:pt x="486" y="1714"/>
                </a:lnTo>
                <a:lnTo>
                  <a:pt x="492" y="1701"/>
                </a:lnTo>
                <a:lnTo>
                  <a:pt x="497" y="1685"/>
                </a:lnTo>
                <a:lnTo>
                  <a:pt x="503" y="1670"/>
                </a:lnTo>
                <a:lnTo>
                  <a:pt x="511" y="1653"/>
                </a:lnTo>
                <a:lnTo>
                  <a:pt x="513" y="1643"/>
                </a:lnTo>
                <a:lnTo>
                  <a:pt x="515" y="1636"/>
                </a:lnTo>
                <a:lnTo>
                  <a:pt x="517" y="1626"/>
                </a:lnTo>
                <a:lnTo>
                  <a:pt x="518" y="1616"/>
                </a:lnTo>
                <a:lnTo>
                  <a:pt x="522" y="1607"/>
                </a:lnTo>
                <a:lnTo>
                  <a:pt x="524" y="1595"/>
                </a:lnTo>
                <a:lnTo>
                  <a:pt x="526" y="1584"/>
                </a:lnTo>
                <a:lnTo>
                  <a:pt x="530" y="1572"/>
                </a:lnTo>
                <a:lnTo>
                  <a:pt x="532" y="1559"/>
                </a:lnTo>
                <a:lnTo>
                  <a:pt x="536" y="1547"/>
                </a:lnTo>
                <a:lnTo>
                  <a:pt x="538" y="1534"/>
                </a:lnTo>
                <a:lnTo>
                  <a:pt x="540" y="1518"/>
                </a:lnTo>
                <a:lnTo>
                  <a:pt x="543" y="1505"/>
                </a:lnTo>
                <a:lnTo>
                  <a:pt x="547" y="1490"/>
                </a:lnTo>
                <a:lnTo>
                  <a:pt x="549" y="1474"/>
                </a:lnTo>
                <a:lnTo>
                  <a:pt x="553" y="1457"/>
                </a:lnTo>
                <a:lnTo>
                  <a:pt x="555" y="1440"/>
                </a:lnTo>
                <a:lnTo>
                  <a:pt x="559" y="1423"/>
                </a:lnTo>
                <a:lnTo>
                  <a:pt x="563" y="1405"/>
                </a:lnTo>
                <a:lnTo>
                  <a:pt x="565" y="1388"/>
                </a:lnTo>
                <a:lnTo>
                  <a:pt x="568" y="1369"/>
                </a:lnTo>
                <a:lnTo>
                  <a:pt x="570" y="1350"/>
                </a:lnTo>
                <a:lnTo>
                  <a:pt x="574" y="1330"/>
                </a:lnTo>
                <a:lnTo>
                  <a:pt x="578" y="1309"/>
                </a:lnTo>
                <a:lnTo>
                  <a:pt x="582" y="1288"/>
                </a:lnTo>
                <a:lnTo>
                  <a:pt x="584" y="1267"/>
                </a:lnTo>
                <a:lnTo>
                  <a:pt x="588" y="1246"/>
                </a:lnTo>
                <a:lnTo>
                  <a:pt x="591" y="1223"/>
                </a:lnTo>
                <a:lnTo>
                  <a:pt x="593" y="1200"/>
                </a:lnTo>
                <a:lnTo>
                  <a:pt x="597" y="1177"/>
                </a:lnTo>
                <a:lnTo>
                  <a:pt x="601" y="1154"/>
                </a:lnTo>
                <a:lnTo>
                  <a:pt x="605" y="1129"/>
                </a:lnTo>
                <a:lnTo>
                  <a:pt x="611" y="1081"/>
                </a:lnTo>
                <a:lnTo>
                  <a:pt x="616" y="1033"/>
                </a:lnTo>
                <a:lnTo>
                  <a:pt x="622" y="987"/>
                </a:lnTo>
                <a:lnTo>
                  <a:pt x="628" y="943"/>
                </a:lnTo>
                <a:lnTo>
                  <a:pt x="632" y="898"/>
                </a:lnTo>
                <a:lnTo>
                  <a:pt x="637" y="856"/>
                </a:lnTo>
                <a:lnTo>
                  <a:pt x="641" y="816"/>
                </a:lnTo>
                <a:lnTo>
                  <a:pt x="645" y="776"/>
                </a:lnTo>
                <a:lnTo>
                  <a:pt x="649" y="737"/>
                </a:lnTo>
                <a:lnTo>
                  <a:pt x="653" y="699"/>
                </a:lnTo>
                <a:lnTo>
                  <a:pt x="657" y="662"/>
                </a:lnTo>
                <a:lnTo>
                  <a:pt x="659" y="628"/>
                </a:lnTo>
                <a:lnTo>
                  <a:pt x="660" y="593"/>
                </a:lnTo>
                <a:lnTo>
                  <a:pt x="660" y="561"/>
                </a:lnTo>
                <a:lnTo>
                  <a:pt x="662" y="528"/>
                </a:lnTo>
                <a:lnTo>
                  <a:pt x="662" y="495"/>
                </a:lnTo>
                <a:lnTo>
                  <a:pt x="662" y="467"/>
                </a:lnTo>
                <a:lnTo>
                  <a:pt x="662" y="438"/>
                </a:lnTo>
                <a:lnTo>
                  <a:pt x="662" y="411"/>
                </a:lnTo>
                <a:lnTo>
                  <a:pt x="662" y="386"/>
                </a:lnTo>
                <a:lnTo>
                  <a:pt x="662" y="361"/>
                </a:lnTo>
                <a:lnTo>
                  <a:pt x="662" y="340"/>
                </a:lnTo>
                <a:lnTo>
                  <a:pt x="660" y="321"/>
                </a:lnTo>
                <a:lnTo>
                  <a:pt x="660" y="302"/>
                </a:lnTo>
                <a:lnTo>
                  <a:pt x="660" y="286"/>
                </a:lnTo>
                <a:lnTo>
                  <a:pt x="659" y="271"/>
                </a:lnTo>
                <a:lnTo>
                  <a:pt x="659" y="257"/>
                </a:lnTo>
                <a:lnTo>
                  <a:pt x="657" y="246"/>
                </a:lnTo>
                <a:lnTo>
                  <a:pt x="657" y="238"/>
                </a:lnTo>
                <a:lnTo>
                  <a:pt x="655" y="231"/>
                </a:lnTo>
                <a:lnTo>
                  <a:pt x="653" y="225"/>
                </a:lnTo>
                <a:lnTo>
                  <a:pt x="651" y="223"/>
                </a:lnTo>
                <a:lnTo>
                  <a:pt x="651" y="221"/>
                </a:lnTo>
                <a:lnTo>
                  <a:pt x="645" y="217"/>
                </a:lnTo>
                <a:lnTo>
                  <a:pt x="639" y="213"/>
                </a:lnTo>
                <a:lnTo>
                  <a:pt x="634" y="211"/>
                </a:lnTo>
                <a:lnTo>
                  <a:pt x="628" y="209"/>
                </a:lnTo>
                <a:lnTo>
                  <a:pt x="620" y="207"/>
                </a:lnTo>
                <a:lnTo>
                  <a:pt x="614" y="207"/>
                </a:lnTo>
                <a:lnTo>
                  <a:pt x="609" y="207"/>
                </a:lnTo>
                <a:lnTo>
                  <a:pt x="605" y="207"/>
                </a:lnTo>
                <a:lnTo>
                  <a:pt x="599" y="207"/>
                </a:lnTo>
                <a:lnTo>
                  <a:pt x="593" y="207"/>
                </a:lnTo>
                <a:lnTo>
                  <a:pt x="586" y="209"/>
                </a:lnTo>
                <a:lnTo>
                  <a:pt x="578" y="209"/>
                </a:lnTo>
                <a:lnTo>
                  <a:pt x="568" y="211"/>
                </a:lnTo>
                <a:lnTo>
                  <a:pt x="557" y="213"/>
                </a:lnTo>
                <a:lnTo>
                  <a:pt x="545" y="215"/>
                </a:lnTo>
                <a:lnTo>
                  <a:pt x="532" y="219"/>
                </a:lnTo>
                <a:lnTo>
                  <a:pt x="517" y="223"/>
                </a:lnTo>
                <a:lnTo>
                  <a:pt x="501" y="227"/>
                </a:lnTo>
                <a:lnTo>
                  <a:pt x="484" y="231"/>
                </a:lnTo>
                <a:lnTo>
                  <a:pt x="467" y="236"/>
                </a:lnTo>
                <a:lnTo>
                  <a:pt x="447" y="242"/>
                </a:lnTo>
                <a:lnTo>
                  <a:pt x="426" y="248"/>
                </a:lnTo>
                <a:lnTo>
                  <a:pt x="403" y="255"/>
                </a:lnTo>
                <a:lnTo>
                  <a:pt x="380" y="263"/>
                </a:lnTo>
                <a:lnTo>
                  <a:pt x="357" y="269"/>
                </a:lnTo>
                <a:lnTo>
                  <a:pt x="334" y="277"/>
                </a:lnTo>
                <a:lnTo>
                  <a:pt x="313" y="282"/>
                </a:lnTo>
                <a:lnTo>
                  <a:pt x="292" y="288"/>
                </a:lnTo>
                <a:lnTo>
                  <a:pt x="273" y="294"/>
                </a:lnTo>
                <a:lnTo>
                  <a:pt x="254" y="298"/>
                </a:lnTo>
                <a:lnTo>
                  <a:pt x="236" y="302"/>
                </a:lnTo>
                <a:lnTo>
                  <a:pt x="219" y="305"/>
                </a:lnTo>
                <a:lnTo>
                  <a:pt x="204" y="309"/>
                </a:lnTo>
                <a:lnTo>
                  <a:pt x="188" y="311"/>
                </a:lnTo>
                <a:lnTo>
                  <a:pt x="173" y="313"/>
                </a:lnTo>
                <a:lnTo>
                  <a:pt x="159" y="315"/>
                </a:lnTo>
                <a:lnTo>
                  <a:pt x="146" y="317"/>
                </a:lnTo>
                <a:lnTo>
                  <a:pt x="135" y="317"/>
                </a:lnTo>
                <a:lnTo>
                  <a:pt x="121" y="317"/>
                </a:lnTo>
                <a:lnTo>
                  <a:pt x="112" y="317"/>
                </a:lnTo>
                <a:lnTo>
                  <a:pt x="100" y="317"/>
                </a:lnTo>
                <a:lnTo>
                  <a:pt x="90" y="317"/>
                </a:lnTo>
                <a:lnTo>
                  <a:pt x="81" y="317"/>
                </a:lnTo>
                <a:lnTo>
                  <a:pt x="71" y="315"/>
                </a:lnTo>
                <a:lnTo>
                  <a:pt x="62" y="313"/>
                </a:lnTo>
                <a:lnTo>
                  <a:pt x="54" y="311"/>
                </a:lnTo>
                <a:lnTo>
                  <a:pt x="46" y="309"/>
                </a:lnTo>
                <a:lnTo>
                  <a:pt x="40" y="307"/>
                </a:lnTo>
                <a:lnTo>
                  <a:pt x="33" y="303"/>
                </a:lnTo>
                <a:lnTo>
                  <a:pt x="27" y="302"/>
                </a:lnTo>
                <a:lnTo>
                  <a:pt x="23" y="298"/>
                </a:lnTo>
                <a:lnTo>
                  <a:pt x="17" y="294"/>
                </a:lnTo>
                <a:lnTo>
                  <a:pt x="14" y="290"/>
                </a:lnTo>
                <a:lnTo>
                  <a:pt x="10" y="286"/>
                </a:lnTo>
                <a:lnTo>
                  <a:pt x="8" y="280"/>
                </a:lnTo>
                <a:lnTo>
                  <a:pt x="4" y="277"/>
                </a:lnTo>
                <a:lnTo>
                  <a:pt x="2" y="273"/>
                </a:lnTo>
                <a:lnTo>
                  <a:pt x="2" y="271"/>
                </a:lnTo>
                <a:lnTo>
                  <a:pt x="0" y="269"/>
                </a:lnTo>
                <a:lnTo>
                  <a:pt x="2" y="265"/>
                </a:lnTo>
                <a:lnTo>
                  <a:pt x="2" y="263"/>
                </a:lnTo>
                <a:lnTo>
                  <a:pt x="4" y="259"/>
                </a:lnTo>
                <a:lnTo>
                  <a:pt x="6" y="255"/>
                </a:lnTo>
                <a:lnTo>
                  <a:pt x="10" y="254"/>
                </a:lnTo>
                <a:lnTo>
                  <a:pt x="12" y="250"/>
                </a:lnTo>
                <a:lnTo>
                  <a:pt x="17" y="246"/>
                </a:lnTo>
                <a:lnTo>
                  <a:pt x="21" y="244"/>
                </a:lnTo>
                <a:lnTo>
                  <a:pt x="27" y="240"/>
                </a:lnTo>
                <a:lnTo>
                  <a:pt x="33" y="236"/>
                </a:lnTo>
                <a:lnTo>
                  <a:pt x="40" y="232"/>
                </a:lnTo>
                <a:lnTo>
                  <a:pt x="48" y="229"/>
                </a:lnTo>
                <a:lnTo>
                  <a:pt x="56" y="225"/>
                </a:lnTo>
                <a:lnTo>
                  <a:pt x="65" y="221"/>
                </a:lnTo>
                <a:lnTo>
                  <a:pt x="75" y="217"/>
                </a:lnTo>
                <a:lnTo>
                  <a:pt x="85" y="213"/>
                </a:lnTo>
                <a:lnTo>
                  <a:pt x="96" y="209"/>
                </a:lnTo>
                <a:lnTo>
                  <a:pt x="108" y="206"/>
                </a:lnTo>
                <a:lnTo>
                  <a:pt x="119" y="200"/>
                </a:lnTo>
                <a:lnTo>
                  <a:pt x="133" y="196"/>
                </a:lnTo>
                <a:lnTo>
                  <a:pt x="146" y="192"/>
                </a:lnTo>
                <a:lnTo>
                  <a:pt x="159" y="186"/>
                </a:lnTo>
                <a:lnTo>
                  <a:pt x="173" y="183"/>
                </a:lnTo>
                <a:lnTo>
                  <a:pt x="188" y="177"/>
                </a:lnTo>
                <a:lnTo>
                  <a:pt x="206" y="173"/>
                </a:lnTo>
                <a:lnTo>
                  <a:pt x="221" y="167"/>
                </a:lnTo>
                <a:lnTo>
                  <a:pt x="238" y="163"/>
                </a:lnTo>
                <a:lnTo>
                  <a:pt x="255" y="158"/>
                </a:lnTo>
                <a:lnTo>
                  <a:pt x="275" y="152"/>
                </a:lnTo>
                <a:lnTo>
                  <a:pt x="294" y="148"/>
                </a:lnTo>
                <a:lnTo>
                  <a:pt x="311" y="144"/>
                </a:lnTo>
                <a:lnTo>
                  <a:pt x="328" y="140"/>
                </a:lnTo>
                <a:lnTo>
                  <a:pt x="346" y="136"/>
                </a:lnTo>
                <a:lnTo>
                  <a:pt x="363" y="133"/>
                </a:lnTo>
                <a:lnTo>
                  <a:pt x="378" y="129"/>
                </a:lnTo>
                <a:lnTo>
                  <a:pt x="394" y="125"/>
                </a:lnTo>
                <a:lnTo>
                  <a:pt x="409" y="121"/>
                </a:lnTo>
                <a:lnTo>
                  <a:pt x="424" y="117"/>
                </a:lnTo>
                <a:lnTo>
                  <a:pt x="438" y="113"/>
                </a:lnTo>
                <a:lnTo>
                  <a:pt x="451" y="110"/>
                </a:lnTo>
                <a:lnTo>
                  <a:pt x="465" y="106"/>
                </a:lnTo>
                <a:lnTo>
                  <a:pt x="476" y="102"/>
                </a:lnTo>
                <a:lnTo>
                  <a:pt x="490" y="98"/>
                </a:lnTo>
                <a:lnTo>
                  <a:pt x="501" y="96"/>
                </a:lnTo>
                <a:lnTo>
                  <a:pt x="511" y="92"/>
                </a:lnTo>
                <a:lnTo>
                  <a:pt x="522" y="88"/>
                </a:lnTo>
                <a:lnTo>
                  <a:pt x="532" y="85"/>
                </a:lnTo>
                <a:lnTo>
                  <a:pt x="541" y="81"/>
                </a:lnTo>
                <a:lnTo>
                  <a:pt x="551" y="79"/>
                </a:lnTo>
                <a:lnTo>
                  <a:pt x="559" y="75"/>
                </a:lnTo>
                <a:lnTo>
                  <a:pt x="566" y="71"/>
                </a:lnTo>
                <a:lnTo>
                  <a:pt x="574" y="67"/>
                </a:lnTo>
                <a:lnTo>
                  <a:pt x="580" y="65"/>
                </a:lnTo>
                <a:lnTo>
                  <a:pt x="588" y="62"/>
                </a:lnTo>
                <a:lnTo>
                  <a:pt x="593" y="60"/>
                </a:lnTo>
                <a:lnTo>
                  <a:pt x="597" y="56"/>
                </a:lnTo>
                <a:lnTo>
                  <a:pt x="603" y="54"/>
                </a:lnTo>
                <a:lnTo>
                  <a:pt x="607" y="50"/>
                </a:lnTo>
                <a:lnTo>
                  <a:pt x="611" y="48"/>
                </a:lnTo>
                <a:lnTo>
                  <a:pt x="612" y="44"/>
                </a:lnTo>
                <a:lnTo>
                  <a:pt x="616" y="42"/>
                </a:lnTo>
                <a:lnTo>
                  <a:pt x="624" y="33"/>
                </a:lnTo>
                <a:lnTo>
                  <a:pt x="634" y="23"/>
                </a:lnTo>
                <a:lnTo>
                  <a:pt x="641" y="17"/>
                </a:lnTo>
                <a:lnTo>
                  <a:pt x="651" y="12"/>
                </a:lnTo>
                <a:lnTo>
                  <a:pt x="659" y="6"/>
                </a:lnTo>
                <a:lnTo>
                  <a:pt x="668" y="4"/>
                </a:lnTo>
                <a:lnTo>
                  <a:pt x="678" y="2"/>
                </a:lnTo>
                <a:lnTo>
                  <a:pt x="685" y="0"/>
                </a:lnTo>
                <a:lnTo>
                  <a:pt x="689" y="0"/>
                </a:lnTo>
                <a:lnTo>
                  <a:pt x="691" y="2"/>
                </a:lnTo>
                <a:lnTo>
                  <a:pt x="697" y="2"/>
                </a:lnTo>
                <a:lnTo>
                  <a:pt x="701" y="4"/>
                </a:lnTo>
                <a:lnTo>
                  <a:pt x="707" y="6"/>
                </a:lnTo>
                <a:lnTo>
                  <a:pt x="714" y="8"/>
                </a:lnTo>
                <a:lnTo>
                  <a:pt x="720" y="10"/>
                </a:lnTo>
                <a:lnTo>
                  <a:pt x="728" y="12"/>
                </a:lnTo>
                <a:lnTo>
                  <a:pt x="737" y="16"/>
                </a:lnTo>
                <a:lnTo>
                  <a:pt x="747" y="19"/>
                </a:lnTo>
                <a:lnTo>
                  <a:pt x="756" y="25"/>
                </a:lnTo>
                <a:lnTo>
                  <a:pt x="766" y="29"/>
                </a:lnTo>
                <a:lnTo>
                  <a:pt x="778" y="35"/>
                </a:lnTo>
                <a:lnTo>
                  <a:pt x="789" y="42"/>
                </a:lnTo>
                <a:lnTo>
                  <a:pt x="803" y="48"/>
                </a:lnTo>
                <a:lnTo>
                  <a:pt x="816" y="56"/>
                </a:lnTo>
                <a:lnTo>
                  <a:pt x="826" y="64"/>
                </a:lnTo>
                <a:lnTo>
                  <a:pt x="835" y="71"/>
                </a:lnTo>
                <a:lnTo>
                  <a:pt x="845" y="79"/>
                </a:lnTo>
                <a:lnTo>
                  <a:pt x="854" y="87"/>
                </a:lnTo>
                <a:lnTo>
                  <a:pt x="864" y="94"/>
                </a:lnTo>
                <a:lnTo>
                  <a:pt x="872" y="102"/>
                </a:lnTo>
                <a:lnTo>
                  <a:pt x="879" y="108"/>
                </a:lnTo>
                <a:lnTo>
                  <a:pt x="885" y="115"/>
                </a:lnTo>
                <a:lnTo>
                  <a:pt x="893" y="121"/>
                </a:lnTo>
                <a:lnTo>
                  <a:pt x="898" y="127"/>
                </a:lnTo>
                <a:lnTo>
                  <a:pt x="902" y="133"/>
                </a:lnTo>
                <a:lnTo>
                  <a:pt x="908" y="136"/>
                </a:lnTo>
                <a:lnTo>
                  <a:pt x="912" y="142"/>
                </a:lnTo>
                <a:lnTo>
                  <a:pt x="916" y="146"/>
                </a:lnTo>
                <a:lnTo>
                  <a:pt x="918" y="150"/>
                </a:lnTo>
                <a:lnTo>
                  <a:pt x="922" y="152"/>
                </a:lnTo>
                <a:lnTo>
                  <a:pt x="923" y="158"/>
                </a:lnTo>
                <a:lnTo>
                  <a:pt x="923" y="163"/>
                </a:lnTo>
                <a:lnTo>
                  <a:pt x="925" y="167"/>
                </a:lnTo>
                <a:lnTo>
                  <a:pt x="925" y="173"/>
                </a:lnTo>
                <a:lnTo>
                  <a:pt x="925" y="183"/>
                </a:lnTo>
                <a:lnTo>
                  <a:pt x="922" y="192"/>
                </a:lnTo>
                <a:lnTo>
                  <a:pt x="918" y="200"/>
                </a:lnTo>
                <a:lnTo>
                  <a:pt x="912" y="207"/>
                </a:lnTo>
                <a:lnTo>
                  <a:pt x="906" y="215"/>
                </a:lnTo>
                <a:lnTo>
                  <a:pt x="897" y="221"/>
                </a:lnTo>
                <a:lnTo>
                  <a:pt x="895" y="223"/>
                </a:lnTo>
                <a:lnTo>
                  <a:pt x="891" y="225"/>
                </a:lnTo>
                <a:lnTo>
                  <a:pt x="887" y="229"/>
                </a:lnTo>
                <a:lnTo>
                  <a:pt x="885" y="231"/>
                </a:lnTo>
                <a:lnTo>
                  <a:pt x="883" y="236"/>
                </a:lnTo>
                <a:lnTo>
                  <a:pt x="879" y="240"/>
                </a:lnTo>
                <a:lnTo>
                  <a:pt x="877" y="246"/>
                </a:lnTo>
                <a:lnTo>
                  <a:pt x="875" y="252"/>
                </a:lnTo>
                <a:lnTo>
                  <a:pt x="872" y="259"/>
                </a:lnTo>
                <a:lnTo>
                  <a:pt x="870" y="267"/>
                </a:lnTo>
                <a:lnTo>
                  <a:pt x="868" y="275"/>
                </a:lnTo>
                <a:lnTo>
                  <a:pt x="866" y="282"/>
                </a:lnTo>
                <a:lnTo>
                  <a:pt x="864" y="292"/>
                </a:lnTo>
                <a:lnTo>
                  <a:pt x="862" y="302"/>
                </a:lnTo>
                <a:lnTo>
                  <a:pt x="860" y="313"/>
                </a:lnTo>
                <a:lnTo>
                  <a:pt x="858" y="325"/>
                </a:lnTo>
                <a:lnTo>
                  <a:pt x="858" y="336"/>
                </a:lnTo>
                <a:lnTo>
                  <a:pt x="856" y="350"/>
                </a:lnTo>
                <a:lnTo>
                  <a:pt x="854" y="361"/>
                </a:lnTo>
                <a:lnTo>
                  <a:pt x="852" y="376"/>
                </a:lnTo>
                <a:lnTo>
                  <a:pt x="852" y="390"/>
                </a:lnTo>
                <a:lnTo>
                  <a:pt x="851" y="405"/>
                </a:lnTo>
                <a:lnTo>
                  <a:pt x="849" y="421"/>
                </a:lnTo>
                <a:lnTo>
                  <a:pt x="849" y="438"/>
                </a:lnTo>
                <a:lnTo>
                  <a:pt x="847" y="455"/>
                </a:lnTo>
                <a:lnTo>
                  <a:pt x="845" y="472"/>
                </a:lnTo>
                <a:lnTo>
                  <a:pt x="845" y="492"/>
                </a:lnTo>
                <a:lnTo>
                  <a:pt x="843" y="511"/>
                </a:lnTo>
                <a:lnTo>
                  <a:pt x="841" y="530"/>
                </a:lnTo>
                <a:lnTo>
                  <a:pt x="841" y="549"/>
                </a:lnTo>
                <a:lnTo>
                  <a:pt x="839" y="570"/>
                </a:lnTo>
                <a:lnTo>
                  <a:pt x="839" y="5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85"/>
          <p:cNvSpPr/>
          <p:nvPr/>
        </p:nvSpPr>
        <p:spPr>
          <a:xfrm>
            <a:off x="6541920" y="3454560"/>
            <a:ext cx="812880" cy="1587240"/>
          </a:xfrm>
          <a:custGeom>
            <a:avLst/>
            <a:gdLst/>
            <a:ahLst/>
            <a:rect l="l" t="t" r="r" b="b"/>
            <a:pathLst>
              <a:path w="1025" h="2000">
                <a:moveTo>
                  <a:pt x="2" y="1997"/>
                </a:moveTo>
                <a:lnTo>
                  <a:pt x="0" y="1991"/>
                </a:lnTo>
                <a:lnTo>
                  <a:pt x="0" y="1985"/>
                </a:lnTo>
                <a:lnTo>
                  <a:pt x="0" y="1979"/>
                </a:lnTo>
                <a:lnTo>
                  <a:pt x="2" y="1972"/>
                </a:lnTo>
                <a:lnTo>
                  <a:pt x="6" y="1966"/>
                </a:lnTo>
                <a:lnTo>
                  <a:pt x="10" y="1958"/>
                </a:lnTo>
                <a:lnTo>
                  <a:pt x="14" y="1951"/>
                </a:lnTo>
                <a:lnTo>
                  <a:pt x="19" y="1943"/>
                </a:lnTo>
                <a:lnTo>
                  <a:pt x="25" y="1933"/>
                </a:lnTo>
                <a:lnTo>
                  <a:pt x="33" y="1926"/>
                </a:lnTo>
                <a:lnTo>
                  <a:pt x="42" y="1916"/>
                </a:lnTo>
                <a:lnTo>
                  <a:pt x="50" y="1904"/>
                </a:lnTo>
                <a:lnTo>
                  <a:pt x="62" y="1895"/>
                </a:lnTo>
                <a:lnTo>
                  <a:pt x="71" y="1883"/>
                </a:lnTo>
                <a:lnTo>
                  <a:pt x="85" y="1870"/>
                </a:lnTo>
                <a:lnTo>
                  <a:pt x="96" y="1858"/>
                </a:lnTo>
                <a:lnTo>
                  <a:pt x="108" y="1845"/>
                </a:lnTo>
                <a:lnTo>
                  <a:pt x="121" y="1830"/>
                </a:lnTo>
                <a:lnTo>
                  <a:pt x="135" y="1814"/>
                </a:lnTo>
                <a:lnTo>
                  <a:pt x="150" y="1795"/>
                </a:lnTo>
                <a:lnTo>
                  <a:pt x="165" y="1778"/>
                </a:lnTo>
                <a:lnTo>
                  <a:pt x="181" y="1757"/>
                </a:lnTo>
                <a:lnTo>
                  <a:pt x="200" y="1736"/>
                </a:lnTo>
                <a:lnTo>
                  <a:pt x="217" y="1713"/>
                </a:lnTo>
                <a:lnTo>
                  <a:pt x="236" y="1688"/>
                </a:lnTo>
                <a:lnTo>
                  <a:pt x="257" y="1661"/>
                </a:lnTo>
                <a:lnTo>
                  <a:pt x="277" y="1634"/>
                </a:lnTo>
                <a:lnTo>
                  <a:pt x="300" y="1605"/>
                </a:lnTo>
                <a:lnTo>
                  <a:pt x="321" y="1574"/>
                </a:lnTo>
                <a:lnTo>
                  <a:pt x="344" y="1542"/>
                </a:lnTo>
                <a:lnTo>
                  <a:pt x="367" y="1509"/>
                </a:lnTo>
                <a:lnTo>
                  <a:pt x="390" y="1473"/>
                </a:lnTo>
                <a:lnTo>
                  <a:pt x="415" y="1438"/>
                </a:lnTo>
                <a:lnTo>
                  <a:pt x="436" y="1405"/>
                </a:lnTo>
                <a:lnTo>
                  <a:pt x="459" y="1371"/>
                </a:lnTo>
                <a:lnTo>
                  <a:pt x="480" y="1336"/>
                </a:lnTo>
                <a:lnTo>
                  <a:pt x="501" y="1300"/>
                </a:lnTo>
                <a:lnTo>
                  <a:pt x="520" y="1265"/>
                </a:lnTo>
                <a:lnTo>
                  <a:pt x="540" y="1229"/>
                </a:lnTo>
                <a:lnTo>
                  <a:pt x="559" y="1194"/>
                </a:lnTo>
                <a:lnTo>
                  <a:pt x="576" y="1158"/>
                </a:lnTo>
                <a:lnTo>
                  <a:pt x="593" y="1121"/>
                </a:lnTo>
                <a:lnTo>
                  <a:pt x="611" y="1085"/>
                </a:lnTo>
                <a:lnTo>
                  <a:pt x="626" y="1046"/>
                </a:lnTo>
                <a:lnTo>
                  <a:pt x="641" y="1010"/>
                </a:lnTo>
                <a:lnTo>
                  <a:pt x="657" y="972"/>
                </a:lnTo>
                <a:lnTo>
                  <a:pt x="670" y="933"/>
                </a:lnTo>
                <a:lnTo>
                  <a:pt x="684" y="895"/>
                </a:lnTo>
                <a:lnTo>
                  <a:pt x="697" y="856"/>
                </a:lnTo>
                <a:lnTo>
                  <a:pt x="709" y="820"/>
                </a:lnTo>
                <a:lnTo>
                  <a:pt x="720" y="784"/>
                </a:lnTo>
                <a:lnTo>
                  <a:pt x="732" y="747"/>
                </a:lnTo>
                <a:lnTo>
                  <a:pt x="743" y="712"/>
                </a:lnTo>
                <a:lnTo>
                  <a:pt x="753" y="678"/>
                </a:lnTo>
                <a:lnTo>
                  <a:pt x="762" y="645"/>
                </a:lnTo>
                <a:lnTo>
                  <a:pt x="772" y="613"/>
                </a:lnTo>
                <a:lnTo>
                  <a:pt x="780" y="580"/>
                </a:lnTo>
                <a:lnTo>
                  <a:pt x="789" y="549"/>
                </a:lnTo>
                <a:lnTo>
                  <a:pt x="795" y="519"/>
                </a:lnTo>
                <a:lnTo>
                  <a:pt x="803" y="488"/>
                </a:lnTo>
                <a:lnTo>
                  <a:pt x="808" y="459"/>
                </a:lnTo>
                <a:lnTo>
                  <a:pt x="814" y="430"/>
                </a:lnTo>
                <a:lnTo>
                  <a:pt x="820" y="402"/>
                </a:lnTo>
                <a:lnTo>
                  <a:pt x="826" y="373"/>
                </a:lnTo>
                <a:lnTo>
                  <a:pt x="828" y="344"/>
                </a:lnTo>
                <a:lnTo>
                  <a:pt x="829" y="317"/>
                </a:lnTo>
                <a:lnTo>
                  <a:pt x="831" y="290"/>
                </a:lnTo>
                <a:lnTo>
                  <a:pt x="833" y="263"/>
                </a:lnTo>
                <a:lnTo>
                  <a:pt x="835" y="238"/>
                </a:lnTo>
                <a:lnTo>
                  <a:pt x="837" y="213"/>
                </a:lnTo>
                <a:lnTo>
                  <a:pt x="839" y="188"/>
                </a:lnTo>
                <a:lnTo>
                  <a:pt x="841" y="165"/>
                </a:lnTo>
                <a:lnTo>
                  <a:pt x="843" y="142"/>
                </a:lnTo>
                <a:lnTo>
                  <a:pt x="843" y="121"/>
                </a:lnTo>
                <a:lnTo>
                  <a:pt x="845" y="98"/>
                </a:lnTo>
                <a:lnTo>
                  <a:pt x="847" y="77"/>
                </a:lnTo>
                <a:lnTo>
                  <a:pt x="847" y="58"/>
                </a:lnTo>
                <a:lnTo>
                  <a:pt x="847" y="39"/>
                </a:lnTo>
                <a:lnTo>
                  <a:pt x="849" y="20"/>
                </a:lnTo>
                <a:lnTo>
                  <a:pt x="849" y="0"/>
                </a:lnTo>
                <a:lnTo>
                  <a:pt x="872" y="20"/>
                </a:lnTo>
                <a:lnTo>
                  <a:pt x="893" y="37"/>
                </a:lnTo>
                <a:lnTo>
                  <a:pt x="914" y="52"/>
                </a:lnTo>
                <a:lnTo>
                  <a:pt x="931" y="69"/>
                </a:lnTo>
                <a:lnTo>
                  <a:pt x="948" y="85"/>
                </a:lnTo>
                <a:lnTo>
                  <a:pt x="964" y="100"/>
                </a:lnTo>
                <a:lnTo>
                  <a:pt x="977" y="114"/>
                </a:lnTo>
                <a:lnTo>
                  <a:pt x="989" y="129"/>
                </a:lnTo>
                <a:lnTo>
                  <a:pt x="998" y="142"/>
                </a:lnTo>
                <a:lnTo>
                  <a:pt x="1008" y="156"/>
                </a:lnTo>
                <a:lnTo>
                  <a:pt x="1014" y="169"/>
                </a:lnTo>
                <a:lnTo>
                  <a:pt x="1019" y="183"/>
                </a:lnTo>
                <a:lnTo>
                  <a:pt x="1023" y="196"/>
                </a:lnTo>
                <a:lnTo>
                  <a:pt x="1025" y="210"/>
                </a:lnTo>
                <a:lnTo>
                  <a:pt x="1025" y="221"/>
                </a:lnTo>
                <a:lnTo>
                  <a:pt x="1025" y="235"/>
                </a:lnTo>
                <a:lnTo>
                  <a:pt x="1021" y="248"/>
                </a:lnTo>
                <a:lnTo>
                  <a:pt x="1019" y="261"/>
                </a:lnTo>
                <a:lnTo>
                  <a:pt x="1016" y="277"/>
                </a:lnTo>
                <a:lnTo>
                  <a:pt x="1014" y="292"/>
                </a:lnTo>
                <a:lnTo>
                  <a:pt x="1010" y="307"/>
                </a:lnTo>
                <a:lnTo>
                  <a:pt x="1006" y="325"/>
                </a:lnTo>
                <a:lnTo>
                  <a:pt x="1002" y="344"/>
                </a:lnTo>
                <a:lnTo>
                  <a:pt x="998" y="361"/>
                </a:lnTo>
                <a:lnTo>
                  <a:pt x="993" y="382"/>
                </a:lnTo>
                <a:lnTo>
                  <a:pt x="989" y="403"/>
                </a:lnTo>
                <a:lnTo>
                  <a:pt x="983" y="425"/>
                </a:lnTo>
                <a:lnTo>
                  <a:pt x="977" y="448"/>
                </a:lnTo>
                <a:lnTo>
                  <a:pt x="971" y="471"/>
                </a:lnTo>
                <a:lnTo>
                  <a:pt x="966" y="498"/>
                </a:lnTo>
                <a:lnTo>
                  <a:pt x="960" y="522"/>
                </a:lnTo>
                <a:lnTo>
                  <a:pt x="954" y="551"/>
                </a:lnTo>
                <a:lnTo>
                  <a:pt x="947" y="580"/>
                </a:lnTo>
                <a:lnTo>
                  <a:pt x="939" y="609"/>
                </a:lnTo>
                <a:lnTo>
                  <a:pt x="931" y="640"/>
                </a:lnTo>
                <a:lnTo>
                  <a:pt x="923" y="668"/>
                </a:lnTo>
                <a:lnTo>
                  <a:pt x="914" y="701"/>
                </a:lnTo>
                <a:lnTo>
                  <a:pt x="904" y="732"/>
                </a:lnTo>
                <a:lnTo>
                  <a:pt x="885" y="795"/>
                </a:lnTo>
                <a:lnTo>
                  <a:pt x="862" y="860"/>
                </a:lnTo>
                <a:lnTo>
                  <a:pt x="839" y="926"/>
                </a:lnTo>
                <a:lnTo>
                  <a:pt x="816" y="993"/>
                </a:lnTo>
                <a:lnTo>
                  <a:pt x="789" y="1060"/>
                </a:lnTo>
                <a:lnTo>
                  <a:pt x="758" y="1131"/>
                </a:lnTo>
                <a:lnTo>
                  <a:pt x="726" y="1202"/>
                </a:lnTo>
                <a:lnTo>
                  <a:pt x="709" y="1236"/>
                </a:lnTo>
                <a:lnTo>
                  <a:pt x="691" y="1271"/>
                </a:lnTo>
                <a:lnTo>
                  <a:pt x="674" y="1304"/>
                </a:lnTo>
                <a:lnTo>
                  <a:pt x="655" y="1336"/>
                </a:lnTo>
                <a:lnTo>
                  <a:pt x="636" y="1369"/>
                </a:lnTo>
                <a:lnTo>
                  <a:pt x="616" y="1402"/>
                </a:lnTo>
                <a:lnTo>
                  <a:pt x="595" y="1432"/>
                </a:lnTo>
                <a:lnTo>
                  <a:pt x="574" y="1465"/>
                </a:lnTo>
                <a:lnTo>
                  <a:pt x="553" y="1494"/>
                </a:lnTo>
                <a:lnTo>
                  <a:pt x="530" y="1524"/>
                </a:lnTo>
                <a:lnTo>
                  <a:pt x="509" y="1553"/>
                </a:lnTo>
                <a:lnTo>
                  <a:pt x="484" y="1584"/>
                </a:lnTo>
                <a:lnTo>
                  <a:pt x="461" y="1611"/>
                </a:lnTo>
                <a:lnTo>
                  <a:pt x="436" y="1638"/>
                </a:lnTo>
                <a:lnTo>
                  <a:pt x="413" y="1665"/>
                </a:lnTo>
                <a:lnTo>
                  <a:pt x="390" y="1689"/>
                </a:lnTo>
                <a:lnTo>
                  <a:pt x="367" y="1714"/>
                </a:lnTo>
                <a:lnTo>
                  <a:pt x="346" y="1737"/>
                </a:lnTo>
                <a:lnTo>
                  <a:pt x="325" y="1759"/>
                </a:lnTo>
                <a:lnTo>
                  <a:pt x="302" y="1782"/>
                </a:lnTo>
                <a:lnTo>
                  <a:pt x="282" y="1801"/>
                </a:lnTo>
                <a:lnTo>
                  <a:pt x="261" y="1822"/>
                </a:lnTo>
                <a:lnTo>
                  <a:pt x="242" y="1841"/>
                </a:lnTo>
                <a:lnTo>
                  <a:pt x="223" y="1860"/>
                </a:lnTo>
                <a:lnTo>
                  <a:pt x="206" y="1878"/>
                </a:lnTo>
                <a:lnTo>
                  <a:pt x="188" y="1895"/>
                </a:lnTo>
                <a:lnTo>
                  <a:pt x="171" y="1910"/>
                </a:lnTo>
                <a:lnTo>
                  <a:pt x="156" y="1928"/>
                </a:lnTo>
                <a:lnTo>
                  <a:pt x="138" y="1939"/>
                </a:lnTo>
                <a:lnTo>
                  <a:pt x="123" y="1951"/>
                </a:lnTo>
                <a:lnTo>
                  <a:pt x="108" y="1960"/>
                </a:lnTo>
                <a:lnTo>
                  <a:pt x="94" y="1970"/>
                </a:lnTo>
                <a:lnTo>
                  <a:pt x="81" y="1977"/>
                </a:lnTo>
                <a:lnTo>
                  <a:pt x="69" y="1983"/>
                </a:lnTo>
                <a:lnTo>
                  <a:pt x="58" y="1989"/>
                </a:lnTo>
                <a:lnTo>
                  <a:pt x="48" y="1993"/>
                </a:lnTo>
                <a:lnTo>
                  <a:pt x="39" y="1997"/>
                </a:lnTo>
                <a:lnTo>
                  <a:pt x="31" y="1999"/>
                </a:lnTo>
                <a:lnTo>
                  <a:pt x="25" y="2000"/>
                </a:lnTo>
                <a:lnTo>
                  <a:pt x="18" y="2000"/>
                </a:lnTo>
                <a:lnTo>
                  <a:pt x="14" y="2000"/>
                </a:lnTo>
                <a:lnTo>
                  <a:pt x="8" y="2000"/>
                </a:lnTo>
                <a:lnTo>
                  <a:pt x="6" y="1999"/>
                </a:lnTo>
                <a:lnTo>
                  <a:pt x="2" y="19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86"/>
          <p:cNvSpPr/>
          <p:nvPr/>
        </p:nvSpPr>
        <p:spPr>
          <a:xfrm>
            <a:off x="6534000" y="2770200"/>
            <a:ext cx="541440" cy="1822320"/>
          </a:xfrm>
          <a:custGeom>
            <a:avLst/>
            <a:gdLst/>
            <a:ahLst/>
            <a:rect l="l" t="t" r="r" b="b"/>
            <a:pathLst>
              <a:path w="683" h="2295">
                <a:moveTo>
                  <a:pt x="458" y="1881"/>
                </a:moveTo>
                <a:lnTo>
                  <a:pt x="430" y="1913"/>
                </a:lnTo>
                <a:lnTo>
                  <a:pt x="405" y="1944"/>
                </a:lnTo>
                <a:lnTo>
                  <a:pt x="380" y="1973"/>
                </a:lnTo>
                <a:lnTo>
                  <a:pt x="355" y="2002"/>
                </a:lnTo>
                <a:lnTo>
                  <a:pt x="334" y="2028"/>
                </a:lnTo>
                <a:lnTo>
                  <a:pt x="313" y="2053"/>
                </a:lnTo>
                <a:lnTo>
                  <a:pt x="293" y="2076"/>
                </a:lnTo>
                <a:lnTo>
                  <a:pt x="276" y="2097"/>
                </a:lnTo>
                <a:lnTo>
                  <a:pt x="261" y="2117"/>
                </a:lnTo>
                <a:lnTo>
                  <a:pt x="247" y="2134"/>
                </a:lnTo>
                <a:lnTo>
                  <a:pt x="234" y="2151"/>
                </a:lnTo>
                <a:lnTo>
                  <a:pt x="224" y="2167"/>
                </a:lnTo>
                <a:lnTo>
                  <a:pt x="215" y="2180"/>
                </a:lnTo>
                <a:lnTo>
                  <a:pt x="209" y="2192"/>
                </a:lnTo>
                <a:lnTo>
                  <a:pt x="205" y="2197"/>
                </a:lnTo>
                <a:lnTo>
                  <a:pt x="203" y="2201"/>
                </a:lnTo>
                <a:lnTo>
                  <a:pt x="201" y="2205"/>
                </a:lnTo>
                <a:lnTo>
                  <a:pt x="199" y="2211"/>
                </a:lnTo>
                <a:lnTo>
                  <a:pt x="197" y="2220"/>
                </a:lnTo>
                <a:lnTo>
                  <a:pt x="195" y="2230"/>
                </a:lnTo>
                <a:lnTo>
                  <a:pt x="192" y="2238"/>
                </a:lnTo>
                <a:lnTo>
                  <a:pt x="190" y="2245"/>
                </a:lnTo>
                <a:lnTo>
                  <a:pt x="186" y="2253"/>
                </a:lnTo>
                <a:lnTo>
                  <a:pt x="182" y="2261"/>
                </a:lnTo>
                <a:lnTo>
                  <a:pt x="178" y="2266"/>
                </a:lnTo>
                <a:lnTo>
                  <a:pt x="174" y="2272"/>
                </a:lnTo>
                <a:lnTo>
                  <a:pt x="170" y="2276"/>
                </a:lnTo>
                <a:lnTo>
                  <a:pt x="167" y="2280"/>
                </a:lnTo>
                <a:lnTo>
                  <a:pt x="163" y="2284"/>
                </a:lnTo>
                <a:lnTo>
                  <a:pt x="159" y="2288"/>
                </a:lnTo>
                <a:lnTo>
                  <a:pt x="153" y="2289"/>
                </a:lnTo>
                <a:lnTo>
                  <a:pt x="149" y="2291"/>
                </a:lnTo>
                <a:lnTo>
                  <a:pt x="146" y="2291"/>
                </a:lnTo>
                <a:lnTo>
                  <a:pt x="142" y="2293"/>
                </a:lnTo>
                <a:lnTo>
                  <a:pt x="134" y="2295"/>
                </a:lnTo>
                <a:lnTo>
                  <a:pt x="128" y="2295"/>
                </a:lnTo>
                <a:lnTo>
                  <a:pt x="122" y="2295"/>
                </a:lnTo>
                <a:lnTo>
                  <a:pt x="117" y="2295"/>
                </a:lnTo>
                <a:lnTo>
                  <a:pt x="111" y="2293"/>
                </a:lnTo>
                <a:lnTo>
                  <a:pt x="105" y="2291"/>
                </a:lnTo>
                <a:lnTo>
                  <a:pt x="99" y="2288"/>
                </a:lnTo>
                <a:lnTo>
                  <a:pt x="94" y="2284"/>
                </a:lnTo>
                <a:lnTo>
                  <a:pt x="88" y="2280"/>
                </a:lnTo>
                <a:lnTo>
                  <a:pt x="82" y="2274"/>
                </a:lnTo>
                <a:lnTo>
                  <a:pt x="76" y="2266"/>
                </a:lnTo>
                <a:lnTo>
                  <a:pt x="71" y="2261"/>
                </a:lnTo>
                <a:lnTo>
                  <a:pt x="65" y="2251"/>
                </a:lnTo>
                <a:lnTo>
                  <a:pt x="59" y="2243"/>
                </a:lnTo>
                <a:lnTo>
                  <a:pt x="53" y="2234"/>
                </a:lnTo>
                <a:lnTo>
                  <a:pt x="48" y="2224"/>
                </a:lnTo>
                <a:lnTo>
                  <a:pt x="40" y="2217"/>
                </a:lnTo>
                <a:lnTo>
                  <a:pt x="34" y="2209"/>
                </a:lnTo>
                <a:lnTo>
                  <a:pt x="30" y="2201"/>
                </a:lnTo>
                <a:lnTo>
                  <a:pt x="25" y="2193"/>
                </a:lnTo>
                <a:lnTo>
                  <a:pt x="17" y="2178"/>
                </a:lnTo>
                <a:lnTo>
                  <a:pt x="11" y="2163"/>
                </a:lnTo>
                <a:lnTo>
                  <a:pt x="5" y="2149"/>
                </a:lnTo>
                <a:lnTo>
                  <a:pt x="3" y="2136"/>
                </a:lnTo>
                <a:lnTo>
                  <a:pt x="2" y="2124"/>
                </a:lnTo>
                <a:lnTo>
                  <a:pt x="0" y="2115"/>
                </a:lnTo>
                <a:lnTo>
                  <a:pt x="0" y="2109"/>
                </a:lnTo>
                <a:lnTo>
                  <a:pt x="2" y="2103"/>
                </a:lnTo>
                <a:lnTo>
                  <a:pt x="3" y="2097"/>
                </a:lnTo>
                <a:lnTo>
                  <a:pt x="3" y="2090"/>
                </a:lnTo>
                <a:lnTo>
                  <a:pt x="7" y="2084"/>
                </a:lnTo>
                <a:lnTo>
                  <a:pt x="9" y="2078"/>
                </a:lnTo>
                <a:lnTo>
                  <a:pt x="17" y="2063"/>
                </a:lnTo>
                <a:lnTo>
                  <a:pt x="25" y="2050"/>
                </a:lnTo>
                <a:lnTo>
                  <a:pt x="34" y="2034"/>
                </a:lnTo>
                <a:lnTo>
                  <a:pt x="46" y="2019"/>
                </a:lnTo>
                <a:lnTo>
                  <a:pt x="59" y="2003"/>
                </a:lnTo>
                <a:lnTo>
                  <a:pt x="61" y="2000"/>
                </a:lnTo>
                <a:lnTo>
                  <a:pt x="65" y="1994"/>
                </a:lnTo>
                <a:lnTo>
                  <a:pt x="69" y="1988"/>
                </a:lnTo>
                <a:lnTo>
                  <a:pt x="71" y="1982"/>
                </a:lnTo>
                <a:lnTo>
                  <a:pt x="74" y="1975"/>
                </a:lnTo>
                <a:lnTo>
                  <a:pt x="76" y="1965"/>
                </a:lnTo>
                <a:lnTo>
                  <a:pt x="80" y="1957"/>
                </a:lnTo>
                <a:lnTo>
                  <a:pt x="82" y="1948"/>
                </a:lnTo>
                <a:lnTo>
                  <a:pt x="86" y="1936"/>
                </a:lnTo>
                <a:lnTo>
                  <a:pt x="88" y="1925"/>
                </a:lnTo>
                <a:lnTo>
                  <a:pt x="92" y="1913"/>
                </a:lnTo>
                <a:lnTo>
                  <a:pt x="94" y="1900"/>
                </a:lnTo>
                <a:lnTo>
                  <a:pt x="98" y="1886"/>
                </a:lnTo>
                <a:lnTo>
                  <a:pt x="99" y="1873"/>
                </a:lnTo>
                <a:lnTo>
                  <a:pt x="101" y="1858"/>
                </a:lnTo>
                <a:lnTo>
                  <a:pt x="103" y="1842"/>
                </a:lnTo>
                <a:lnTo>
                  <a:pt x="107" y="1825"/>
                </a:lnTo>
                <a:lnTo>
                  <a:pt x="109" y="1808"/>
                </a:lnTo>
                <a:lnTo>
                  <a:pt x="111" y="1790"/>
                </a:lnTo>
                <a:lnTo>
                  <a:pt x="115" y="1771"/>
                </a:lnTo>
                <a:lnTo>
                  <a:pt x="117" y="1752"/>
                </a:lnTo>
                <a:lnTo>
                  <a:pt x="119" y="1733"/>
                </a:lnTo>
                <a:lnTo>
                  <a:pt x="121" y="1712"/>
                </a:lnTo>
                <a:lnTo>
                  <a:pt x="122" y="1691"/>
                </a:lnTo>
                <a:lnTo>
                  <a:pt x="126" y="1668"/>
                </a:lnTo>
                <a:lnTo>
                  <a:pt x="128" y="1646"/>
                </a:lnTo>
                <a:lnTo>
                  <a:pt x="130" y="1621"/>
                </a:lnTo>
                <a:lnTo>
                  <a:pt x="132" y="1598"/>
                </a:lnTo>
                <a:lnTo>
                  <a:pt x="134" y="1573"/>
                </a:lnTo>
                <a:lnTo>
                  <a:pt x="136" y="1549"/>
                </a:lnTo>
                <a:lnTo>
                  <a:pt x="138" y="1522"/>
                </a:lnTo>
                <a:lnTo>
                  <a:pt x="142" y="1495"/>
                </a:lnTo>
                <a:lnTo>
                  <a:pt x="149" y="1385"/>
                </a:lnTo>
                <a:lnTo>
                  <a:pt x="157" y="1278"/>
                </a:lnTo>
                <a:lnTo>
                  <a:pt x="163" y="1168"/>
                </a:lnTo>
                <a:lnTo>
                  <a:pt x="169" y="1059"/>
                </a:lnTo>
                <a:lnTo>
                  <a:pt x="174" y="950"/>
                </a:lnTo>
                <a:lnTo>
                  <a:pt x="178" y="838"/>
                </a:lnTo>
                <a:lnTo>
                  <a:pt x="184" y="727"/>
                </a:lnTo>
                <a:lnTo>
                  <a:pt x="188" y="614"/>
                </a:lnTo>
                <a:lnTo>
                  <a:pt x="188" y="587"/>
                </a:lnTo>
                <a:lnTo>
                  <a:pt x="188" y="558"/>
                </a:lnTo>
                <a:lnTo>
                  <a:pt x="188" y="533"/>
                </a:lnTo>
                <a:lnTo>
                  <a:pt x="188" y="506"/>
                </a:lnTo>
                <a:lnTo>
                  <a:pt x="188" y="481"/>
                </a:lnTo>
                <a:lnTo>
                  <a:pt x="186" y="456"/>
                </a:lnTo>
                <a:lnTo>
                  <a:pt x="186" y="433"/>
                </a:lnTo>
                <a:lnTo>
                  <a:pt x="186" y="410"/>
                </a:lnTo>
                <a:lnTo>
                  <a:pt x="184" y="389"/>
                </a:lnTo>
                <a:lnTo>
                  <a:pt x="184" y="368"/>
                </a:lnTo>
                <a:lnTo>
                  <a:pt x="184" y="347"/>
                </a:lnTo>
                <a:lnTo>
                  <a:pt x="182" y="326"/>
                </a:lnTo>
                <a:lnTo>
                  <a:pt x="182" y="309"/>
                </a:lnTo>
                <a:lnTo>
                  <a:pt x="180" y="289"/>
                </a:lnTo>
                <a:lnTo>
                  <a:pt x="178" y="272"/>
                </a:lnTo>
                <a:lnTo>
                  <a:pt x="178" y="255"/>
                </a:lnTo>
                <a:lnTo>
                  <a:pt x="176" y="239"/>
                </a:lnTo>
                <a:lnTo>
                  <a:pt x="174" y="224"/>
                </a:lnTo>
                <a:lnTo>
                  <a:pt x="172" y="209"/>
                </a:lnTo>
                <a:lnTo>
                  <a:pt x="170" y="195"/>
                </a:lnTo>
                <a:lnTo>
                  <a:pt x="169" y="182"/>
                </a:lnTo>
                <a:lnTo>
                  <a:pt x="167" y="170"/>
                </a:lnTo>
                <a:lnTo>
                  <a:pt x="165" y="159"/>
                </a:lnTo>
                <a:lnTo>
                  <a:pt x="163" y="147"/>
                </a:lnTo>
                <a:lnTo>
                  <a:pt x="161" y="138"/>
                </a:lnTo>
                <a:lnTo>
                  <a:pt x="159" y="128"/>
                </a:lnTo>
                <a:lnTo>
                  <a:pt x="155" y="120"/>
                </a:lnTo>
                <a:lnTo>
                  <a:pt x="153" y="113"/>
                </a:lnTo>
                <a:lnTo>
                  <a:pt x="149" y="107"/>
                </a:lnTo>
                <a:lnTo>
                  <a:pt x="147" y="101"/>
                </a:lnTo>
                <a:lnTo>
                  <a:pt x="144" y="95"/>
                </a:lnTo>
                <a:lnTo>
                  <a:pt x="142" y="92"/>
                </a:lnTo>
                <a:lnTo>
                  <a:pt x="134" y="84"/>
                </a:lnTo>
                <a:lnTo>
                  <a:pt x="128" y="76"/>
                </a:lnTo>
                <a:lnTo>
                  <a:pt x="124" y="69"/>
                </a:lnTo>
                <a:lnTo>
                  <a:pt x="119" y="63"/>
                </a:lnTo>
                <a:lnTo>
                  <a:pt x="115" y="57"/>
                </a:lnTo>
                <a:lnTo>
                  <a:pt x="111" y="51"/>
                </a:lnTo>
                <a:lnTo>
                  <a:pt x="109" y="46"/>
                </a:lnTo>
                <a:lnTo>
                  <a:pt x="105" y="40"/>
                </a:lnTo>
                <a:lnTo>
                  <a:pt x="103" y="34"/>
                </a:lnTo>
                <a:lnTo>
                  <a:pt x="103" y="30"/>
                </a:lnTo>
                <a:lnTo>
                  <a:pt x="101" y="26"/>
                </a:lnTo>
                <a:lnTo>
                  <a:pt x="101" y="21"/>
                </a:lnTo>
                <a:lnTo>
                  <a:pt x="101" y="19"/>
                </a:lnTo>
                <a:lnTo>
                  <a:pt x="103" y="15"/>
                </a:lnTo>
                <a:lnTo>
                  <a:pt x="103" y="11"/>
                </a:lnTo>
                <a:lnTo>
                  <a:pt x="105" y="9"/>
                </a:lnTo>
                <a:lnTo>
                  <a:pt x="109" y="5"/>
                </a:lnTo>
                <a:lnTo>
                  <a:pt x="111" y="3"/>
                </a:lnTo>
                <a:lnTo>
                  <a:pt x="117" y="1"/>
                </a:lnTo>
                <a:lnTo>
                  <a:pt x="121" y="1"/>
                </a:lnTo>
                <a:lnTo>
                  <a:pt x="126" y="0"/>
                </a:lnTo>
                <a:lnTo>
                  <a:pt x="134" y="0"/>
                </a:lnTo>
                <a:lnTo>
                  <a:pt x="142" y="0"/>
                </a:lnTo>
                <a:lnTo>
                  <a:pt x="149" y="0"/>
                </a:lnTo>
                <a:lnTo>
                  <a:pt x="159" y="1"/>
                </a:lnTo>
                <a:lnTo>
                  <a:pt x="169" y="1"/>
                </a:lnTo>
                <a:lnTo>
                  <a:pt x="180" y="3"/>
                </a:lnTo>
                <a:lnTo>
                  <a:pt x="192" y="7"/>
                </a:lnTo>
                <a:lnTo>
                  <a:pt x="205" y="9"/>
                </a:lnTo>
                <a:lnTo>
                  <a:pt x="218" y="13"/>
                </a:lnTo>
                <a:lnTo>
                  <a:pt x="232" y="17"/>
                </a:lnTo>
                <a:lnTo>
                  <a:pt x="247" y="23"/>
                </a:lnTo>
                <a:lnTo>
                  <a:pt x="259" y="30"/>
                </a:lnTo>
                <a:lnTo>
                  <a:pt x="272" y="38"/>
                </a:lnTo>
                <a:lnTo>
                  <a:pt x="284" y="44"/>
                </a:lnTo>
                <a:lnTo>
                  <a:pt x="295" y="51"/>
                </a:lnTo>
                <a:lnTo>
                  <a:pt x="305" y="57"/>
                </a:lnTo>
                <a:lnTo>
                  <a:pt x="316" y="65"/>
                </a:lnTo>
                <a:lnTo>
                  <a:pt x="324" y="71"/>
                </a:lnTo>
                <a:lnTo>
                  <a:pt x="334" y="76"/>
                </a:lnTo>
                <a:lnTo>
                  <a:pt x="341" y="82"/>
                </a:lnTo>
                <a:lnTo>
                  <a:pt x="349" y="88"/>
                </a:lnTo>
                <a:lnTo>
                  <a:pt x="355" y="92"/>
                </a:lnTo>
                <a:lnTo>
                  <a:pt x="360" y="97"/>
                </a:lnTo>
                <a:lnTo>
                  <a:pt x="366" y="103"/>
                </a:lnTo>
                <a:lnTo>
                  <a:pt x="370" y="109"/>
                </a:lnTo>
                <a:lnTo>
                  <a:pt x="374" y="113"/>
                </a:lnTo>
                <a:lnTo>
                  <a:pt x="376" y="119"/>
                </a:lnTo>
                <a:lnTo>
                  <a:pt x="378" y="126"/>
                </a:lnTo>
                <a:lnTo>
                  <a:pt x="380" y="134"/>
                </a:lnTo>
                <a:lnTo>
                  <a:pt x="380" y="142"/>
                </a:lnTo>
                <a:lnTo>
                  <a:pt x="380" y="147"/>
                </a:lnTo>
                <a:lnTo>
                  <a:pt x="380" y="161"/>
                </a:lnTo>
                <a:lnTo>
                  <a:pt x="378" y="174"/>
                </a:lnTo>
                <a:lnTo>
                  <a:pt x="376" y="188"/>
                </a:lnTo>
                <a:lnTo>
                  <a:pt x="372" y="201"/>
                </a:lnTo>
                <a:lnTo>
                  <a:pt x="368" y="214"/>
                </a:lnTo>
                <a:lnTo>
                  <a:pt x="364" y="230"/>
                </a:lnTo>
                <a:lnTo>
                  <a:pt x="362" y="234"/>
                </a:lnTo>
                <a:lnTo>
                  <a:pt x="360" y="238"/>
                </a:lnTo>
                <a:lnTo>
                  <a:pt x="359" y="243"/>
                </a:lnTo>
                <a:lnTo>
                  <a:pt x="357" y="251"/>
                </a:lnTo>
                <a:lnTo>
                  <a:pt x="355" y="259"/>
                </a:lnTo>
                <a:lnTo>
                  <a:pt x="353" y="266"/>
                </a:lnTo>
                <a:lnTo>
                  <a:pt x="351" y="276"/>
                </a:lnTo>
                <a:lnTo>
                  <a:pt x="349" y="286"/>
                </a:lnTo>
                <a:lnTo>
                  <a:pt x="347" y="295"/>
                </a:lnTo>
                <a:lnTo>
                  <a:pt x="345" y="307"/>
                </a:lnTo>
                <a:lnTo>
                  <a:pt x="343" y="320"/>
                </a:lnTo>
                <a:lnTo>
                  <a:pt x="341" y="332"/>
                </a:lnTo>
                <a:lnTo>
                  <a:pt x="341" y="345"/>
                </a:lnTo>
                <a:lnTo>
                  <a:pt x="339" y="360"/>
                </a:lnTo>
                <a:lnTo>
                  <a:pt x="337" y="376"/>
                </a:lnTo>
                <a:lnTo>
                  <a:pt x="336" y="391"/>
                </a:lnTo>
                <a:lnTo>
                  <a:pt x="336" y="406"/>
                </a:lnTo>
                <a:lnTo>
                  <a:pt x="334" y="424"/>
                </a:lnTo>
                <a:lnTo>
                  <a:pt x="332" y="443"/>
                </a:lnTo>
                <a:lnTo>
                  <a:pt x="330" y="460"/>
                </a:lnTo>
                <a:lnTo>
                  <a:pt x="330" y="479"/>
                </a:lnTo>
                <a:lnTo>
                  <a:pt x="328" y="500"/>
                </a:lnTo>
                <a:lnTo>
                  <a:pt x="328" y="522"/>
                </a:lnTo>
                <a:lnTo>
                  <a:pt x="326" y="543"/>
                </a:lnTo>
                <a:lnTo>
                  <a:pt x="324" y="564"/>
                </a:lnTo>
                <a:lnTo>
                  <a:pt x="324" y="587"/>
                </a:lnTo>
                <a:lnTo>
                  <a:pt x="322" y="610"/>
                </a:lnTo>
                <a:lnTo>
                  <a:pt x="322" y="635"/>
                </a:lnTo>
                <a:lnTo>
                  <a:pt x="320" y="660"/>
                </a:lnTo>
                <a:lnTo>
                  <a:pt x="318" y="685"/>
                </a:lnTo>
                <a:lnTo>
                  <a:pt x="318" y="712"/>
                </a:lnTo>
                <a:lnTo>
                  <a:pt x="316" y="739"/>
                </a:lnTo>
                <a:lnTo>
                  <a:pt x="314" y="794"/>
                </a:lnTo>
                <a:lnTo>
                  <a:pt x="313" y="850"/>
                </a:lnTo>
                <a:lnTo>
                  <a:pt x="309" y="902"/>
                </a:lnTo>
                <a:lnTo>
                  <a:pt x="307" y="955"/>
                </a:lnTo>
                <a:lnTo>
                  <a:pt x="303" y="1005"/>
                </a:lnTo>
                <a:lnTo>
                  <a:pt x="299" y="1055"/>
                </a:lnTo>
                <a:lnTo>
                  <a:pt x="297" y="1105"/>
                </a:lnTo>
                <a:lnTo>
                  <a:pt x="293" y="1153"/>
                </a:lnTo>
                <a:lnTo>
                  <a:pt x="289" y="1199"/>
                </a:lnTo>
                <a:lnTo>
                  <a:pt x="288" y="1243"/>
                </a:lnTo>
                <a:lnTo>
                  <a:pt x="284" y="1289"/>
                </a:lnTo>
                <a:lnTo>
                  <a:pt x="280" y="1332"/>
                </a:lnTo>
                <a:lnTo>
                  <a:pt x="278" y="1374"/>
                </a:lnTo>
                <a:lnTo>
                  <a:pt x="274" y="1416"/>
                </a:lnTo>
                <a:lnTo>
                  <a:pt x="272" y="1456"/>
                </a:lnTo>
                <a:lnTo>
                  <a:pt x="270" y="1495"/>
                </a:lnTo>
                <a:lnTo>
                  <a:pt x="268" y="1514"/>
                </a:lnTo>
                <a:lnTo>
                  <a:pt x="266" y="1533"/>
                </a:lnTo>
                <a:lnTo>
                  <a:pt x="265" y="1550"/>
                </a:lnTo>
                <a:lnTo>
                  <a:pt x="263" y="1568"/>
                </a:lnTo>
                <a:lnTo>
                  <a:pt x="261" y="1585"/>
                </a:lnTo>
                <a:lnTo>
                  <a:pt x="259" y="1600"/>
                </a:lnTo>
                <a:lnTo>
                  <a:pt x="259" y="1616"/>
                </a:lnTo>
                <a:lnTo>
                  <a:pt x="257" y="1631"/>
                </a:lnTo>
                <a:lnTo>
                  <a:pt x="257" y="1646"/>
                </a:lnTo>
                <a:lnTo>
                  <a:pt x="255" y="1660"/>
                </a:lnTo>
                <a:lnTo>
                  <a:pt x="255" y="1673"/>
                </a:lnTo>
                <a:lnTo>
                  <a:pt x="253" y="1687"/>
                </a:lnTo>
                <a:lnTo>
                  <a:pt x="253" y="1698"/>
                </a:lnTo>
                <a:lnTo>
                  <a:pt x="253" y="1710"/>
                </a:lnTo>
                <a:lnTo>
                  <a:pt x="253" y="1721"/>
                </a:lnTo>
                <a:lnTo>
                  <a:pt x="253" y="1733"/>
                </a:lnTo>
                <a:lnTo>
                  <a:pt x="253" y="1742"/>
                </a:lnTo>
                <a:lnTo>
                  <a:pt x="253" y="1752"/>
                </a:lnTo>
                <a:lnTo>
                  <a:pt x="253" y="1760"/>
                </a:lnTo>
                <a:lnTo>
                  <a:pt x="253" y="1769"/>
                </a:lnTo>
                <a:lnTo>
                  <a:pt x="255" y="1777"/>
                </a:lnTo>
                <a:lnTo>
                  <a:pt x="255" y="1785"/>
                </a:lnTo>
                <a:lnTo>
                  <a:pt x="257" y="1790"/>
                </a:lnTo>
                <a:lnTo>
                  <a:pt x="257" y="1796"/>
                </a:lnTo>
                <a:lnTo>
                  <a:pt x="259" y="1802"/>
                </a:lnTo>
                <a:lnTo>
                  <a:pt x="259" y="1808"/>
                </a:lnTo>
                <a:lnTo>
                  <a:pt x="261" y="1811"/>
                </a:lnTo>
                <a:lnTo>
                  <a:pt x="263" y="1815"/>
                </a:lnTo>
                <a:lnTo>
                  <a:pt x="265" y="1819"/>
                </a:lnTo>
                <a:lnTo>
                  <a:pt x="266" y="1821"/>
                </a:lnTo>
                <a:lnTo>
                  <a:pt x="268" y="1823"/>
                </a:lnTo>
                <a:lnTo>
                  <a:pt x="270" y="1825"/>
                </a:lnTo>
                <a:lnTo>
                  <a:pt x="272" y="1827"/>
                </a:lnTo>
                <a:lnTo>
                  <a:pt x="278" y="1827"/>
                </a:lnTo>
                <a:lnTo>
                  <a:pt x="284" y="1827"/>
                </a:lnTo>
                <a:lnTo>
                  <a:pt x="289" y="1825"/>
                </a:lnTo>
                <a:lnTo>
                  <a:pt x="299" y="1821"/>
                </a:lnTo>
                <a:lnTo>
                  <a:pt x="309" y="1817"/>
                </a:lnTo>
                <a:lnTo>
                  <a:pt x="320" y="1810"/>
                </a:lnTo>
                <a:lnTo>
                  <a:pt x="332" y="1804"/>
                </a:lnTo>
                <a:lnTo>
                  <a:pt x="345" y="1794"/>
                </a:lnTo>
                <a:lnTo>
                  <a:pt x="360" y="1783"/>
                </a:lnTo>
                <a:lnTo>
                  <a:pt x="378" y="1771"/>
                </a:lnTo>
                <a:lnTo>
                  <a:pt x="397" y="1758"/>
                </a:lnTo>
                <a:lnTo>
                  <a:pt x="416" y="1742"/>
                </a:lnTo>
                <a:lnTo>
                  <a:pt x="435" y="1725"/>
                </a:lnTo>
                <a:lnTo>
                  <a:pt x="458" y="1708"/>
                </a:lnTo>
                <a:lnTo>
                  <a:pt x="481" y="1687"/>
                </a:lnTo>
                <a:lnTo>
                  <a:pt x="504" y="1669"/>
                </a:lnTo>
                <a:lnTo>
                  <a:pt x="526" y="1654"/>
                </a:lnTo>
                <a:lnTo>
                  <a:pt x="547" y="1639"/>
                </a:lnTo>
                <a:lnTo>
                  <a:pt x="566" y="1625"/>
                </a:lnTo>
                <a:lnTo>
                  <a:pt x="583" y="1612"/>
                </a:lnTo>
                <a:lnTo>
                  <a:pt x="599" y="1602"/>
                </a:lnTo>
                <a:lnTo>
                  <a:pt x="612" y="1593"/>
                </a:lnTo>
                <a:lnTo>
                  <a:pt x="625" y="1583"/>
                </a:lnTo>
                <a:lnTo>
                  <a:pt x="637" y="1577"/>
                </a:lnTo>
                <a:lnTo>
                  <a:pt x="646" y="1572"/>
                </a:lnTo>
                <a:lnTo>
                  <a:pt x="656" y="1566"/>
                </a:lnTo>
                <a:lnTo>
                  <a:pt x="664" y="1564"/>
                </a:lnTo>
                <a:lnTo>
                  <a:pt x="670" y="1562"/>
                </a:lnTo>
                <a:lnTo>
                  <a:pt x="675" y="1560"/>
                </a:lnTo>
                <a:lnTo>
                  <a:pt x="679" y="1562"/>
                </a:lnTo>
                <a:lnTo>
                  <a:pt x="681" y="1564"/>
                </a:lnTo>
                <a:lnTo>
                  <a:pt x="681" y="1566"/>
                </a:lnTo>
                <a:lnTo>
                  <a:pt x="683" y="1570"/>
                </a:lnTo>
                <a:lnTo>
                  <a:pt x="681" y="1573"/>
                </a:lnTo>
                <a:lnTo>
                  <a:pt x="681" y="1577"/>
                </a:lnTo>
                <a:lnTo>
                  <a:pt x="679" y="1583"/>
                </a:lnTo>
                <a:lnTo>
                  <a:pt x="677" y="1587"/>
                </a:lnTo>
                <a:lnTo>
                  <a:pt x="675" y="1593"/>
                </a:lnTo>
                <a:lnTo>
                  <a:pt x="671" y="1598"/>
                </a:lnTo>
                <a:lnTo>
                  <a:pt x="670" y="1606"/>
                </a:lnTo>
                <a:lnTo>
                  <a:pt x="666" y="1612"/>
                </a:lnTo>
                <a:lnTo>
                  <a:pt x="660" y="1620"/>
                </a:lnTo>
                <a:lnTo>
                  <a:pt x="656" y="1627"/>
                </a:lnTo>
                <a:lnTo>
                  <a:pt x="650" y="1637"/>
                </a:lnTo>
                <a:lnTo>
                  <a:pt x="645" y="1645"/>
                </a:lnTo>
                <a:lnTo>
                  <a:pt x="637" y="1654"/>
                </a:lnTo>
                <a:lnTo>
                  <a:pt x="631" y="1664"/>
                </a:lnTo>
                <a:lnTo>
                  <a:pt x="616" y="1685"/>
                </a:lnTo>
                <a:lnTo>
                  <a:pt x="599" y="1708"/>
                </a:lnTo>
                <a:lnTo>
                  <a:pt x="579" y="1733"/>
                </a:lnTo>
                <a:lnTo>
                  <a:pt x="558" y="1758"/>
                </a:lnTo>
                <a:lnTo>
                  <a:pt x="535" y="1787"/>
                </a:lnTo>
                <a:lnTo>
                  <a:pt x="512" y="1815"/>
                </a:lnTo>
                <a:lnTo>
                  <a:pt x="485" y="1846"/>
                </a:lnTo>
                <a:lnTo>
                  <a:pt x="458" y="18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87"/>
          <p:cNvSpPr/>
          <p:nvPr/>
        </p:nvSpPr>
        <p:spPr>
          <a:xfrm>
            <a:off x="6407280" y="3516480"/>
            <a:ext cx="591840" cy="247320"/>
          </a:xfrm>
          <a:custGeom>
            <a:avLst/>
            <a:gdLst/>
            <a:ahLst/>
            <a:rect l="l" t="t" r="r" b="b"/>
            <a:pathLst>
              <a:path w="747" h="311">
                <a:moveTo>
                  <a:pt x="689" y="156"/>
                </a:moveTo>
                <a:lnTo>
                  <a:pt x="682" y="161"/>
                </a:lnTo>
                <a:lnTo>
                  <a:pt x="672" y="165"/>
                </a:lnTo>
                <a:lnTo>
                  <a:pt x="663" y="171"/>
                </a:lnTo>
                <a:lnTo>
                  <a:pt x="651" y="177"/>
                </a:lnTo>
                <a:lnTo>
                  <a:pt x="638" y="182"/>
                </a:lnTo>
                <a:lnTo>
                  <a:pt x="622" y="186"/>
                </a:lnTo>
                <a:lnTo>
                  <a:pt x="607" y="192"/>
                </a:lnTo>
                <a:lnTo>
                  <a:pt x="588" y="198"/>
                </a:lnTo>
                <a:lnTo>
                  <a:pt x="568" y="204"/>
                </a:lnTo>
                <a:lnTo>
                  <a:pt x="547" y="211"/>
                </a:lnTo>
                <a:lnTo>
                  <a:pt x="524" y="217"/>
                </a:lnTo>
                <a:lnTo>
                  <a:pt x="499" y="223"/>
                </a:lnTo>
                <a:lnTo>
                  <a:pt x="474" y="230"/>
                </a:lnTo>
                <a:lnTo>
                  <a:pt x="446" y="236"/>
                </a:lnTo>
                <a:lnTo>
                  <a:pt x="415" y="244"/>
                </a:lnTo>
                <a:lnTo>
                  <a:pt x="384" y="252"/>
                </a:lnTo>
                <a:lnTo>
                  <a:pt x="352" y="259"/>
                </a:lnTo>
                <a:lnTo>
                  <a:pt x="321" y="267"/>
                </a:lnTo>
                <a:lnTo>
                  <a:pt x="292" y="275"/>
                </a:lnTo>
                <a:lnTo>
                  <a:pt x="265" y="280"/>
                </a:lnTo>
                <a:lnTo>
                  <a:pt x="242" y="286"/>
                </a:lnTo>
                <a:lnTo>
                  <a:pt x="219" y="292"/>
                </a:lnTo>
                <a:lnTo>
                  <a:pt x="198" y="296"/>
                </a:lnTo>
                <a:lnTo>
                  <a:pt x="177" y="299"/>
                </a:lnTo>
                <a:lnTo>
                  <a:pt x="160" y="303"/>
                </a:lnTo>
                <a:lnTo>
                  <a:pt x="142" y="307"/>
                </a:lnTo>
                <a:lnTo>
                  <a:pt x="129" y="309"/>
                </a:lnTo>
                <a:lnTo>
                  <a:pt x="115" y="311"/>
                </a:lnTo>
                <a:lnTo>
                  <a:pt x="104" y="311"/>
                </a:lnTo>
                <a:lnTo>
                  <a:pt x="94" y="311"/>
                </a:lnTo>
                <a:lnTo>
                  <a:pt x="85" y="309"/>
                </a:lnTo>
                <a:lnTo>
                  <a:pt x="77" y="307"/>
                </a:lnTo>
                <a:lnTo>
                  <a:pt x="66" y="305"/>
                </a:lnTo>
                <a:lnTo>
                  <a:pt x="54" y="303"/>
                </a:lnTo>
                <a:lnTo>
                  <a:pt x="43" y="301"/>
                </a:lnTo>
                <a:lnTo>
                  <a:pt x="33" y="296"/>
                </a:lnTo>
                <a:lnTo>
                  <a:pt x="25" y="290"/>
                </a:lnTo>
                <a:lnTo>
                  <a:pt x="18" y="284"/>
                </a:lnTo>
                <a:lnTo>
                  <a:pt x="12" y="275"/>
                </a:lnTo>
                <a:lnTo>
                  <a:pt x="8" y="265"/>
                </a:lnTo>
                <a:lnTo>
                  <a:pt x="4" y="255"/>
                </a:lnTo>
                <a:lnTo>
                  <a:pt x="0" y="248"/>
                </a:lnTo>
                <a:lnTo>
                  <a:pt x="0" y="240"/>
                </a:lnTo>
                <a:lnTo>
                  <a:pt x="0" y="232"/>
                </a:lnTo>
                <a:lnTo>
                  <a:pt x="2" y="227"/>
                </a:lnTo>
                <a:lnTo>
                  <a:pt x="4" y="225"/>
                </a:lnTo>
                <a:lnTo>
                  <a:pt x="6" y="221"/>
                </a:lnTo>
                <a:lnTo>
                  <a:pt x="8" y="219"/>
                </a:lnTo>
                <a:lnTo>
                  <a:pt x="12" y="215"/>
                </a:lnTo>
                <a:lnTo>
                  <a:pt x="16" y="213"/>
                </a:lnTo>
                <a:lnTo>
                  <a:pt x="20" y="211"/>
                </a:lnTo>
                <a:lnTo>
                  <a:pt x="23" y="211"/>
                </a:lnTo>
                <a:lnTo>
                  <a:pt x="25" y="209"/>
                </a:lnTo>
                <a:lnTo>
                  <a:pt x="29" y="209"/>
                </a:lnTo>
                <a:lnTo>
                  <a:pt x="33" y="207"/>
                </a:lnTo>
                <a:lnTo>
                  <a:pt x="37" y="207"/>
                </a:lnTo>
                <a:lnTo>
                  <a:pt x="43" y="205"/>
                </a:lnTo>
                <a:lnTo>
                  <a:pt x="48" y="204"/>
                </a:lnTo>
                <a:lnTo>
                  <a:pt x="54" y="202"/>
                </a:lnTo>
                <a:lnTo>
                  <a:pt x="60" y="200"/>
                </a:lnTo>
                <a:lnTo>
                  <a:pt x="67" y="196"/>
                </a:lnTo>
                <a:lnTo>
                  <a:pt x="77" y="194"/>
                </a:lnTo>
                <a:lnTo>
                  <a:pt x="85" y="190"/>
                </a:lnTo>
                <a:lnTo>
                  <a:pt x="94" y="188"/>
                </a:lnTo>
                <a:lnTo>
                  <a:pt x="104" y="184"/>
                </a:lnTo>
                <a:lnTo>
                  <a:pt x="115" y="180"/>
                </a:lnTo>
                <a:lnTo>
                  <a:pt x="125" y="177"/>
                </a:lnTo>
                <a:lnTo>
                  <a:pt x="137" y="173"/>
                </a:lnTo>
                <a:lnTo>
                  <a:pt x="150" y="167"/>
                </a:lnTo>
                <a:lnTo>
                  <a:pt x="162" y="163"/>
                </a:lnTo>
                <a:lnTo>
                  <a:pt x="175" y="157"/>
                </a:lnTo>
                <a:lnTo>
                  <a:pt x="190" y="154"/>
                </a:lnTo>
                <a:lnTo>
                  <a:pt x="204" y="148"/>
                </a:lnTo>
                <a:lnTo>
                  <a:pt x="219" y="142"/>
                </a:lnTo>
                <a:lnTo>
                  <a:pt x="234" y="136"/>
                </a:lnTo>
                <a:lnTo>
                  <a:pt x="252" y="129"/>
                </a:lnTo>
                <a:lnTo>
                  <a:pt x="267" y="123"/>
                </a:lnTo>
                <a:lnTo>
                  <a:pt x="284" y="117"/>
                </a:lnTo>
                <a:lnTo>
                  <a:pt x="304" y="109"/>
                </a:lnTo>
                <a:lnTo>
                  <a:pt x="321" y="102"/>
                </a:lnTo>
                <a:lnTo>
                  <a:pt x="340" y="94"/>
                </a:lnTo>
                <a:lnTo>
                  <a:pt x="359" y="86"/>
                </a:lnTo>
                <a:lnTo>
                  <a:pt x="396" y="75"/>
                </a:lnTo>
                <a:lnTo>
                  <a:pt x="430" y="63"/>
                </a:lnTo>
                <a:lnTo>
                  <a:pt x="463" y="52"/>
                </a:lnTo>
                <a:lnTo>
                  <a:pt x="494" y="42"/>
                </a:lnTo>
                <a:lnTo>
                  <a:pt x="522" y="35"/>
                </a:lnTo>
                <a:lnTo>
                  <a:pt x="549" y="27"/>
                </a:lnTo>
                <a:lnTo>
                  <a:pt x="563" y="23"/>
                </a:lnTo>
                <a:lnTo>
                  <a:pt x="574" y="19"/>
                </a:lnTo>
                <a:lnTo>
                  <a:pt x="586" y="17"/>
                </a:lnTo>
                <a:lnTo>
                  <a:pt x="597" y="13"/>
                </a:lnTo>
                <a:lnTo>
                  <a:pt x="609" y="12"/>
                </a:lnTo>
                <a:lnTo>
                  <a:pt x="618" y="10"/>
                </a:lnTo>
                <a:lnTo>
                  <a:pt x="628" y="8"/>
                </a:lnTo>
                <a:lnTo>
                  <a:pt x="638" y="6"/>
                </a:lnTo>
                <a:lnTo>
                  <a:pt x="647" y="4"/>
                </a:lnTo>
                <a:lnTo>
                  <a:pt x="655" y="4"/>
                </a:lnTo>
                <a:lnTo>
                  <a:pt x="663" y="2"/>
                </a:lnTo>
                <a:lnTo>
                  <a:pt x="670" y="2"/>
                </a:lnTo>
                <a:lnTo>
                  <a:pt x="678" y="2"/>
                </a:lnTo>
                <a:lnTo>
                  <a:pt x="684" y="0"/>
                </a:lnTo>
                <a:lnTo>
                  <a:pt x="689" y="0"/>
                </a:lnTo>
                <a:lnTo>
                  <a:pt x="695" y="2"/>
                </a:lnTo>
                <a:lnTo>
                  <a:pt x="699" y="2"/>
                </a:lnTo>
                <a:lnTo>
                  <a:pt x="705" y="2"/>
                </a:lnTo>
                <a:lnTo>
                  <a:pt x="709" y="4"/>
                </a:lnTo>
                <a:lnTo>
                  <a:pt x="712" y="4"/>
                </a:lnTo>
                <a:lnTo>
                  <a:pt x="720" y="15"/>
                </a:lnTo>
                <a:lnTo>
                  <a:pt x="728" y="25"/>
                </a:lnTo>
                <a:lnTo>
                  <a:pt x="734" y="35"/>
                </a:lnTo>
                <a:lnTo>
                  <a:pt x="737" y="44"/>
                </a:lnTo>
                <a:lnTo>
                  <a:pt x="741" y="52"/>
                </a:lnTo>
                <a:lnTo>
                  <a:pt x="745" y="60"/>
                </a:lnTo>
                <a:lnTo>
                  <a:pt x="747" y="67"/>
                </a:lnTo>
                <a:lnTo>
                  <a:pt x="747" y="73"/>
                </a:lnTo>
                <a:lnTo>
                  <a:pt x="747" y="75"/>
                </a:lnTo>
                <a:lnTo>
                  <a:pt x="745" y="79"/>
                </a:lnTo>
                <a:lnTo>
                  <a:pt x="745" y="83"/>
                </a:lnTo>
                <a:lnTo>
                  <a:pt x="743" y="86"/>
                </a:lnTo>
                <a:lnTo>
                  <a:pt x="741" y="90"/>
                </a:lnTo>
                <a:lnTo>
                  <a:pt x="737" y="94"/>
                </a:lnTo>
                <a:lnTo>
                  <a:pt x="732" y="104"/>
                </a:lnTo>
                <a:lnTo>
                  <a:pt x="722" y="115"/>
                </a:lnTo>
                <a:lnTo>
                  <a:pt x="712" y="127"/>
                </a:lnTo>
                <a:lnTo>
                  <a:pt x="701" y="140"/>
                </a:lnTo>
                <a:lnTo>
                  <a:pt x="689" y="1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88"/>
          <p:cNvSpPr/>
          <p:nvPr/>
        </p:nvSpPr>
        <p:spPr>
          <a:xfrm>
            <a:off x="5992920" y="4329000"/>
            <a:ext cx="374400" cy="173160"/>
          </a:xfrm>
          <a:custGeom>
            <a:avLst/>
            <a:gdLst/>
            <a:ahLst/>
            <a:rect l="l" t="t" r="r" b="b"/>
            <a:pathLst>
              <a:path w="472" h="219">
                <a:moveTo>
                  <a:pt x="248" y="40"/>
                </a:moveTo>
                <a:lnTo>
                  <a:pt x="269" y="31"/>
                </a:lnTo>
                <a:lnTo>
                  <a:pt x="290" y="23"/>
                </a:lnTo>
                <a:lnTo>
                  <a:pt x="309" y="15"/>
                </a:lnTo>
                <a:lnTo>
                  <a:pt x="327" y="10"/>
                </a:lnTo>
                <a:lnTo>
                  <a:pt x="344" y="6"/>
                </a:lnTo>
                <a:lnTo>
                  <a:pt x="359" y="2"/>
                </a:lnTo>
                <a:lnTo>
                  <a:pt x="375" y="0"/>
                </a:lnTo>
                <a:lnTo>
                  <a:pt x="388" y="0"/>
                </a:lnTo>
                <a:lnTo>
                  <a:pt x="401" y="0"/>
                </a:lnTo>
                <a:lnTo>
                  <a:pt x="413" y="2"/>
                </a:lnTo>
                <a:lnTo>
                  <a:pt x="424" y="6"/>
                </a:lnTo>
                <a:lnTo>
                  <a:pt x="428" y="8"/>
                </a:lnTo>
                <a:lnTo>
                  <a:pt x="434" y="12"/>
                </a:lnTo>
                <a:lnTo>
                  <a:pt x="440" y="15"/>
                </a:lnTo>
                <a:lnTo>
                  <a:pt x="444" y="19"/>
                </a:lnTo>
                <a:lnTo>
                  <a:pt x="447" y="23"/>
                </a:lnTo>
                <a:lnTo>
                  <a:pt x="453" y="29"/>
                </a:lnTo>
                <a:lnTo>
                  <a:pt x="457" y="35"/>
                </a:lnTo>
                <a:lnTo>
                  <a:pt x="461" y="40"/>
                </a:lnTo>
                <a:lnTo>
                  <a:pt x="467" y="46"/>
                </a:lnTo>
                <a:lnTo>
                  <a:pt x="470" y="54"/>
                </a:lnTo>
                <a:lnTo>
                  <a:pt x="472" y="58"/>
                </a:lnTo>
                <a:lnTo>
                  <a:pt x="472" y="62"/>
                </a:lnTo>
                <a:lnTo>
                  <a:pt x="472" y="65"/>
                </a:lnTo>
                <a:lnTo>
                  <a:pt x="470" y="71"/>
                </a:lnTo>
                <a:lnTo>
                  <a:pt x="469" y="75"/>
                </a:lnTo>
                <a:lnTo>
                  <a:pt x="465" y="79"/>
                </a:lnTo>
                <a:lnTo>
                  <a:pt x="461" y="83"/>
                </a:lnTo>
                <a:lnTo>
                  <a:pt x="455" y="88"/>
                </a:lnTo>
                <a:lnTo>
                  <a:pt x="447" y="92"/>
                </a:lnTo>
                <a:lnTo>
                  <a:pt x="440" y="96"/>
                </a:lnTo>
                <a:lnTo>
                  <a:pt x="432" y="102"/>
                </a:lnTo>
                <a:lnTo>
                  <a:pt x="423" y="106"/>
                </a:lnTo>
                <a:lnTo>
                  <a:pt x="411" y="111"/>
                </a:lnTo>
                <a:lnTo>
                  <a:pt x="399" y="115"/>
                </a:lnTo>
                <a:lnTo>
                  <a:pt x="386" y="121"/>
                </a:lnTo>
                <a:lnTo>
                  <a:pt x="373" y="127"/>
                </a:lnTo>
                <a:lnTo>
                  <a:pt x="357" y="131"/>
                </a:lnTo>
                <a:lnTo>
                  <a:pt x="340" y="136"/>
                </a:lnTo>
                <a:lnTo>
                  <a:pt x="323" y="142"/>
                </a:lnTo>
                <a:lnTo>
                  <a:pt x="305" y="148"/>
                </a:lnTo>
                <a:lnTo>
                  <a:pt x="286" y="154"/>
                </a:lnTo>
                <a:lnTo>
                  <a:pt x="265" y="158"/>
                </a:lnTo>
                <a:lnTo>
                  <a:pt x="244" y="163"/>
                </a:lnTo>
                <a:lnTo>
                  <a:pt x="221" y="169"/>
                </a:lnTo>
                <a:lnTo>
                  <a:pt x="198" y="177"/>
                </a:lnTo>
                <a:lnTo>
                  <a:pt x="173" y="182"/>
                </a:lnTo>
                <a:lnTo>
                  <a:pt x="146" y="188"/>
                </a:lnTo>
                <a:lnTo>
                  <a:pt x="119" y="194"/>
                </a:lnTo>
                <a:lnTo>
                  <a:pt x="92" y="200"/>
                </a:lnTo>
                <a:lnTo>
                  <a:pt x="62" y="207"/>
                </a:lnTo>
                <a:lnTo>
                  <a:pt x="33" y="213"/>
                </a:lnTo>
                <a:lnTo>
                  <a:pt x="0" y="219"/>
                </a:lnTo>
                <a:lnTo>
                  <a:pt x="0" y="69"/>
                </a:lnTo>
                <a:lnTo>
                  <a:pt x="19" y="67"/>
                </a:lnTo>
                <a:lnTo>
                  <a:pt x="39" y="67"/>
                </a:lnTo>
                <a:lnTo>
                  <a:pt x="58" y="67"/>
                </a:lnTo>
                <a:lnTo>
                  <a:pt x="75" y="65"/>
                </a:lnTo>
                <a:lnTo>
                  <a:pt x="92" y="65"/>
                </a:lnTo>
                <a:lnTo>
                  <a:pt x="110" y="63"/>
                </a:lnTo>
                <a:lnTo>
                  <a:pt x="127" y="62"/>
                </a:lnTo>
                <a:lnTo>
                  <a:pt x="142" y="60"/>
                </a:lnTo>
                <a:lnTo>
                  <a:pt x="158" y="58"/>
                </a:lnTo>
                <a:lnTo>
                  <a:pt x="171" y="56"/>
                </a:lnTo>
                <a:lnTo>
                  <a:pt x="186" y="54"/>
                </a:lnTo>
                <a:lnTo>
                  <a:pt x="200" y="50"/>
                </a:lnTo>
                <a:lnTo>
                  <a:pt x="211" y="48"/>
                </a:lnTo>
                <a:lnTo>
                  <a:pt x="225" y="46"/>
                </a:lnTo>
                <a:lnTo>
                  <a:pt x="236" y="42"/>
                </a:lnTo>
                <a:lnTo>
                  <a:pt x="248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89"/>
          <p:cNvSpPr/>
          <p:nvPr/>
        </p:nvSpPr>
        <p:spPr>
          <a:xfrm>
            <a:off x="5956200" y="3792600"/>
            <a:ext cx="513000" cy="590400"/>
          </a:xfrm>
          <a:custGeom>
            <a:avLst/>
            <a:gdLst/>
            <a:ahLst/>
            <a:rect l="l" t="t" r="r" b="b"/>
            <a:pathLst>
              <a:path w="645" h="745">
                <a:moveTo>
                  <a:pt x="23" y="125"/>
                </a:moveTo>
                <a:lnTo>
                  <a:pt x="54" y="123"/>
                </a:lnTo>
                <a:lnTo>
                  <a:pt x="85" y="121"/>
                </a:lnTo>
                <a:lnTo>
                  <a:pt x="115" y="119"/>
                </a:lnTo>
                <a:lnTo>
                  <a:pt x="146" y="116"/>
                </a:lnTo>
                <a:lnTo>
                  <a:pt x="177" y="110"/>
                </a:lnTo>
                <a:lnTo>
                  <a:pt x="207" y="102"/>
                </a:lnTo>
                <a:lnTo>
                  <a:pt x="238" y="93"/>
                </a:lnTo>
                <a:lnTo>
                  <a:pt x="271" y="83"/>
                </a:lnTo>
                <a:lnTo>
                  <a:pt x="282" y="81"/>
                </a:lnTo>
                <a:lnTo>
                  <a:pt x="294" y="77"/>
                </a:lnTo>
                <a:lnTo>
                  <a:pt x="305" y="75"/>
                </a:lnTo>
                <a:lnTo>
                  <a:pt x="317" y="72"/>
                </a:lnTo>
                <a:lnTo>
                  <a:pt x="326" y="68"/>
                </a:lnTo>
                <a:lnTo>
                  <a:pt x="334" y="64"/>
                </a:lnTo>
                <a:lnTo>
                  <a:pt x="344" y="60"/>
                </a:lnTo>
                <a:lnTo>
                  <a:pt x="351" y="56"/>
                </a:lnTo>
                <a:lnTo>
                  <a:pt x="357" y="52"/>
                </a:lnTo>
                <a:lnTo>
                  <a:pt x="363" y="48"/>
                </a:lnTo>
                <a:lnTo>
                  <a:pt x="369" y="45"/>
                </a:lnTo>
                <a:lnTo>
                  <a:pt x="374" y="41"/>
                </a:lnTo>
                <a:lnTo>
                  <a:pt x="378" y="37"/>
                </a:lnTo>
                <a:lnTo>
                  <a:pt x="382" y="35"/>
                </a:lnTo>
                <a:lnTo>
                  <a:pt x="384" y="31"/>
                </a:lnTo>
                <a:lnTo>
                  <a:pt x="388" y="29"/>
                </a:lnTo>
                <a:lnTo>
                  <a:pt x="396" y="18"/>
                </a:lnTo>
                <a:lnTo>
                  <a:pt x="401" y="14"/>
                </a:lnTo>
                <a:lnTo>
                  <a:pt x="407" y="10"/>
                </a:lnTo>
                <a:lnTo>
                  <a:pt x="413" y="6"/>
                </a:lnTo>
                <a:lnTo>
                  <a:pt x="419" y="4"/>
                </a:lnTo>
                <a:lnTo>
                  <a:pt x="426" y="2"/>
                </a:lnTo>
                <a:lnTo>
                  <a:pt x="434" y="0"/>
                </a:lnTo>
                <a:lnTo>
                  <a:pt x="440" y="0"/>
                </a:lnTo>
                <a:lnTo>
                  <a:pt x="444" y="2"/>
                </a:lnTo>
                <a:lnTo>
                  <a:pt x="449" y="2"/>
                </a:lnTo>
                <a:lnTo>
                  <a:pt x="457" y="4"/>
                </a:lnTo>
                <a:lnTo>
                  <a:pt x="463" y="6"/>
                </a:lnTo>
                <a:lnTo>
                  <a:pt x="470" y="8"/>
                </a:lnTo>
                <a:lnTo>
                  <a:pt x="478" y="10"/>
                </a:lnTo>
                <a:lnTo>
                  <a:pt x="486" y="12"/>
                </a:lnTo>
                <a:lnTo>
                  <a:pt x="493" y="16"/>
                </a:lnTo>
                <a:lnTo>
                  <a:pt x="503" y="20"/>
                </a:lnTo>
                <a:lnTo>
                  <a:pt x="513" y="25"/>
                </a:lnTo>
                <a:lnTo>
                  <a:pt x="522" y="29"/>
                </a:lnTo>
                <a:lnTo>
                  <a:pt x="532" y="35"/>
                </a:lnTo>
                <a:lnTo>
                  <a:pt x="541" y="43"/>
                </a:lnTo>
                <a:lnTo>
                  <a:pt x="553" y="48"/>
                </a:lnTo>
                <a:lnTo>
                  <a:pt x="564" y="56"/>
                </a:lnTo>
                <a:lnTo>
                  <a:pt x="574" y="64"/>
                </a:lnTo>
                <a:lnTo>
                  <a:pt x="584" y="72"/>
                </a:lnTo>
                <a:lnTo>
                  <a:pt x="593" y="79"/>
                </a:lnTo>
                <a:lnTo>
                  <a:pt x="601" y="87"/>
                </a:lnTo>
                <a:lnTo>
                  <a:pt x="609" y="95"/>
                </a:lnTo>
                <a:lnTo>
                  <a:pt x="614" y="102"/>
                </a:lnTo>
                <a:lnTo>
                  <a:pt x="620" y="108"/>
                </a:lnTo>
                <a:lnTo>
                  <a:pt x="626" y="116"/>
                </a:lnTo>
                <a:lnTo>
                  <a:pt x="632" y="121"/>
                </a:lnTo>
                <a:lnTo>
                  <a:pt x="635" y="127"/>
                </a:lnTo>
                <a:lnTo>
                  <a:pt x="637" y="133"/>
                </a:lnTo>
                <a:lnTo>
                  <a:pt x="641" y="137"/>
                </a:lnTo>
                <a:lnTo>
                  <a:pt x="643" y="143"/>
                </a:lnTo>
                <a:lnTo>
                  <a:pt x="645" y="146"/>
                </a:lnTo>
                <a:lnTo>
                  <a:pt x="645" y="150"/>
                </a:lnTo>
                <a:lnTo>
                  <a:pt x="645" y="152"/>
                </a:lnTo>
                <a:lnTo>
                  <a:pt x="645" y="164"/>
                </a:lnTo>
                <a:lnTo>
                  <a:pt x="643" y="173"/>
                </a:lnTo>
                <a:lnTo>
                  <a:pt x="641" y="183"/>
                </a:lnTo>
                <a:lnTo>
                  <a:pt x="637" y="192"/>
                </a:lnTo>
                <a:lnTo>
                  <a:pt x="632" y="200"/>
                </a:lnTo>
                <a:lnTo>
                  <a:pt x="626" y="208"/>
                </a:lnTo>
                <a:lnTo>
                  <a:pt x="618" y="215"/>
                </a:lnTo>
                <a:lnTo>
                  <a:pt x="611" y="221"/>
                </a:lnTo>
                <a:lnTo>
                  <a:pt x="607" y="225"/>
                </a:lnTo>
                <a:lnTo>
                  <a:pt x="605" y="229"/>
                </a:lnTo>
                <a:lnTo>
                  <a:pt x="601" y="233"/>
                </a:lnTo>
                <a:lnTo>
                  <a:pt x="597" y="238"/>
                </a:lnTo>
                <a:lnTo>
                  <a:pt x="593" y="246"/>
                </a:lnTo>
                <a:lnTo>
                  <a:pt x="589" y="252"/>
                </a:lnTo>
                <a:lnTo>
                  <a:pt x="586" y="262"/>
                </a:lnTo>
                <a:lnTo>
                  <a:pt x="582" y="271"/>
                </a:lnTo>
                <a:lnTo>
                  <a:pt x="578" y="281"/>
                </a:lnTo>
                <a:lnTo>
                  <a:pt x="574" y="290"/>
                </a:lnTo>
                <a:lnTo>
                  <a:pt x="570" y="304"/>
                </a:lnTo>
                <a:lnTo>
                  <a:pt x="566" y="315"/>
                </a:lnTo>
                <a:lnTo>
                  <a:pt x="561" y="329"/>
                </a:lnTo>
                <a:lnTo>
                  <a:pt x="557" y="344"/>
                </a:lnTo>
                <a:lnTo>
                  <a:pt x="553" y="358"/>
                </a:lnTo>
                <a:lnTo>
                  <a:pt x="549" y="375"/>
                </a:lnTo>
                <a:lnTo>
                  <a:pt x="543" y="392"/>
                </a:lnTo>
                <a:lnTo>
                  <a:pt x="540" y="409"/>
                </a:lnTo>
                <a:lnTo>
                  <a:pt x="536" y="429"/>
                </a:lnTo>
                <a:lnTo>
                  <a:pt x="530" y="448"/>
                </a:lnTo>
                <a:lnTo>
                  <a:pt x="526" y="467"/>
                </a:lnTo>
                <a:lnTo>
                  <a:pt x="520" y="488"/>
                </a:lnTo>
                <a:lnTo>
                  <a:pt x="516" y="511"/>
                </a:lnTo>
                <a:lnTo>
                  <a:pt x="511" y="532"/>
                </a:lnTo>
                <a:lnTo>
                  <a:pt x="507" y="557"/>
                </a:lnTo>
                <a:lnTo>
                  <a:pt x="501" y="580"/>
                </a:lnTo>
                <a:lnTo>
                  <a:pt x="495" y="605"/>
                </a:lnTo>
                <a:lnTo>
                  <a:pt x="492" y="632"/>
                </a:lnTo>
                <a:lnTo>
                  <a:pt x="486" y="659"/>
                </a:lnTo>
                <a:lnTo>
                  <a:pt x="480" y="686"/>
                </a:lnTo>
                <a:lnTo>
                  <a:pt x="474" y="715"/>
                </a:lnTo>
                <a:lnTo>
                  <a:pt x="470" y="745"/>
                </a:lnTo>
                <a:lnTo>
                  <a:pt x="417" y="745"/>
                </a:lnTo>
                <a:lnTo>
                  <a:pt x="365" y="745"/>
                </a:lnTo>
                <a:lnTo>
                  <a:pt x="367" y="715"/>
                </a:lnTo>
                <a:lnTo>
                  <a:pt x="369" y="688"/>
                </a:lnTo>
                <a:lnTo>
                  <a:pt x="371" y="659"/>
                </a:lnTo>
                <a:lnTo>
                  <a:pt x="373" y="632"/>
                </a:lnTo>
                <a:lnTo>
                  <a:pt x="374" y="607"/>
                </a:lnTo>
                <a:lnTo>
                  <a:pt x="376" y="582"/>
                </a:lnTo>
                <a:lnTo>
                  <a:pt x="378" y="559"/>
                </a:lnTo>
                <a:lnTo>
                  <a:pt x="378" y="534"/>
                </a:lnTo>
                <a:lnTo>
                  <a:pt x="380" y="513"/>
                </a:lnTo>
                <a:lnTo>
                  <a:pt x="382" y="492"/>
                </a:lnTo>
                <a:lnTo>
                  <a:pt x="384" y="471"/>
                </a:lnTo>
                <a:lnTo>
                  <a:pt x="386" y="452"/>
                </a:lnTo>
                <a:lnTo>
                  <a:pt x="386" y="432"/>
                </a:lnTo>
                <a:lnTo>
                  <a:pt x="388" y="415"/>
                </a:lnTo>
                <a:lnTo>
                  <a:pt x="390" y="398"/>
                </a:lnTo>
                <a:lnTo>
                  <a:pt x="390" y="381"/>
                </a:lnTo>
                <a:lnTo>
                  <a:pt x="392" y="365"/>
                </a:lnTo>
                <a:lnTo>
                  <a:pt x="392" y="352"/>
                </a:lnTo>
                <a:lnTo>
                  <a:pt x="394" y="338"/>
                </a:lnTo>
                <a:lnTo>
                  <a:pt x="394" y="325"/>
                </a:lnTo>
                <a:lnTo>
                  <a:pt x="396" y="313"/>
                </a:lnTo>
                <a:lnTo>
                  <a:pt x="396" y="302"/>
                </a:lnTo>
                <a:lnTo>
                  <a:pt x="396" y="290"/>
                </a:lnTo>
                <a:lnTo>
                  <a:pt x="397" y="283"/>
                </a:lnTo>
                <a:lnTo>
                  <a:pt x="397" y="273"/>
                </a:lnTo>
                <a:lnTo>
                  <a:pt x="397" y="265"/>
                </a:lnTo>
                <a:lnTo>
                  <a:pt x="397" y="258"/>
                </a:lnTo>
                <a:lnTo>
                  <a:pt x="397" y="252"/>
                </a:lnTo>
                <a:lnTo>
                  <a:pt x="399" y="246"/>
                </a:lnTo>
                <a:lnTo>
                  <a:pt x="399" y="242"/>
                </a:lnTo>
                <a:lnTo>
                  <a:pt x="399" y="238"/>
                </a:lnTo>
                <a:lnTo>
                  <a:pt x="399" y="235"/>
                </a:lnTo>
                <a:lnTo>
                  <a:pt x="399" y="225"/>
                </a:lnTo>
                <a:lnTo>
                  <a:pt x="397" y="219"/>
                </a:lnTo>
                <a:lnTo>
                  <a:pt x="397" y="215"/>
                </a:lnTo>
                <a:lnTo>
                  <a:pt x="396" y="210"/>
                </a:lnTo>
                <a:lnTo>
                  <a:pt x="394" y="204"/>
                </a:lnTo>
                <a:lnTo>
                  <a:pt x="392" y="198"/>
                </a:lnTo>
                <a:lnTo>
                  <a:pt x="388" y="194"/>
                </a:lnTo>
                <a:lnTo>
                  <a:pt x="386" y="192"/>
                </a:lnTo>
                <a:lnTo>
                  <a:pt x="384" y="192"/>
                </a:lnTo>
                <a:lnTo>
                  <a:pt x="380" y="191"/>
                </a:lnTo>
                <a:lnTo>
                  <a:pt x="378" y="191"/>
                </a:lnTo>
                <a:lnTo>
                  <a:pt x="373" y="191"/>
                </a:lnTo>
                <a:lnTo>
                  <a:pt x="369" y="191"/>
                </a:lnTo>
                <a:lnTo>
                  <a:pt x="363" y="191"/>
                </a:lnTo>
                <a:lnTo>
                  <a:pt x="357" y="191"/>
                </a:lnTo>
                <a:lnTo>
                  <a:pt x="349" y="192"/>
                </a:lnTo>
                <a:lnTo>
                  <a:pt x="342" y="192"/>
                </a:lnTo>
                <a:lnTo>
                  <a:pt x="334" y="194"/>
                </a:lnTo>
                <a:lnTo>
                  <a:pt x="325" y="194"/>
                </a:lnTo>
                <a:lnTo>
                  <a:pt x="315" y="196"/>
                </a:lnTo>
                <a:lnTo>
                  <a:pt x="305" y="198"/>
                </a:lnTo>
                <a:lnTo>
                  <a:pt x="294" y="200"/>
                </a:lnTo>
                <a:lnTo>
                  <a:pt x="282" y="202"/>
                </a:lnTo>
                <a:lnTo>
                  <a:pt x="269" y="204"/>
                </a:lnTo>
                <a:lnTo>
                  <a:pt x="255" y="206"/>
                </a:lnTo>
                <a:lnTo>
                  <a:pt x="242" y="210"/>
                </a:lnTo>
                <a:lnTo>
                  <a:pt x="229" y="212"/>
                </a:lnTo>
                <a:lnTo>
                  <a:pt x="213" y="215"/>
                </a:lnTo>
                <a:lnTo>
                  <a:pt x="196" y="219"/>
                </a:lnTo>
                <a:lnTo>
                  <a:pt x="181" y="223"/>
                </a:lnTo>
                <a:lnTo>
                  <a:pt x="163" y="227"/>
                </a:lnTo>
                <a:lnTo>
                  <a:pt x="144" y="231"/>
                </a:lnTo>
                <a:lnTo>
                  <a:pt x="127" y="235"/>
                </a:lnTo>
                <a:lnTo>
                  <a:pt x="108" y="238"/>
                </a:lnTo>
                <a:lnTo>
                  <a:pt x="87" y="242"/>
                </a:lnTo>
                <a:lnTo>
                  <a:pt x="65" y="248"/>
                </a:lnTo>
                <a:lnTo>
                  <a:pt x="44" y="252"/>
                </a:lnTo>
                <a:lnTo>
                  <a:pt x="23" y="258"/>
                </a:lnTo>
                <a:lnTo>
                  <a:pt x="0" y="263"/>
                </a:lnTo>
                <a:lnTo>
                  <a:pt x="12" y="194"/>
                </a:lnTo>
                <a:lnTo>
                  <a:pt x="23" y="1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90"/>
          <p:cNvSpPr/>
          <p:nvPr/>
        </p:nvSpPr>
        <p:spPr>
          <a:xfrm>
            <a:off x="5881680" y="3890880"/>
            <a:ext cx="162000" cy="801720"/>
          </a:xfrm>
          <a:custGeom>
            <a:avLst/>
            <a:gdLst/>
            <a:ahLst/>
            <a:rect l="l" t="t" r="r" b="b"/>
            <a:pathLst>
              <a:path w="204" h="1010">
                <a:moveTo>
                  <a:pt x="177" y="0"/>
                </a:moveTo>
                <a:lnTo>
                  <a:pt x="177" y="31"/>
                </a:lnTo>
                <a:lnTo>
                  <a:pt x="179" y="62"/>
                </a:lnTo>
                <a:lnTo>
                  <a:pt x="179" y="90"/>
                </a:lnTo>
                <a:lnTo>
                  <a:pt x="181" y="119"/>
                </a:lnTo>
                <a:lnTo>
                  <a:pt x="181" y="148"/>
                </a:lnTo>
                <a:lnTo>
                  <a:pt x="182" y="177"/>
                </a:lnTo>
                <a:lnTo>
                  <a:pt x="182" y="206"/>
                </a:lnTo>
                <a:lnTo>
                  <a:pt x="184" y="233"/>
                </a:lnTo>
                <a:lnTo>
                  <a:pt x="184" y="259"/>
                </a:lnTo>
                <a:lnTo>
                  <a:pt x="186" y="286"/>
                </a:lnTo>
                <a:lnTo>
                  <a:pt x="186" y="311"/>
                </a:lnTo>
                <a:lnTo>
                  <a:pt x="188" y="336"/>
                </a:lnTo>
                <a:lnTo>
                  <a:pt x="188" y="361"/>
                </a:lnTo>
                <a:lnTo>
                  <a:pt x="190" y="386"/>
                </a:lnTo>
                <a:lnTo>
                  <a:pt x="190" y="411"/>
                </a:lnTo>
                <a:lnTo>
                  <a:pt x="190" y="434"/>
                </a:lnTo>
                <a:lnTo>
                  <a:pt x="192" y="480"/>
                </a:lnTo>
                <a:lnTo>
                  <a:pt x="194" y="522"/>
                </a:lnTo>
                <a:lnTo>
                  <a:pt x="196" y="565"/>
                </a:lnTo>
                <a:lnTo>
                  <a:pt x="196" y="605"/>
                </a:lnTo>
                <a:lnTo>
                  <a:pt x="198" y="643"/>
                </a:lnTo>
                <a:lnTo>
                  <a:pt x="198" y="678"/>
                </a:lnTo>
                <a:lnTo>
                  <a:pt x="200" y="712"/>
                </a:lnTo>
                <a:lnTo>
                  <a:pt x="200" y="745"/>
                </a:lnTo>
                <a:lnTo>
                  <a:pt x="202" y="776"/>
                </a:lnTo>
                <a:lnTo>
                  <a:pt x="202" y="803"/>
                </a:lnTo>
                <a:lnTo>
                  <a:pt x="204" y="829"/>
                </a:lnTo>
                <a:lnTo>
                  <a:pt x="204" y="854"/>
                </a:lnTo>
                <a:lnTo>
                  <a:pt x="204" y="877"/>
                </a:lnTo>
                <a:lnTo>
                  <a:pt x="204" y="899"/>
                </a:lnTo>
                <a:lnTo>
                  <a:pt x="204" y="918"/>
                </a:lnTo>
                <a:lnTo>
                  <a:pt x="204" y="935"/>
                </a:lnTo>
                <a:lnTo>
                  <a:pt x="204" y="950"/>
                </a:lnTo>
                <a:lnTo>
                  <a:pt x="204" y="964"/>
                </a:lnTo>
                <a:lnTo>
                  <a:pt x="204" y="975"/>
                </a:lnTo>
                <a:lnTo>
                  <a:pt x="202" y="985"/>
                </a:lnTo>
                <a:lnTo>
                  <a:pt x="202" y="993"/>
                </a:lnTo>
                <a:lnTo>
                  <a:pt x="202" y="998"/>
                </a:lnTo>
                <a:lnTo>
                  <a:pt x="200" y="1002"/>
                </a:lnTo>
                <a:lnTo>
                  <a:pt x="200" y="1004"/>
                </a:lnTo>
                <a:lnTo>
                  <a:pt x="198" y="1006"/>
                </a:lnTo>
                <a:lnTo>
                  <a:pt x="194" y="1008"/>
                </a:lnTo>
                <a:lnTo>
                  <a:pt x="192" y="1010"/>
                </a:lnTo>
                <a:lnTo>
                  <a:pt x="188" y="1010"/>
                </a:lnTo>
                <a:lnTo>
                  <a:pt x="186" y="1010"/>
                </a:lnTo>
                <a:lnTo>
                  <a:pt x="182" y="1008"/>
                </a:lnTo>
                <a:lnTo>
                  <a:pt x="179" y="1006"/>
                </a:lnTo>
                <a:lnTo>
                  <a:pt x="177" y="1004"/>
                </a:lnTo>
                <a:lnTo>
                  <a:pt x="173" y="1002"/>
                </a:lnTo>
                <a:lnTo>
                  <a:pt x="169" y="998"/>
                </a:lnTo>
                <a:lnTo>
                  <a:pt x="167" y="995"/>
                </a:lnTo>
                <a:lnTo>
                  <a:pt x="163" y="989"/>
                </a:lnTo>
                <a:lnTo>
                  <a:pt x="159" y="983"/>
                </a:lnTo>
                <a:lnTo>
                  <a:pt x="157" y="977"/>
                </a:lnTo>
                <a:lnTo>
                  <a:pt x="156" y="970"/>
                </a:lnTo>
                <a:lnTo>
                  <a:pt x="154" y="964"/>
                </a:lnTo>
                <a:lnTo>
                  <a:pt x="148" y="954"/>
                </a:lnTo>
                <a:lnTo>
                  <a:pt x="144" y="945"/>
                </a:lnTo>
                <a:lnTo>
                  <a:pt x="140" y="933"/>
                </a:lnTo>
                <a:lnTo>
                  <a:pt x="134" y="920"/>
                </a:lnTo>
                <a:lnTo>
                  <a:pt x="131" y="904"/>
                </a:lnTo>
                <a:lnTo>
                  <a:pt x="127" y="887"/>
                </a:lnTo>
                <a:lnTo>
                  <a:pt x="123" y="868"/>
                </a:lnTo>
                <a:lnTo>
                  <a:pt x="119" y="849"/>
                </a:lnTo>
                <a:lnTo>
                  <a:pt x="115" y="826"/>
                </a:lnTo>
                <a:lnTo>
                  <a:pt x="111" y="803"/>
                </a:lnTo>
                <a:lnTo>
                  <a:pt x="108" y="776"/>
                </a:lnTo>
                <a:lnTo>
                  <a:pt x="104" y="749"/>
                </a:lnTo>
                <a:lnTo>
                  <a:pt x="102" y="718"/>
                </a:lnTo>
                <a:lnTo>
                  <a:pt x="98" y="687"/>
                </a:lnTo>
                <a:lnTo>
                  <a:pt x="96" y="655"/>
                </a:lnTo>
                <a:lnTo>
                  <a:pt x="94" y="638"/>
                </a:lnTo>
                <a:lnTo>
                  <a:pt x="94" y="620"/>
                </a:lnTo>
                <a:lnTo>
                  <a:pt x="85" y="547"/>
                </a:lnTo>
                <a:lnTo>
                  <a:pt x="75" y="472"/>
                </a:lnTo>
                <a:lnTo>
                  <a:pt x="63" y="396"/>
                </a:lnTo>
                <a:lnTo>
                  <a:pt x="52" y="319"/>
                </a:lnTo>
                <a:lnTo>
                  <a:pt x="38" y="242"/>
                </a:lnTo>
                <a:lnTo>
                  <a:pt x="25" y="161"/>
                </a:lnTo>
                <a:lnTo>
                  <a:pt x="14" y="81"/>
                </a:lnTo>
                <a:lnTo>
                  <a:pt x="0" y="0"/>
                </a:lnTo>
                <a:lnTo>
                  <a:pt x="88" y="0"/>
                </a:lnTo>
                <a:lnTo>
                  <a:pt x="177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91"/>
          <p:cNvSpPr/>
          <p:nvPr/>
        </p:nvSpPr>
        <p:spPr>
          <a:xfrm>
            <a:off x="5479920" y="3279600"/>
            <a:ext cx="719280" cy="1487520"/>
          </a:xfrm>
          <a:custGeom>
            <a:avLst/>
            <a:gdLst/>
            <a:ahLst/>
            <a:rect l="l" t="t" r="r" b="b"/>
            <a:pathLst>
              <a:path w="906" h="1873">
                <a:moveTo>
                  <a:pt x="154" y="1746"/>
                </a:moveTo>
                <a:lnTo>
                  <a:pt x="139" y="1764"/>
                </a:lnTo>
                <a:lnTo>
                  <a:pt x="125" y="1779"/>
                </a:lnTo>
                <a:lnTo>
                  <a:pt x="112" y="1794"/>
                </a:lnTo>
                <a:lnTo>
                  <a:pt x="98" y="1808"/>
                </a:lnTo>
                <a:lnTo>
                  <a:pt x="85" y="1821"/>
                </a:lnTo>
                <a:lnTo>
                  <a:pt x="73" y="1831"/>
                </a:lnTo>
                <a:lnTo>
                  <a:pt x="62" y="1840"/>
                </a:lnTo>
                <a:lnTo>
                  <a:pt x="52" y="1850"/>
                </a:lnTo>
                <a:lnTo>
                  <a:pt x="43" y="1856"/>
                </a:lnTo>
                <a:lnTo>
                  <a:pt x="33" y="1861"/>
                </a:lnTo>
                <a:lnTo>
                  <a:pt x="25" y="1867"/>
                </a:lnTo>
                <a:lnTo>
                  <a:pt x="20" y="1869"/>
                </a:lnTo>
                <a:lnTo>
                  <a:pt x="14" y="1871"/>
                </a:lnTo>
                <a:lnTo>
                  <a:pt x="8" y="1873"/>
                </a:lnTo>
                <a:lnTo>
                  <a:pt x="4" y="1871"/>
                </a:lnTo>
                <a:lnTo>
                  <a:pt x="2" y="1869"/>
                </a:lnTo>
                <a:lnTo>
                  <a:pt x="0" y="1865"/>
                </a:lnTo>
                <a:lnTo>
                  <a:pt x="0" y="1861"/>
                </a:lnTo>
                <a:lnTo>
                  <a:pt x="2" y="1854"/>
                </a:lnTo>
                <a:lnTo>
                  <a:pt x="4" y="1844"/>
                </a:lnTo>
                <a:lnTo>
                  <a:pt x="8" y="1833"/>
                </a:lnTo>
                <a:lnTo>
                  <a:pt x="14" y="1821"/>
                </a:lnTo>
                <a:lnTo>
                  <a:pt x="21" y="1806"/>
                </a:lnTo>
                <a:lnTo>
                  <a:pt x="29" y="1788"/>
                </a:lnTo>
                <a:lnTo>
                  <a:pt x="39" y="1771"/>
                </a:lnTo>
                <a:lnTo>
                  <a:pt x="48" y="1750"/>
                </a:lnTo>
                <a:lnTo>
                  <a:pt x="62" y="1729"/>
                </a:lnTo>
                <a:lnTo>
                  <a:pt x="75" y="1706"/>
                </a:lnTo>
                <a:lnTo>
                  <a:pt x="91" y="1681"/>
                </a:lnTo>
                <a:lnTo>
                  <a:pt x="106" y="1654"/>
                </a:lnTo>
                <a:lnTo>
                  <a:pt x="123" y="1625"/>
                </a:lnTo>
                <a:lnTo>
                  <a:pt x="142" y="1595"/>
                </a:lnTo>
                <a:lnTo>
                  <a:pt x="162" y="1564"/>
                </a:lnTo>
                <a:lnTo>
                  <a:pt x="183" y="1531"/>
                </a:lnTo>
                <a:lnTo>
                  <a:pt x="202" y="1499"/>
                </a:lnTo>
                <a:lnTo>
                  <a:pt x="221" y="1466"/>
                </a:lnTo>
                <a:lnTo>
                  <a:pt x="240" y="1431"/>
                </a:lnTo>
                <a:lnTo>
                  <a:pt x="261" y="1397"/>
                </a:lnTo>
                <a:lnTo>
                  <a:pt x="281" y="1362"/>
                </a:lnTo>
                <a:lnTo>
                  <a:pt x="300" y="1328"/>
                </a:lnTo>
                <a:lnTo>
                  <a:pt x="319" y="1293"/>
                </a:lnTo>
                <a:lnTo>
                  <a:pt x="338" y="1257"/>
                </a:lnTo>
                <a:lnTo>
                  <a:pt x="377" y="1182"/>
                </a:lnTo>
                <a:lnTo>
                  <a:pt x="413" y="1107"/>
                </a:lnTo>
                <a:lnTo>
                  <a:pt x="448" y="1030"/>
                </a:lnTo>
                <a:lnTo>
                  <a:pt x="465" y="992"/>
                </a:lnTo>
                <a:lnTo>
                  <a:pt x="482" y="954"/>
                </a:lnTo>
                <a:lnTo>
                  <a:pt x="497" y="917"/>
                </a:lnTo>
                <a:lnTo>
                  <a:pt x="513" y="881"/>
                </a:lnTo>
                <a:lnTo>
                  <a:pt x="528" y="844"/>
                </a:lnTo>
                <a:lnTo>
                  <a:pt x="544" y="810"/>
                </a:lnTo>
                <a:lnTo>
                  <a:pt x="557" y="775"/>
                </a:lnTo>
                <a:lnTo>
                  <a:pt x="570" y="740"/>
                </a:lnTo>
                <a:lnTo>
                  <a:pt x="584" y="708"/>
                </a:lnTo>
                <a:lnTo>
                  <a:pt x="597" y="675"/>
                </a:lnTo>
                <a:lnTo>
                  <a:pt x="609" y="644"/>
                </a:lnTo>
                <a:lnTo>
                  <a:pt x="620" y="612"/>
                </a:lnTo>
                <a:lnTo>
                  <a:pt x="630" y="581"/>
                </a:lnTo>
                <a:lnTo>
                  <a:pt x="641" y="552"/>
                </a:lnTo>
                <a:lnTo>
                  <a:pt x="651" y="522"/>
                </a:lnTo>
                <a:lnTo>
                  <a:pt x="661" y="495"/>
                </a:lnTo>
                <a:lnTo>
                  <a:pt x="672" y="437"/>
                </a:lnTo>
                <a:lnTo>
                  <a:pt x="684" y="378"/>
                </a:lnTo>
                <a:lnTo>
                  <a:pt x="693" y="318"/>
                </a:lnTo>
                <a:lnTo>
                  <a:pt x="703" y="257"/>
                </a:lnTo>
                <a:lnTo>
                  <a:pt x="709" y="193"/>
                </a:lnTo>
                <a:lnTo>
                  <a:pt x="712" y="163"/>
                </a:lnTo>
                <a:lnTo>
                  <a:pt x="714" y="130"/>
                </a:lnTo>
                <a:lnTo>
                  <a:pt x="716" y="97"/>
                </a:lnTo>
                <a:lnTo>
                  <a:pt x="716" y="65"/>
                </a:lnTo>
                <a:lnTo>
                  <a:pt x="718" y="32"/>
                </a:lnTo>
                <a:lnTo>
                  <a:pt x="718" y="0"/>
                </a:lnTo>
                <a:lnTo>
                  <a:pt x="741" y="21"/>
                </a:lnTo>
                <a:lnTo>
                  <a:pt x="762" y="44"/>
                </a:lnTo>
                <a:lnTo>
                  <a:pt x="784" y="63"/>
                </a:lnTo>
                <a:lnTo>
                  <a:pt x="801" y="82"/>
                </a:lnTo>
                <a:lnTo>
                  <a:pt x="818" y="99"/>
                </a:lnTo>
                <a:lnTo>
                  <a:pt x="833" y="117"/>
                </a:lnTo>
                <a:lnTo>
                  <a:pt x="847" y="132"/>
                </a:lnTo>
                <a:lnTo>
                  <a:pt x="860" y="145"/>
                </a:lnTo>
                <a:lnTo>
                  <a:pt x="872" y="159"/>
                </a:lnTo>
                <a:lnTo>
                  <a:pt x="879" y="170"/>
                </a:lnTo>
                <a:lnTo>
                  <a:pt x="889" y="180"/>
                </a:lnTo>
                <a:lnTo>
                  <a:pt x="895" y="190"/>
                </a:lnTo>
                <a:lnTo>
                  <a:pt x="899" y="199"/>
                </a:lnTo>
                <a:lnTo>
                  <a:pt x="903" y="207"/>
                </a:lnTo>
                <a:lnTo>
                  <a:pt x="904" y="213"/>
                </a:lnTo>
                <a:lnTo>
                  <a:pt x="906" y="218"/>
                </a:lnTo>
                <a:lnTo>
                  <a:pt x="906" y="222"/>
                </a:lnTo>
                <a:lnTo>
                  <a:pt x="904" y="228"/>
                </a:lnTo>
                <a:lnTo>
                  <a:pt x="904" y="234"/>
                </a:lnTo>
                <a:lnTo>
                  <a:pt x="904" y="239"/>
                </a:lnTo>
                <a:lnTo>
                  <a:pt x="903" y="245"/>
                </a:lnTo>
                <a:lnTo>
                  <a:pt x="901" y="253"/>
                </a:lnTo>
                <a:lnTo>
                  <a:pt x="899" y="261"/>
                </a:lnTo>
                <a:lnTo>
                  <a:pt x="897" y="268"/>
                </a:lnTo>
                <a:lnTo>
                  <a:pt x="895" y="278"/>
                </a:lnTo>
                <a:lnTo>
                  <a:pt x="891" y="286"/>
                </a:lnTo>
                <a:lnTo>
                  <a:pt x="889" y="297"/>
                </a:lnTo>
                <a:lnTo>
                  <a:pt x="885" y="307"/>
                </a:lnTo>
                <a:lnTo>
                  <a:pt x="881" y="318"/>
                </a:lnTo>
                <a:lnTo>
                  <a:pt x="878" y="330"/>
                </a:lnTo>
                <a:lnTo>
                  <a:pt x="874" y="343"/>
                </a:lnTo>
                <a:lnTo>
                  <a:pt x="870" y="357"/>
                </a:lnTo>
                <a:lnTo>
                  <a:pt x="866" y="370"/>
                </a:lnTo>
                <a:lnTo>
                  <a:pt x="860" y="385"/>
                </a:lnTo>
                <a:lnTo>
                  <a:pt x="856" y="399"/>
                </a:lnTo>
                <a:lnTo>
                  <a:pt x="851" y="416"/>
                </a:lnTo>
                <a:lnTo>
                  <a:pt x="845" y="431"/>
                </a:lnTo>
                <a:lnTo>
                  <a:pt x="839" y="449"/>
                </a:lnTo>
                <a:lnTo>
                  <a:pt x="833" y="466"/>
                </a:lnTo>
                <a:lnTo>
                  <a:pt x="826" y="485"/>
                </a:lnTo>
                <a:lnTo>
                  <a:pt x="820" y="504"/>
                </a:lnTo>
                <a:lnTo>
                  <a:pt x="812" y="525"/>
                </a:lnTo>
                <a:lnTo>
                  <a:pt x="805" y="545"/>
                </a:lnTo>
                <a:lnTo>
                  <a:pt x="797" y="566"/>
                </a:lnTo>
                <a:lnTo>
                  <a:pt x="789" y="589"/>
                </a:lnTo>
                <a:lnTo>
                  <a:pt x="782" y="612"/>
                </a:lnTo>
                <a:lnTo>
                  <a:pt x="774" y="635"/>
                </a:lnTo>
                <a:lnTo>
                  <a:pt x="766" y="660"/>
                </a:lnTo>
                <a:lnTo>
                  <a:pt x="747" y="708"/>
                </a:lnTo>
                <a:lnTo>
                  <a:pt x="730" y="756"/>
                </a:lnTo>
                <a:lnTo>
                  <a:pt x="712" y="802"/>
                </a:lnTo>
                <a:lnTo>
                  <a:pt x="693" y="848"/>
                </a:lnTo>
                <a:lnTo>
                  <a:pt x="674" y="892"/>
                </a:lnTo>
                <a:lnTo>
                  <a:pt x="655" y="936"/>
                </a:lnTo>
                <a:lnTo>
                  <a:pt x="636" y="978"/>
                </a:lnTo>
                <a:lnTo>
                  <a:pt x="617" y="1021"/>
                </a:lnTo>
                <a:lnTo>
                  <a:pt x="597" y="1061"/>
                </a:lnTo>
                <a:lnTo>
                  <a:pt x="578" y="1101"/>
                </a:lnTo>
                <a:lnTo>
                  <a:pt x="559" y="1140"/>
                </a:lnTo>
                <a:lnTo>
                  <a:pt x="538" y="1178"/>
                </a:lnTo>
                <a:lnTo>
                  <a:pt x="519" y="1215"/>
                </a:lnTo>
                <a:lnTo>
                  <a:pt x="499" y="1249"/>
                </a:lnTo>
                <a:lnTo>
                  <a:pt x="478" y="1286"/>
                </a:lnTo>
                <a:lnTo>
                  <a:pt x="459" y="1320"/>
                </a:lnTo>
                <a:lnTo>
                  <a:pt x="440" y="1353"/>
                </a:lnTo>
                <a:lnTo>
                  <a:pt x="421" y="1385"/>
                </a:lnTo>
                <a:lnTo>
                  <a:pt x="402" y="1416"/>
                </a:lnTo>
                <a:lnTo>
                  <a:pt x="380" y="1449"/>
                </a:lnTo>
                <a:lnTo>
                  <a:pt x="361" y="1478"/>
                </a:lnTo>
                <a:lnTo>
                  <a:pt x="342" y="1508"/>
                </a:lnTo>
                <a:lnTo>
                  <a:pt x="323" y="1535"/>
                </a:lnTo>
                <a:lnTo>
                  <a:pt x="304" y="1564"/>
                </a:lnTo>
                <a:lnTo>
                  <a:pt x="284" y="1591"/>
                </a:lnTo>
                <a:lnTo>
                  <a:pt x="265" y="1616"/>
                </a:lnTo>
                <a:lnTo>
                  <a:pt x="246" y="1641"/>
                </a:lnTo>
                <a:lnTo>
                  <a:pt x="227" y="1664"/>
                </a:lnTo>
                <a:lnTo>
                  <a:pt x="208" y="1685"/>
                </a:lnTo>
                <a:lnTo>
                  <a:pt x="190" y="1706"/>
                </a:lnTo>
                <a:lnTo>
                  <a:pt x="171" y="1727"/>
                </a:lnTo>
                <a:lnTo>
                  <a:pt x="154" y="17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92"/>
          <p:cNvSpPr/>
          <p:nvPr/>
        </p:nvSpPr>
        <p:spPr>
          <a:xfrm>
            <a:off x="5751360" y="3105000"/>
            <a:ext cx="733680" cy="262080"/>
          </a:xfrm>
          <a:custGeom>
            <a:avLst/>
            <a:gdLst/>
            <a:ahLst/>
            <a:rect l="l" t="t" r="r" b="b"/>
            <a:pathLst>
              <a:path w="925" h="330">
                <a:moveTo>
                  <a:pt x="505" y="96"/>
                </a:moveTo>
                <a:lnTo>
                  <a:pt x="536" y="82"/>
                </a:lnTo>
                <a:lnTo>
                  <a:pt x="564" y="71"/>
                </a:lnTo>
                <a:lnTo>
                  <a:pt x="591" y="61"/>
                </a:lnTo>
                <a:lnTo>
                  <a:pt x="618" y="52"/>
                </a:lnTo>
                <a:lnTo>
                  <a:pt x="643" y="42"/>
                </a:lnTo>
                <a:lnTo>
                  <a:pt x="666" y="34"/>
                </a:lnTo>
                <a:lnTo>
                  <a:pt x="687" y="27"/>
                </a:lnTo>
                <a:lnTo>
                  <a:pt x="708" y="21"/>
                </a:lnTo>
                <a:lnTo>
                  <a:pt x="728" y="15"/>
                </a:lnTo>
                <a:lnTo>
                  <a:pt x="745" y="11"/>
                </a:lnTo>
                <a:lnTo>
                  <a:pt x="762" y="7"/>
                </a:lnTo>
                <a:lnTo>
                  <a:pt x="775" y="4"/>
                </a:lnTo>
                <a:lnTo>
                  <a:pt x="789" y="2"/>
                </a:lnTo>
                <a:lnTo>
                  <a:pt x="802" y="0"/>
                </a:lnTo>
                <a:lnTo>
                  <a:pt x="814" y="0"/>
                </a:lnTo>
                <a:lnTo>
                  <a:pt x="823" y="0"/>
                </a:lnTo>
                <a:lnTo>
                  <a:pt x="835" y="0"/>
                </a:lnTo>
                <a:lnTo>
                  <a:pt x="848" y="2"/>
                </a:lnTo>
                <a:lnTo>
                  <a:pt x="862" y="6"/>
                </a:lnTo>
                <a:lnTo>
                  <a:pt x="868" y="7"/>
                </a:lnTo>
                <a:lnTo>
                  <a:pt x="873" y="11"/>
                </a:lnTo>
                <a:lnTo>
                  <a:pt x="881" y="15"/>
                </a:lnTo>
                <a:lnTo>
                  <a:pt x="887" y="19"/>
                </a:lnTo>
                <a:lnTo>
                  <a:pt x="893" y="23"/>
                </a:lnTo>
                <a:lnTo>
                  <a:pt x="896" y="29"/>
                </a:lnTo>
                <a:lnTo>
                  <a:pt x="902" y="34"/>
                </a:lnTo>
                <a:lnTo>
                  <a:pt x="908" y="40"/>
                </a:lnTo>
                <a:lnTo>
                  <a:pt x="912" y="48"/>
                </a:lnTo>
                <a:lnTo>
                  <a:pt x="918" y="55"/>
                </a:lnTo>
                <a:lnTo>
                  <a:pt x="919" y="69"/>
                </a:lnTo>
                <a:lnTo>
                  <a:pt x="923" y="82"/>
                </a:lnTo>
                <a:lnTo>
                  <a:pt x="925" y="96"/>
                </a:lnTo>
                <a:lnTo>
                  <a:pt x="925" y="105"/>
                </a:lnTo>
                <a:lnTo>
                  <a:pt x="925" y="115"/>
                </a:lnTo>
                <a:lnTo>
                  <a:pt x="923" y="125"/>
                </a:lnTo>
                <a:lnTo>
                  <a:pt x="919" y="130"/>
                </a:lnTo>
                <a:lnTo>
                  <a:pt x="918" y="138"/>
                </a:lnTo>
                <a:lnTo>
                  <a:pt x="914" y="140"/>
                </a:lnTo>
                <a:lnTo>
                  <a:pt x="912" y="142"/>
                </a:lnTo>
                <a:lnTo>
                  <a:pt x="908" y="146"/>
                </a:lnTo>
                <a:lnTo>
                  <a:pt x="904" y="148"/>
                </a:lnTo>
                <a:lnTo>
                  <a:pt x="898" y="151"/>
                </a:lnTo>
                <a:lnTo>
                  <a:pt x="893" y="153"/>
                </a:lnTo>
                <a:lnTo>
                  <a:pt x="887" y="157"/>
                </a:lnTo>
                <a:lnTo>
                  <a:pt x="881" y="161"/>
                </a:lnTo>
                <a:lnTo>
                  <a:pt x="873" y="163"/>
                </a:lnTo>
                <a:lnTo>
                  <a:pt x="866" y="167"/>
                </a:lnTo>
                <a:lnTo>
                  <a:pt x="858" y="171"/>
                </a:lnTo>
                <a:lnTo>
                  <a:pt x="850" y="173"/>
                </a:lnTo>
                <a:lnTo>
                  <a:pt x="841" y="176"/>
                </a:lnTo>
                <a:lnTo>
                  <a:pt x="831" y="180"/>
                </a:lnTo>
                <a:lnTo>
                  <a:pt x="820" y="184"/>
                </a:lnTo>
                <a:lnTo>
                  <a:pt x="810" y="186"/>
                </a:lnTo>
                <a:lnTo>
                  <a:pt x="799" y="190"/>
                </a:lnTo>
                <a:lnTo>
                  <a:pt x="785" y="194"/>
                </a:lnTo>
                <a:lnTo>
                  <a:pt x="774" y="198"/>
                </a:lnTo>
                <a:lnTo>
                  <a:pt x="760" y="201"/>
                </a:lnTo>
                <a:lnTo>
                  <a:pt x="745" y="205"/>
                </a:lnTo>
                <a:lnTo>
                  <a:pt x="731" y="209"/>
                </a:lnTo>
                <a:lnTo>
                  <a:pt x="716" y="213"/>
                </a:lnTo>
                <a:lnTo>
                  <a:pt x="701" y="217"/>
                </a:lnTo>
                <a:lnTo>
                  <a:pt x="683" y="221"/>
                </a:lnTo>
                <a:lnTo>
                  <a:pt x="666" y="224"/>
                </a:lnTo>
                <a:lnTo>
                  <a:pt x="649" y="228"/>
                </a:lnTo>
                <a:lnTo>
                  <a:pt x="632" y="232"/>
                </a:lnTo>
                <a:lnTo>
                  <a:pt x="612" y="236"/>
                </a:lnTo>
                <a:lnTo>
                  <a:pt x="593" y="240"/>
                </a:lnTo>
                <a:lnTo>
                  <a:pt x="574" y="244"/>
                </a:lnTo>
                <a:lnTo>
                  <a:pt x="553" y="247"/>
                </a:lnTo>
                <a:lnTo>
                  <a:pt x="532" y="251"/>
                </a:lnTo>
                <a:lnTo>
                  <a:pt x="513" y="257"/>
                </a:lnTo>
                <a:lnTo>
                  <a:pt x="491" y="263"/>
                </a:lnTo>
                <a:lnTo>
                  <a:pt x="474" y="267"/>
                </a:lnTo>
                <a:lnTo>
                  <a:pt x="455" y="270"/>
                </a:lnTo>
                <a:lnTo>
                  <a:pt x="438" y="276"/>
                </a:lnTo>
                <a:lnTo>
                  <a:pt x="420" y="280"/>
                </a:lnTo>
                <a:lnTo>
                  <a:pt x="403" y="284"/>
                </a:lnTo>
                <a:lnTo>
                  <a:pt x="386" y="288"/>
                </a:lnTo>
                <a:lnTo>
                  <a:pt x="370" y="292"/>
                </a:lnTo>
                <a:lnTo>
                  <a:pt x="355" y="295"/>
                </a:lnTo>
                <a:lnTo>
                  <a:pt x="342" y="297"/>
                </a:lnTo>
                <a:lnTo>
                  <a:pt x="326" y="301"/>
                </a:lnTo>
                <a:lnTo>
                  <a:pt x="313" y="303"/>
                </a:lnTo>
                <a:lnTo>
                  <a:pt x="301" y="307"/>
                </a:lnTo>
                <a:lnTo>
                  <a:pt x="288" y="309"/>
                </a:lnTo>
                <a:lnTo>
                  <a:pt x="276" y="313"/>
                </a:lnTo>
                <a:lnTo>
                  <a:pt x="265" y="315"/>
                </a:lnTo>
                <a:lnTo>
                  <a:pt x="255" y="317"/>
                </a:lnTo>
                <a:lnTo>
                  <a:pt x="244" y="318"/>
                </a:lnTo>
                <a:lnTo>
                  <a:pt x="234" y="320"/>
                </a:lnTo>
                <a:lnTo>
                  <a:pt x="225" y="322"/>
                </a:lnTo>
                <a:lnTo>
                  <a:pt x="217" y="322"/>
                </a:lnTo>
                <a:lnTo>
                  <a:pt x="209" y="324"/>
                </a:lnTo>
                <a:lnTo>
                  <a:pt x="202" y="326"/>
                </a:lnTo>
                <a:lnTo>
                  <a:pt x="194" y="326"/>
                </a:lnTo>
                <a:lnTo>
                  <a:pt x="188" y="328"/>
                </a:lnTo>
                <a:lnTo>
                  <a:pt x="182" y="328"/>
                </a:lnTo>
                <a:lnTo>
                  <a:pt x="177" y="328"/>
                </a:lnTo>
                <a:lnTo>
                  <a:pt x="173" y="330"/>
                </a:lnTo>
                <a:lnTo>
                  <a:pt x="169" y="330"/>
                </a:lnTo>
                <a:lnTo>
                  <a:pt x="165" y="330"/>
                </a:lnTo>
                <a:lnTo>
                  <a:pt x="148" y="328"/>
                </a:lnTo>
                <a:lnTo>
                  <a:pt x="131" y="328"/>
                </a:lnTo>
                <a:lnTo>
                  <a:pt x="117" y="324"/>
                </a:lnTo>
                <a:lnTo>
                  <a:pt x="102" y="320"/>
                </a:lnTo>
                <a:lnTo>
                  <a:pt x="88" y="317"/>
                </a:lnTo>
                <a:lnTo>
                  <a:pt x="75" y="313"/>
                </a:lnTo>
                <a:lnTo>
                  <a:pt x="48" y="303"/>
                </a:lnTo>
                <a:lnTo>
                  <a:pt x="40" y="299"/>
                </a:lnTo>
                <a:lnTo>
                  <a:pt x="35" y="297"/>
                </a:lnTo>
                <a:lnTo>
                  <a:pt x="31" y="293"/>
                </a:lnTo>
                <a:lnTo>
                  <a:pt x="25" y="292"/>
                </a:lnTo>
                <a:lnTo>
                  <a:pt x="21" y="290"/>
                </a:lnTo>
                <a:lnTo>
                  <a:pt x="17" y="286"/>
                </a:lnTo>
                <a:lnTo>
                  <a:pt x="12" y="282"/>
                </a:lnTo>
                <a:lnTo>
                  <a:pt x="6" y="276"/>
                </a:lnTo>
                <a:lnTo>
                  <a:pt x="2" y="270"/>
                </a:lnTo>
                <a:lnTo>
                  <a:pt x="2" y="267"/>
                </a:lnTo>
                <a:lnTo>
                  <a:pt x="0" y="261"/>
                </a:lnTo>
                <a:lnTo>
                  <a:pt x="2" y="259"/>
                </a:lnTo>
                <a:lnTo>
                  <a:pt x="2" y="255"/>
                </a:lnTo>
                <a:lnTo>
                  <a:pt x="6" y="251"/>
                </a:lnTo>
                <a:lnTo>
                  <a:pt x="10" y="247"/>
                </a:lnTo>
                <a:lnTo>
                  <a:pt x="13" y="245"/>
                </a:lnTo>
                <a:lnTo>
                  <a:pt x="19" y="242"/>
                </a:lnTo>
                <a:lnTo>
                  <a:pt x="27" y="238"/>
                </a:lnTo>
                <a:lnTo>
                  <a:pt x="35" y="234"/>
                </a:lnTo>
                <a:lnTo>
                  <a:pt x="42" y="230"/>
                </a:lnTo>
                <a:lnTo>
                  <a:pt x="52" y="226"/>
                </a:lnTo>
                <a:lnTo>
                  <a:pt x="63" y="222"/>
                </a:lnTo>
                <a:lnTo>
                  <a:pt x="75" y="219"/>
                </a:lnTo>
                <a:lnTo>
                  <a:pt x="86" y="215"/>
                </a:lnTo>
                <a:lnTo>
                  <a:pt x="100" y="211"/>
                </a:lnTo>
                <a:lnTo>
                  <a:pt x="115" y="209"/>
                </a:lnTo>
                <a:lnTo>
                  <a:pt x="131" y="205"/>
                </a:lnTo>
                <a:lnTo>
                  <a:pt x="146" y="203"/>
                </a:lnTo>
                <a:lnTo>
                  <a:pt x="163" y="199"/>
                </a:lnTo>
                <a:lnTo>
                  <a:pt x="180" y="196"/>
                </a:lnTo>
                <a:lnTo>
                  <a:pt x="200" y="192"/>
                </a:lnTo>
                <a:lnTo>
                  <a:pt x="221" y="188"/>
                </a:lnTo>
                <a:lnTo>
                  <a:pt x="242" y="184"/>
                </a:lnTo>
                <a:lnTo>
                  <a:pt x="263" y="178"/>
                </a:lnTo>
                <a:lnTo>
                  <a:pt x="286" y="173"/>
                </a:lnTo>
                <a:lnTo>
                  <a:pt x="311" y="165"/>
                </a:lnTo>
                <a:lnTo>
                  <a:pt x="336" y="157"/>
                </a:lnTo>
                <a:lnTo>
                  <a:pt x="363" y="150"/>
                </a:lnTo>
                <a:lnTo>
                  <a:pt x="390" y="140"/>
                </a:lnTo>
                <a:lnTo>
                  <a:pt x="417" y="130"/>
                </a:lnTo>
                <a:lnTo>
                  <a:pt x="445" y="121"/>
                </a:lnTo>
                <a:lnTo>
                  <a:pt x="474" y="109"/>
                </a:lnTo>
                <a:lnTo>
                  <a:pt x="505" y="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5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亻”竖要直，“古”第一横稍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65"/>
          <p:cNvSpPr/>
          <p:nvPr/>
        </p:nvSpPr>
        <p:spPr>
          <a:xfrm>
            <a:off x="6589800" y="3956040"/>
            <a:ext cx="995400" cy="641520"/>
          </a:xfrm>
          <a:custGeom>
            <a:avLst/>
            <a:gdLst/>
            <a:ahLst/>
            <a:rect l="l" t="t" r="r" b="b"/>
            <a:pathLst>
              <a:path w="1253" h="808">
                <a:moveTo>
                  <a:pt x="869" y="42"/>
                </a:moveTo>
                <a:lnTo>
                  <a:pt x="881" y="31"/>
                </a:lnTo>
                <a:lnTo>
                  <a:pt x="894" y="23"/>
                </a:lnTo>
                <a:lnTo>
                  <a:pt x="906" y="15"/>
                </a:lnTo>
                <a:lnTo>
                  <a:pt x="917" y="10"/>
                </a:lnTo>
                <a:lnTo>
                  <a:pt x="929" y="6"/>
                </a:lnTo>
                <a:lnTo>
                  <a:pt x="942" y="2"/>
                </a:lnTo>
                <a:lnTo>
                  <a:pt x="953" y="0"/>
                </a:lnTo>
                <a:lnTo>
                  <a:pt x="967" y="0"/>
                </a:lnTo>
                <a:lnTo>
                  <a:pt x="973" y="2"/>
                </a:lnTo>
                <a:lnTo>
                  <a:pt x="978" y="6"/>
                </a:lnTo>
                <a:lnTo>
                  <a:pt x="984" y="10"/>
                </a:lnTo>
                <a:lnTo>
                  <a:pt x="990" y="14"/>
                </a:lnTo>
                <a:lnTo>
                  <a:pt x="998" y="17"/>
                </a:lnTo>
                <a:lnTo>
                  <a:pt x="1007" y="23"/>
                </a:lnTo>
                <a:lnTo>
                  <a:pt x="1015" y="29"/>
                </a:lnTo>
                <a:lnTo>
                  <a:pt x="1025" y="35"/>
                </a:lnTo>
                <a:lnTo>
                  <a:pt x="1034" y="40"/>
                </a:lnTo>
                <a:lnTo>
                  <a:pt x="1046" y="48"/>
                </a:lnTo>
                <a:lnTo>
                  <a:pt x="1057" y="56"/>
                </a:lnTo>
                <a:lnTo>
                  <a:pt x="1071" y="65"/>
                </a:lnTo>
                <a:lnTo>
                  <a:pt x="1084" y="75"/>
                </a:lnTo>
                <a:lnTo>
                  <a:pt x="1097" y="86"/>
                </a:lnTo>
                <a:lnTo>
                  <a:pt x="1113" y="98"/>
                </a:lnTo>
                <a:lnTo>
                  <a:pt x="1128" y="109"/>
                </a:lnTo>
                <a:lnTo>
                  <a:pt x="1144" y="123"/>
                </a:lnTo>
                <a:lnTo>
                  <a:pt x="1159" y="134"/>
                </a:lnTo>
                <a:lnTo>
                  <a:pt x="1172" y="148"/>
                </a:lnTo>
                <a:lnTo>
                  <a:pt x="1184" y="159"/>
                </a:lnTo>
                <a:lnTo>
                  <a:pt x="1195" y="169"/>
                </a:lnTo>
                <a:lnTo>
                  <a:pt x="1205" y="181"/>
                </a:lnTo>
                <a:lnTo>
                  <a:pt x="1215" y="190"/>
                </a:lnTo>
                <a:lnTo>
                  <a:pt x="1222" y="200"/>
                </a:lnTo>
                <a:lnTo>
                  <a:pt x="1230" y="207"/>
                </a:lnTo>
                <a:lnTo>
                  <a:pt x="1236" y="215"/>
                </a:lnTo>
                <a:lnTo>
                  <a:pt x="1241" y="223"/>
                </a:lnTo>
                <a:lnTo>
                  <a:pt x="1245" y="228"/>
                </a:lnTo>
                <a:lnTo>
                  <a:pt x="1249" y="234"/>
                </a:lnTo>
                <a:lnTo>
                  <a:pt x="1251" y="240"/>
                </a:lnTo>
                <a:lnTo>
                  <a:pt x="1253" y="244"/>
                </a:lnTo>
                <a:lnTo>
                  <a:pt x="1253" y="248"/>
                </a:lnTo>
                <a:lnTo>
                  <a:pt x="1247" y="257"/>
                </a:lnTo>
                <a:lnTo>
                  <a:pt x="1241" y="267"/>
                </a:lnTo>
                <a:lnTo>
                  <a:pt x="1234" y="278"/>
                </a:lnTo>
                <a:lnTo>
                  <a:pt x="1224" y="290"/>
                </a:lnTo>
                <a:lnTo>
                  <a:pt x="1215" y="301"/>
                </a:lnTo>
                <a:lnTo>
                  <a:pt x="1203" y="315"/>
                </a:lnTo>
                <a:lnTo>
                  <a:pt x="1192" y="328"/>
                </a:lnTo>
                <a:lnTo>
                  <a:pt x="1178" y="344"/>
                </a:lnTo>
                <a:lnTo>
                  <a:pt x="1174" y="348"/>
                </a:lnTo>
                <a:lnTo>
                  <a:pt x="1168" y="351"/>
                </a:lnTo>
                <a:lnTo>
                  <a:pt x="1163" y="357"/>
                </a:lnTo>
                <a:lnTo>
                  <a:pt x="1159" y="363"/>
                </a:lnTo>
                <a:lnTo>
                  <a:pt x="1153" y="371"/>
                </a:lnTo>
                <a:lnTo>
                  <a:pt x="1147" y="378"/>
                </a:lnTo>
                <a:lnTo>
                  <a:pt x="1142" y="386"/>
                </a:lnTo>
                <a:lnTo>
                  <a:pt x="1136" y="394"/>
                </a:lnTo>
                <a:lnTo>
                  <a:pt x="1130" y="403"/>
                </a:lnTo>
                <a:lnTo>
                  <a:pt x="1124" y="413"/>
                </a:lnTo>
                <a:lnTo>
                  <a:pt x="1119" y="424"/>
                </a:lnTo>
                <a:lnTo>
                  <a:pt x="1111" y="436"/>
                </a:lnTo>
                <a:lnTo>
                  <a:pt x="1105" y="447"/>
                </a:lnTo>
                <a:lnTo>
                  <a:pt x="1097" y="461"/>
                </a:lnTo>
                <a:lnTo>
                  <a:pt x="1092" y="474"/>
                </a:lnTo>
                <a:lnTo>
                  <a:pt x="1084" y="488"/>
                </a:lnTo>
                <a:lnTo>
                  <a:pt x="1078" y="503"/>
                </a:lnTo>
                <a:lnTo>
                  <a:pt x="1071" y="518"/>
                </a:lnTo>
                <a:lnTo>
                  <a:pt x="1063" y="534"/>
                </a:lnTo>
                <a:lnTo>
                  <a:pt x="1055" y="551"/>
                </a:lnTo>
                <a:lnTo>
                  <a:pt x="1048" y="568"/>
                </a:lnTo>
                <a:lnTo>
                  <a:pt x="1040" y="587"/>
                </a:lnTo>
                <a:lnTo>
                  <a:pt x="1032" y="607"/>
                </a:lnTo>
                <a:lnTo>
                  <a:pt x="1025" y="626"/>
                </a:lnTo>
                <a:lnTo>
                  <a:pt x="1015" y="645"/>
                </a:lnTo>
                <a:lnTo>
                  <a:pt x="1007" y="666"/>
                </a:lnTo>
                <a:lnTo>
                  <a:pt x="1000" y="689"/>
                </a:lnTo>
                <a:lnTo>
                  <a:pt x="990" y="710"/>
                </a:lnTo>
                <a:lnTo>
                  <a:pt x="982" y="735"/>
                </a:lnTo>
                <a:lnTo>
                  <a:pt x="973" y="758"/>
                </a:lnTo>
                <a:lnTo>
                  <a:pt x="963" y="783"/>
                </a:lnTo>
                <a:lnTo>
                  <a:pt x="955" y="808"/>
                </a:lnTo>
                <a:lnTo>
                  <a:pt x="892" y="808"/>
                </a:lnTo>
                <a:lnTo>
                  <a:pt x="831" y="808"/>
                </a:lnTo>
                <a:lnTo>
                  <a:pt x="833" y="789"/>
                </a:lnTo>
                <a:lnTo>
                  <a:pt x="836" y="772"/>
                </a:lnTo>
                <a:lnTo>
                  <a:pt x="838" y="751"/>
                </a:lnTo>
                <a:lnTo>
                  <a:pt x="842" y="731"/>
                </a:lnTo>
                <a:lnTo>
                  <a:pt x="846" y="710"/>
                </a:lnTo>
                <a:lnTo>
                  <a:pt x="850" y="689"/>
                </a:lnTo>
                <a:lnTo>
                  <a:pt x="854" y="668"/>
                </a:lnTo>
                <a:lnTo>
                  <a:pt x="858" y="645"/>
                </a:lnTo>
                <a:lnTo>
                  <a:pt x="861" y="624"/>
                </a:lnTo>
                <a:lnTo>
                  <a:pt x="865" y="599"/>
                </a:lnTo>
                <a:lnTo>
                  <a:pt x="875" y="553"/>
                </a:lnTo>
                <a:lnTo>
                  <a:pt x="884" y="503"/>
                </a:lnTo>
                <a:lnTo>
                  <a:pt x="892" y="453"/>
                </a:lnTo>
                <a:lnTo>
                  <a:pt x="898" y="430"/>
                </a:lnTo>
                <a:lnTo>
                  <a:pt x="900" y="407"/>
                </a:lnTo>
                <a:lnTo>
                  <a:pt x="904" y="388"/>
                </a:lnTo>
                <a:lnTo>
                  <a:pt x="907" y="367"/>
                </a:lnTo>
                <a:lnTo>
                  <a:pt x="909" y="349"/>
                </a:lnTo>
                <a:lnTo>
                  <a:pt x="911" y="332"/>
                </a:lnTo>
                <a:lnTo>
                  <a:pt x="911" y="315"/>
                </a:lnTo>
                <a:lnTo>
                  <a:pt x="913" y="300"/>
                </a:lnTo>
                <a:lnTo>
                  <a:pt x="913" y="286"/>
                </a:lnTo>
                <a:lnTo>
                  <a:pt x="913" y="273"/>
                </a:lnTo>
                <a:lnTo>
                  <a:pt x="913" y="261"/>
                </a:lnTo>
                <a:lnTo>
                  <a:pt x="911" y="250"/>
                </a:lnTo>
                <a:lnTo>
                  <a:pt x="911" y="240"/>
                </a:lnTo>
                <a:lnTo>
                  <a:pt x="909" y="232"/>
                </a:lnTo>
                <a:lnTo>
                  <a:pt x="907" y="225"/>
                </a:lnTo>
                <a:lnTo>
                  <a:pt x="906" y="219"/>
                </a:lnTo>
                <a:lnTo>
                  <a:pt x="904" y="219"/>
                </a:lnTo>
                <a:lnTo>
                  <a:pt x="902" y="217"/>
                </a:lnTo>
                <a:lnTo>
                  <a:pt x="898" y="215"/>
                </a:lnTo>
                <a:lnTo>
                  <a:pt x="896" y="215"/>
                </a:lnTo>
                <a:lnTo>
                  <a:pt x="892" y="213"/>
                </a:lnTo>
                <a:lnTo>
                  <a:pt x="886" y="213"/>
                </a:lnTo>
                <a:lnTo>
                  <a:pt x="881" y="213"/>
                </a:lnTo>
                <a:lnTo>
                  <a:pt x="875" y="211"/>
                </a:lnTo>
                <a:lnTo>
                  <a:pt x="869" y="211"/>
                </a:lnTo>
                <a:lnTo>
                  <a:pt x="861" y="211"/>
                </a:lnTo>
                <a:lnTo>
                  <a:pt x="854" y="211"/>
                </a:lnTo>
                <a:lnTo>
                  <a:pt x="844" y="211"/>
                </a:lnTo>
                <a:lnTo>
                  <a:pt x="834" y="211"/>
                </a:lnTo>
                <a:lnTo>
                  <a:pt x="825" y="211"/>
                </a:lnTo>
                <a:lnTo>
                  <a:pt x="813" y="211"/>
                </a:lnTo>
                <a:lnTo>
                  <a:pt x="804" y="213"/>
                </a:lnTo>
                <a:lnTo>
                  <a:pt x="790" y="213"/>
                </a:lnTo>
                <a:lnTo>
                  <a:pt x="779" y="213"/>
                </a:lnTo>
                <a:lnTo>
                  <a:pt x="765" y="215"/>
                </a:lnTo>
                <a:lnTo>
                  <a:pt x="752" y="217"/>
                </a:lnTo>
                <a:lnTo>
                  <a:pt x="737" y="217"/>
                </a:lnTo>
                <a:lnTo>
                  <a:pt x="721" y="219"/>
                </a:lnTo>
                <a:lnTo>
                  <a:pt x="706" y="221"/>
                </a:lnTo>
                <a:lnTo>
                  <a:pt x="689" y="223"/>
                </a:lnTo>
                <a:lnTo>
                  <a:pt x="671" y="225"/>
                </a:lnTo>
                <a:lnTo>
                  <a:pt x="654" y="228"/>
                </a:lnTo>
                <a:lnTo>
                  <a:pt x="635" y="230"/>
                </a:lnTo>
                <a:lnTo>
                  <a:pt x="616" y="232"/>
                </a:lnTo>
                <a:lnTo>
                  <a:pt x="596" y="236"/>
                </a:lnTo>
                <a:lnTo>
                  <a:pt x="575" y="240"/>
                </a:lnTo>
                <a:lnTo>
                  <a:pt x="554" y="244"/>
                </a:lnTo>
                <a:lnTo>
                  <a:pt x="533" y="248"/>
                </a:lnTo>
                <a:lnTo>
                  <a:pt x="489" y="255"/>
                </a:lnTo>
                <a:lnTo>
                  <a:pt x="447" y="261"/>
                </a:lnTo>
                <a:lnTo>
                  <a:pt x="406" y="269"/>
                </a:lnTo>
                <a:lnTo>
                  <a:pt x="368" y="275"/>
                </a:lnTo>
                <a:lnTo>
                  <a:pt x="330" y="282"/>
                </a:lnTo>
                <a:lnTo>
                  <a:pt x="293" y="288"/>
                </a:lnTo>
                <a:lnTo>
                  <a:pt x="259" y="294"/>
                </a:lnTo>
                <a:lnTo>
                  <a:pt x="224" y="298"/>
                </a:lnTo>
                <a:lnTo>
                  <a:pt x="191" y="303"/>
                </a:lnTo>
                <a:lnTo>
                  <a:pt x="161" y="307"/>
                </a:lnTo>
                <a:lnTo>
                  <a:pt x="132" y="313"/>
                </a:lnTo>
                <a:lnTo>
                  <a:pt x="103" y="317"/>
                </a:lnTo>
                <a:lnTo>
                  <a:pt x="74" y="319"/>
                </a:lnTo>
                <a:lnTo>
                  <a:pt x="49" y="323"/>
                </a:lnTo>
                <a:lnTo>
                  <a:pt x="24" y="326"/>
                </a:lnTo>
                <a:lnTo>
                  <a:pt x="0" y="328"/>
                </a:lnTo>
                <a:lnTo>
                  <a:pt x="19" y="275"/>
                </a:lnTo>
                <a:lnTo>
                  <a:pt x="38" y="219"/>
                </a:lnTo>
                <a:lnTo>
                  <a:pt x="44" y="219"/>
                </a:lnTo>
                <a:lnTo>
                  <a:pt x="49" y="219"/>
                </a:lnTo>
                <a:lnTo>
                  <a:pt x="57" y="219"/>
                </a:lnTo>
                <a:lnTo>
                  <a:pt x="65" y="219"/>
                </a:lnTo>
                <a:lnTo>
                  <a:pt x="72" y="217"/>
                </a:lnTo>
                <a:lnTo>
                  <a:pt x="82" y="217"/>
                </a:lnTo>
                <a:lnTo>
                  <a:pt x="90" y="215"/>
                </a:lnTo>
                <a:lnTo>
                  <a:pt x="99" y="215"/>
                </a:lnTo>
                <a:lnTo>
                  <a:pt x="111" y="213"/>
                </a:lnTo>
                <a:lnTo>
                  <a:pt x="120" y="211"/>
                </a:lnTo>
                <a:lnTo>
                  <a:pt x="132" y="211"/>
                </a:lnTo>
                <a:lnTo>
                  <a:pt x="144" y="209"/>
                </a:lnTo>
                <a:lnTo>
                  <a:pt x="155" y="207"/>
                </a:lnTo>
                <a:lnTo>
                  <a:pt x="168" y="205"/>
                </a:lnTo>
                <a:lnTo>
                  <a:pt x="182" y="204"/>
                </a:lnTo>
                <a:lnTo>
                  <a:pt x="195" y="202"/>
                </a:lnTo>
                <a:lnTo>
                  <a:pt x="209" y="198"/>
                </a:lnTo>
                <a:lnTo>
                  <a:pt x="224" y="196"/>
                </a:lnTo>
                <a:lnTo>
                  <a:pt x="239" y="194"/>
                </a:lnTo>
                <a:lnTo>
                  <a:pt x="255" y="192"/>
                </a:lnTo>
                <a:lnTo>
                  <a:pt x="272" y="188"/>
                </a:lnTo>
                <a:lnTo>
                  <a:pt x="287" y="186"/>
                </a:lnTo>
                <a:lnTo>
                  <a:pt x="305" y="182"/>
                </a:lnTo>
                <a:lnTo>
                  <a:pt x="324" y="179"/>
                </a:lnTo>
                <a:lnTo>
                  <a:pt x="341" y="177"/>
                </a:lnTo>
                <a:lnTo>
                  <a:pt x="360" y="173"/>
                </a:lnTo>
                <a:lnTo>
                  <a:pt x="380" y="169"/>
                </a:lnTo>
                <a:lnTo>
                  <a:pt x="399" y="165"/>
                </a:lnTo>
                <a:lnTo>
                  <a:pt x="420" y="161"/>
                </a:lnTo>
                <a:lnTo>
                  <a:pt x="441" y="159"/>
                </a:lnTo>
                <a:lnTo>
                  <a:pt x="462" y="156"/>
                </a:lnTo>
                <a:lnTo>
                  <a:pt x="483" y="152"/>
                </a:lnTo>
                <a:lnTo>
                  <a:pt x="504" y="146"/>
                </a:lnTo>
                <a:lnTo>
                  <a:pt x="524" y="142"/>
                </a:lnTo>
                <a:lnTo>
                  <a:pt x="545" y="138"/>
                </a:lnTo>
                <a:lnTo>
                  <a:pt x="562" y="134"/>
                </a:lnTo>
                <a:lnTo>
                  <a:pt x="581" y="131"/>
                </a:lnTo>
                <a:lnTo>
                  <a:pt x="598" y="127"/>
                </a:lnTo>
                <a:lnTo>
                  <a:pt x="616" y="123"/>
                </a:lnTo>
                <a:lnTo>
                  <a:pt x="633" y="119"/>
                </a:lnTo>
                <a:lnTo>
                  <a:pt x="648" y="117"/>
                </a:lnTo>
                <a:lnTo>
                  <a:pt x="664" y="113"/>
                </a:lnTo>
                <a:lnTo>
                  <a:pt x="679" y="109"/>
                </a:lnTo>
                <a:lnTo>
                  <a:pt x="694" y="106"/>
                </a:lnTo>
                <a:lnTo>
                  <a:pt x="708" y="102"/>
                </a:lnTo>
                <a:lnTo>
                  <a:pt x="721" y="98"/>
                </a:lnTo>
                <a:lnTo>
                  <a:pt x="733" y="94"/>
                </a:lnTo>
                <a:lnTo>
                  <a:pt x="746" y="90"/>
                </a:lnTo>
                <a:lnTo>
                  <a:pt x="758" y="86"/>
                </a:lnTo>
                <a:lnTo>
                  <a:pt x="769" y="85"/>
                </a:lnTo>
                <a:lnTo>
                  <a:pt x="779" y="81"/>
                </a:lnTo>
                <a:lnTo>
                  <a:pt x="788" y="77"/>
                </a:lnTo>
                <a:lnTo>
                  <a:pt x="798" y="73"/>
                </a:lnTo>
                <a:lnTo>
                  <a:pt x="808" y="71"/>
                </a:lnTo>
                <a:lnTo>
                  <a:pt x="815" y="67"/>
                </a:lnTo>
                <a:lnTo>
                  <a:pt x="823" y="63"/>
                </a:lnTo>
                <a:lnTo>
                  <a:pt x="831" y="62"/>
                </a:lnTo>
                <a:lnTo>
                  <a:pt x="838" y="58"/>
                </a:lnTo>
                <a:lnTo>
                  <a:pt x="844" y="56"/>
                </a:lnTo>
                <a:lnTo>
                  <a:pt x="850" y="52"/>
                </a:lnTo>
                <a:lnTo>
                  <a:pt x="856" y="50"/>
                </a:lnTo>
                <a:lnTo>
                  <a:pt x="859" y="46"/>
                </a:lnTo>
                <a:lnTo>
                  <a:pt x="865" y="44"/>
                </a:lnTo>
                <a:lnTo>
                  <a:pt x="869" y="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66"/>
          <p:cNvSpPr/>
          <p:nvPr/>
        </p:nvSpPr>
        <p:spPr>
          <a:xfrm>
            <a:off x="6689880" y="4541760"/>
            <a:ext cx="744480" cy="196920"/>
          </a:xfrm>
          <a:custGeom>
            <a:avLst/>
            <a:gdLst/>
            <a:ahLst/>
            <a:rect l="l" t="t" r="r" b="b"/>
            <a:pathLst>
              <a:path w="939" h="248">
                <a:moveTo>
                  <a:pt x="0" y="111"/>
                </a:moveTo>
                <a:lnTo>
                  <a:pt x="52" y="109"/>
                </a:lnTo>
                <a:lnTo>
                  <a:pt x="102" y="108"/>
                </a:lnTo>
                <a:lnTo>
                  <a:pt x="156" y="104"/>
                </a:lnTo>
                <a:lnTo>
                  <a:pt x="181" y="102"/>
                </a:lnTo>
                <a:lnTo>
                  <a:pt x="208" y="98"/>
                </a:lnTo>
                <a:lnTo>
                  <a:pt x="234" y="96"/>
                </a:lnTo>
                <a:lnTo>
                  <a:pt x="261" y="92"/>
                </a:lnTo>
                <a:lnTo>
                  <a:pt x="290" y="86"/>
                </a:lnTo>
                <a:lnTo>
                  <a:pt x="317" y="83"/>
                </a:lnTo>
                <a:lnTo>
                  <a:pt x="346" y="77"/>
                </a:lnTo>
                <a:lnTo>
                  <a:pt x="375" y="69"/>
                </a:lnTo>
                <a:lnTo>
                  <a:pt x="403" y="63"/>
                </a:lnTo>
                <a:lnTo>
                  <a:pt x="434" y="56"/>
                </a:lnTo>
                <a:lnTo>
                  <a:pt x="461" y="48"/>
                </a:lnTo>
                <a:lnTo>
                  <a:pt x="488" y="40"/>
                </a:lnTo>
                <a:lnTo>
                  <a:pt x="515" y="35"/>
                </a:lnTo>
                <a:lnTo>
                  <a:pt x="538" y="29"/>
                </a:lnTo>
                <a:lnTo>
                  <a:pt x="563" y="25"/>
                </a:lnTo>
                <a:lnTo>
                  <a:pt x="586" y="19"/>
                </a:lnTo>
                <a:lnTo>
                  <a:pt x="609" y="15"/>
                </a:lnTo>
                <a:lnTo>
                  <a:pt x="630" y="12"/>
                </a:lnTo>
                <a:lnTo>
                  <a:pt x="651" y="10"/>
                </a:lnTo>
                <a:lnTo>
                  <a:pt x="672" y="8"/>
                </a:lnTo>
                <a:lnTo>
                  <a:pt x="691" y="4"/>
                </a:lnTo>
                <a:lnTo>
                  <a:pt x="710" y="4"/>
                </a:lnTo>
                <a:lnTo>
                  <a:pt x="730" y="2"/>
                </a:lnTo>
                <a:lnTo>
                  <a:pt x="747" y="2"/>
                </a:lnTo>
                <a:lnTo>
                  <a:pt x="764" y="0"/>
                </a:lnTo>
                <a:lnTo>
                  <a:pt x="782" y="0"/>
                </a:lnTo>
                <a:lnTo>
                  <a:pt x="795" y="0"/>
                </a:lnTo>
                <a:lnTo>
                  <a:pt x="808" y="2"/>
                </a:lnTo>
                <a:lnTo>
                  <a:pt x="820" y="4"/>
                </a:lnTo>
                <a:lnTo>
                  <a:pt x="831" y="6"/>
                </a:lnTo>
                <a:lnTo>
                  <a:pt x="843" y="8"/>
                </a:lnTo>
                <a:lnTo>
                  <a:pt x="854" y="12"/>
                </a:lnTo>
                <a:lnTo>
                  <a:pt x="864" y="15"/>
                </a:lnTo>
                <a:lnTo>
                  <a:pt x="874" y="19"/>
                </a:lnTo>
                <a:lnTo>
                  <a:pt x="883" y="25"/>
                </a:lnTo>
                <a:lnTo>
                  <a:pt x="891" y="29"/>
                </a:lnTo>
                <a:lnTo>
                  <a:pt x="899" y="35"/>
                </a:lnTo>
                <a:lnTo>
                  <a:pt x="906" y="40"/>
                </a:lnTo>
                <a:lnTo>
                  <a:pt x="914" y="48"/>
                </a:lnTo>
                <a:lnTo>
                  <a:pt x="920" y="54"/>
                </a:lnTo>
                <a:lnTo>
                  <a:pt x="925" y="62"/>
                </a:lnTo>
                <a:lnTo>
                  <a:pt x="929" y="69"/>
                </a:lnTo>
                <a:lnTo>
                  <a:pt x="933" y="85"/>
                </a:lnTo>
                <a:lnTo>
                  <a:pt x="937" y="98"/>
                </a:lnTo>
                <a:lnTo>
                  <a:pt x="939" y="109"/>
                </a:lnTo>
                <a:lnTo>
                  <a:pt x="939" y="121"/>
                </a:lnTo>
                <a:lnTo>
                  <a:pt x="939" y="131"/>
                </a:lnTo>
                <a:lnTo>
                  <a:pt x="937" y="138"/>
                </a:lnTo>
                <a:lnTo>
                  <a:pt x="933" y="146"/>
                </a:lnTo>
                <a:lnTo>
                  <a:pt x="929" y="152"/>
                </a:lnTo>
                <a:lnTo>
                  <a:pt x="927" y="152"/>
                </a:lnTo>
                <a:lnTo>
                  <a:pt x="925" y="154"/>
                </a:lnTo>
                <a:lnTo>
                  <a:pt x="924" y="156"/>
                </a:lnTo>
                <a:lnTo>
                  <a:pt x="920" y="156"/>
                </a:lnTo>
                <a:lnTo>
                  <a:pt x="916" y="157"/>
                </a:lnTo>
                <a:lnTo>
                  <a:pt x="910" y="159"/>
                </a:lnTo>
                <a:lnTo>
                  <a:pt x="904" y="161"/>
                </a:lnTo>
                <a:lnTo>
                  <a:pt x="899" y="161"/>
                </a:lnTo>
                <a:lnTo>
                  <a:pt x="891" y="163"/>
                </a:lnTo>
                <a:lnTo>
                  <a:pt x="883" y="165"/>
                </a:lnTo>
                <a:lnTo>
                  <a:pt x="874" y="165"/>
                </a:lnTo>
                <a:lnTo>
                  <a:pt x="864" y="167"/>
                </a:lnTo>
                <a:lnTo>
                  <a:pt x="854" y="169"/>
                </a:lnTo>
                <a:lnTo>
                  <a:pt x="843" y="171"/>
                </a:lnTo>
                <a:lnTo>
                  <a:pt x="831" y="171"/>
                </a:lnTo>
                <a:lnTo>
                  <a:pt x="820" y="173"/>
                </a:lnTo>
                <a:lnTo>
                  <a:pt x="806" y="175"/>
                </a:lnTo>
                <a:lnTo>
                  <a:pt x="793" y="177"/>
                </a:lnTo>
                <a:lnTo>
                  <a:pt x="780" y="179"/>
                </a:lnTo>
                <a:lnTo>
                  <a:pt x="764" y="181"/>
                </a:lnTo>
                <a:lnTo>
                  <a:pt x="749" y="182"/>
                </a:lnTo>
                <a:lnTo>
                  <a:pt x="732" y="184"/>
                </a:lnTo>
                <a:lnTo>
                  <a:pt x="716" y="186"/>
                </a:lnTo>
                <a:lnTo>
                  <a:pt x="697" y="188"/>
                </a:lnTo>
                <a:lnTo>
                  <a:pt x="680" y="190"/>
                </a:lnTo>
                <a:lnTo>
                  <a:pt x="661" y="192"/>
                </a:lnTo>
                <a:lnTo>
                  <a:pt x="641" y="194"/>
                </a:lnTo>
                <a:lnTo>
                  <a:pt x="620" y="196"/>
                </a:lnTo>
                <a:lnTo>
                  <a:pt x="599" y="198"/>
                </a:lnTo>
                <a:lnTo>
                  <a:pt x="578" y="202"/>
                </a:lnTo>
                <a:lnTo>
                  <a:pt x="555" y="204"/>
                </a:lnTo>
                <a:lnTo>
                  <a:pt x="534" y="205"/>
                </a:lnTo>
                <a:lnTo>
                  <a:pt x="488" y="211"/>
                </a:lnTo>
                <a:lnTo>
                  <a:pt x="444" y="215"/>
                </a:lnTo>
                <a:lnTo>
                  <a:pt x="401" y="221"/>
                </a:lnTo>
                <a:lnTo>
                  <a:pt x="361" y="225"/>
                </a:lnTo>
                <a:lnTo>
                  <a:pt x="323" y="228"/>
                </a:lnTo>
                <a:lnTo>
                  <a:pt x="284" y="232"/>
                </a:lnTo>
                <a:lnTo>
                  <a:pt x="250" y="234"/>
                </a:lnTo>
                <a:lnTo>
                  <a:pt x="215" y="238"/>
                </a:lnTo>
                <a:lnTo>
                  <a:pt x="183" y="240"/>
                </a:lnTo>
                <a:lnTo>
                  <a:pt x="152" y="242"/>
                </a:lnTo>
                <a:lnTo>
                  <a:pt x="123" y="244"/>
                </a:lnTo>
                <a:lnTo>
                  <a:pt x="96" y="244"/>
                </a:lnTo>
                <a:lnTo>
                  <a:pt x="69" y="246"/>
                </a:lnTo>
                <a:lnTo>
                  <a:pt x="44" y="246"/>
                </a:lnTo>
                <a:lnTo>
                  <a:pt x="21" y="248"/>
                </a:lnTo>
                <a:lnTo>
                  <a:pt x="0" y="248"/>
                </a:lnTo>
                <a:lnTo>
                  <a:pt x="0" y="1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67"/>
          <p:cNvSpPr/>
          <p:nvPr/>
        </p:nvSpPr>
        <p:spPr>
          <a:xfrm>
            <a:off x="6502320" y="4103640"/>
            <a:ext cx="266760" cy="776160"/>
          </a:xfrm>
          <a:custGeom>
            <a:avLst/>
            <a:gdLst/>
            <a:ahLst/>
            <a:rect l="l" t="t" r="r" b="b"/>
            <a:pathLst>
              <a:path w="336" h="979">
                <a:moveTo>
                  <a:pt x="39" y="142"/>
                </a:moveTo>
                <a:lnTo>
                  <a:pt x="31" y="131"/>
                </a:lnTo>
                <a:lnTo>
                  <a:pt x="25" y="117"/>
                </a:lnTo>
                <a:lnTo>
                  <a:pt x="19" y="106"/>
                </a:lnTo>
                <a:lnTo>
                  <a:pt x="16" y="94"/>
                </a:lnTo>
                <a:lnTo>
                  <a:pt x="12" y="83"/>
                </a:lnTo>
                <a:lnTo>
                  <a:pt x="8" y="73"/>
                </a:lnTo>
                <a:lnTo>
                  <a:pt x="4" y="64"/>
                </a:lnTo>
                <a:lnTo>
                  <a:pt x="2" y="54"/>
                </a:lnTo>
                <a:lnTo>
                  <a:pt x="0" y="44"/>
                </a:lnTo>
                <a:lnTo>
                  <a:pt x="0" y="37"/>
                </a:lnTo>
                <a:lnTo>
                  <a:pt x="0" y="31"/>
                </a:lnTo>
                <a:lnTo>
                  <a:pt x="2" y="23"/>
                </a:lnTo>
                <a:lnTo>
                  <a:pt x="2" y="18"/>
                </a:lnTo>
                <a:lnTo>
                  <a:pt x="6" y="14"/>
                </a:lnTo>
                <a:lnTo>
                  <a:pt x="8" y="10"/>
                </a:lnTo>
                <a:lnTo>
                  <a:pt x="14" y="6"/>
                </a:lnTo>
                <a:lnTo>
                  <a:pt x="17" y="4"/>
                </a:lnTo>
                <a:lnTo>
                  <a:pt x="25" y="2"/>
                </a:lnTo>
                <a:lnTo>
                  <a:pt x="33" y="0"/>
                </a:lnTo>
                <a:lnTo>
                  <a:pt x="41" y="0"/>
                </a:lnTo>
                <a:lnTo>
                  <a:pt x="50" y="0"/>
                </a:lnTo>
                <a:lnTo>
                  <a:pt x="62" y="2"/>
                </a:lnTo>
                <a:lnTo>
                  <a:pt x="73" y="2"/>
                </a:lnTo>
                <a:lnTo>
                  <a:pt x="87" y="4"/>
                </a:lnTo>
                <a:lnTo>
                  <a:pt x="102" y="6"/>
                </a:lnTo>
                <a:lnTo>
                  <a:pt x="117" y="8"/>
                </a:lnTo>
                <a:lnTo>
                  <a:pt x="135" y="12"/>
                </a:lnTo>
                <a:lnTo>
                  <a:pt x="152" y="16"/>
                </a:lnTo>
                <a:lnTo>
                  <a:pt x="171" y="19"/>
                </a:lnTo>
                <a:lnTo>
                  <a:pt x="192" y="23"/>
                </a:lnTo>
                <a:lnTo>
                  <a:pt x="213" y="29"/>
                </a:lnTo>
                <a:lnTo>
                  <a:pt x="236" y="33"/>
                </a:lnTo>
                <a:lnTo>
                  <a:pt x="238" y="46"/>
                </a:lnTo>
                <a:lnTo>
                  <a:pt x="242" y="62"/>
                </a:lnTo>
                <a:lnTo>
                  <a:pt x="244" y="79"/>
                </a:lnTo>
                <a:lnTo>
                  <a:pt x="248" y="98"/>
                </a:lnTo>
                <a:lnTo>
                  <a:pt x="252" y="117"/>
                </a:lnTo>
                <a:lnTo>
                  <a:pt x="256" y="138"/>
                </a:lnTo>
                <a:lnTo>
                  <a:pt x="259" y="162"/>
                </a:lnTo>
                <a:lnTo>
                  <a:pt x="263" y="186"/>
                </a:lnTo>
                <a:lnTo>
                  <a:pt x="267" y="211"/>
                </a:lnTo>
                <a:lnTo>
                  <a:pt x="271" y="238"/>
                </a:lnTo>
                <a:lnTo>
                  <a:pt x="275" y="267"/>
                </a:lnTo>
                <a:lnTo>
                  <a:pt x="280" y="298"/>
                </a:lnTo>
                <a:lnTo>
                  <a:pt x="284" y="328"/>
                </a:lnTo>
                <a:lnTo>
                  <a:pt x="288" y="361"/>
                </a:lnTo>
                <a:lnTo>
                  <a:pt x="294" y="396"/>
                </a:lnTo>
                <a:lnTo>
                  <a:pt x="298" y="430"/>
                </a:lnTo>
                <a:lnTo>
                  <a:pt x="300" y="469"/>
                </a:lnTo>
                <a:lnTo>
                  <a:pt x="302" y="505"/>
                </a:lnTo>
                <a:lnTo>
                  <a:pt x="305" y="540"/>
                </a:lnTo>
                <a:lnTo>
                  <a:pt x="307" y="572"/>
                </a:lnTo>
                <a:lnTo>
                  <a:pt x="309" y="603"/>
                </a:lnTo>
                <a:lnTo>
                  <a:pt x="311" y="634"/>
                </a:lnTo>
                <a:lnTo>
                  <a:pt x="315" y="661"/>
                </a:lnTo>
                <a:lnTo>
                  <a:pt x="317" y="687"/>
                </a:lnTo>
                <a:lnTo>
                  <a:pt x="319" y="712"/>
                </a:lnTo>
                <a:lnTo>
                  <a:pt x="321" y="735"/>
                </a:lnTo>
                <a:lnTo>
                  <a:pt x="325" y="757"/>
                </a:lnTo>
                <a:lnTo>
                  <a:pt x="327" y="778"/>
                </a:lnTo>
                <a:lnTo>
                  <a:pt x="328" y="795"/>
                </a:lnTo>
                <a:lnTo>
                  <a:pt x="330" y="812"/>
                </a:lnTo>
                <a:lnTo>
                  <a:pt x="332" y="828"/>
                </a:lnTo>
                <a:lnTo>
                  <a:pt x="336" y="841"/>
                </a:lnTo>
                <a:lnTo>
                  <a:pt x="334" y="854"/>
                </a:lnTo>
                <a:lnTo>
                  <a:pt x="334" y="866"/>
                </a:lnTo>
                <a:lnTo>
                  <a:pt x="334" y="877"/>
                </a:lnTo>
                <a:lnTo>
                  <a:pt x="332" y="887"/>
                </a:lnTo>
                <a:lnTo>
                  <a:pt x="332" y="897"/>
                </a:lnTo>
                <a:lnTo>
                  <a:pt x="330" y="906"/>
                </a:lnTo>
                <a:lnTo>
                  <a:pt x="328" y="916"/>
                </a:lnTo>
                <a:lnTo>
                  <a:pt x="327" y="924"/>
                </a:lnTo>
                <a:lnTo>
                  <a:pt x="327" y="931"/>
                </a:lnTo>
                <a:lnTo>
                  <a:pt x="323" y="937"/>
                </a:lnTo>
                <a:lnTo>
                  <a:pt x="321" y="943"/>
                </a:lnTo>
                <a:lnTo>
                  <a:pt x="319" y="948"/>
                </a:lnTo>
                <a:lnTo>
                  <a:pt x="317" y="954"/>
                </a:lnTo>
                <a:lnTo>
                  <a:pt x="315" y="958"/>
                </a:lnTo>
                <a:lnTo>
                  <a:pt x="313" y="962"/>
                </a:lnTo>
                <a:lnTo>
                  <a:pt x="311" y="964"/>
                </a:lnTo>
                <a:lnTo>
                  <a:pt x="302" y="970"/>
                </a:lnTo>
                <a:lnTo>
                  <a:pt x="294" y="972"/>
                </a:lnTo>
                <a:lnTo>
                  <a:pt x="286" y="975"/>
                </a:lnTo>
                <a:lnTo>
                  <a:pt x="280" y="977"/>
                </a:lnTo>
                <a:lnTo>
                  <a:pt x="275" y="977"/>
                </a:lnTo>
                <a:lnTo>
                  <a:pt x="271" y="977"/>
                </a:lnTo>
                <a:lnTo>
                  <a:pt x="261" y="979"/>
                </a:lnTo>
                <a:lnTo>
                  <a:pt x="259" y="977"/>
                </a:lnTo>
                <a:lnTo>
                  <a:pt x="257" y="977"/>
                </a:lnTo>
                <a:lnTo>
                  <a:pt x="257" y="975"/>
                </a:lnTo>
                <a:lnTo>
                  <a:pt x="256" y="973"/>
                </a:lnTo>
                <a:lnTo>
                  <a:pt x="254" y="970"/>
                </a:lnTo>
                <a:lnTo>
                  <a:pt x="252" y="966"/>
                </a:lnTo>
                <a:lnTo>
                  <a:pt x="250" y="960"/>
                </a:lnTo>
                <a:lnTo>
                  <a:pt x="248" y="954"/>
                </a:lnTo>
                <a:lnTo>
                  <a:pt x="244" y="948"/>
                </a:lnTo>
                <a:lnTo>
                  <a:pt x="242" y="943"/>
                </a:lnTo>
                <a:lnTo>
                  <a:pt x="240" y="935"/>
                </a:lnTo>
                <a:lnTo>
                  <a:pt x="238" y="925"/>
                </a:lnTo>
                <a:lnTo>
                  <a:pt x="234" y="918"/>
                </a:lnTo>
                <a:lnTo>
                  <a:pt x="232" y="908"/>
                </a:lnTo>
                <a:lnTo>
                  <a:pt x="229" y="897"/>
                </a:lnTo>
                <a:lnTo>
                  <a:pt x="227" y="885"/>
                </a:lnTo>
                <a:lnTo>
                  <a:pt x="223" y="874"/>
                </a:lnTo>
                <a:lnTo>
                  <a:pt x="221" y="862"/>
                </a:lnTo>
                <a:lnTo>
                  <a:pt x="217" y="849"/>
                </a:lnTo>
                <a:lnTo>
                  <a:pt x="213" y="833"/>
                </a:lnTo>
                <a:lnTo>
                  <a:pt x="211" y="820"/>
                </a:lnTo>
                <a:lnTo>
                  <a:pt x="208" y="803"/>
                </a:lnTo>
                <a:lnTo>
                  <a:pt x="204" y="787"/>
                </a:lnTo>
                <a:lnTo>
                  <a:pt x="202" y="770"/>
                </a:lnTo>
                <a:lnTo>
                  <a:pt x="198" y="753"/>
                </a:lnTo>
                <a:lnTo>
                  <a:pt x="194" y="734"/>
                </a:lnTo>
                <a:lnTo>
                  <a:pt x="190" y="714"/>
                </a:lnTo>
                <a:lnTo>
                  <a:pt x="188" y="695"/>
                </a:lnTo>
                <a:lnTo>
                  <a:pt x="184" y="674"/>
                </a:lnTo>
                <a:lnTo>
                  <a:pt x="181" y="653"/>
                </a:lnTo>
                <a:lnTo>
                  <a:pt x="177" y="632"/>
                </a:lnTo>
                <a:lnTo>
                  <a:pt x="175" y="609"/>
                </a:lnTo>
                <a:lnTo>
                  <a:pt x="169" y="586"/>
                </a:lnTo>
                <a:lnTo>
                  <a:pt x="165" y="563"/>
                </a:lnTo>
                <a:lnTo>
                  <a:pt x="160" y="542"/>
                </a:lnTo>
                <a:lnTo>
                  <a:pt x="156" y="520"/>
                </a:lnTo>
                <a:lnTo>
                  <a:pt x="152" y="499"/>
                </a:lnTo>
                <a:lnTo>
                  <a:pt x="146" y="480"/>
                </a:lnTo>
                <a:lnTo>
                  <a:pt x="142" y="461"/>
                </a:lnTo>
                <a:lnTo>
                  <a:pt x="136" y="442"/>
                </a:lnTo>
                <a:lnTo>
                  <a:pt x="133" y="423"/>
                </a:lnTo>
                <a:lnTo>
                  <a:pt x="129" y="405"/>
                </a:lnTo>
                <a:lnTo>
                  <a:pt x="123" y="388"/>
                </a:lnTo>
                <a:lnTo>
                  <a:pt x="119" y="371"/>
                </a:lnTo>
                <a:lnTo>
                  <a:pt x="115" y="355"/>
                </a:lnTo>
                <a:lnTo>
                  <a:pt x="110" y="338"/>
                </a:lnTo>
                <a:lnTo>
                  <a:pt x="106" y="323"/>
                </a:lnTo>
                <a:lnTo>
                  <a:pt x="102" y="309"/>
                </a:lnTo>
                <a:lnTo>
                  <a:pt x="96" y="294"/>
                </a:lnTo>
                <a:lnTo>
                  <a:pt x="92" y="281"/>
                </a:lnTo>
                <a:lnTo>
                  <a:pt x="89" y="269"/>
                </a:lnTo>
                <a:lnTo>
                  <a:pt x="85" y="256"/>
                </a:lnTo>
                <a:lnTo>
                  <a:pt x="79" y="244"/>
                </a:lnTo>
                <a:lnTo>
                  <a:pt x="75" y="233"/>
                </a:lnTo>
                <a:lnTo>
                  <a:pt x="71" y="221"/>
                </a:lnTo>
                <a:lnTo>
                  <a:pt x="67" y="209"/>
                </a:lnTo>
                <a:lnTo>
                  <a:pt x="64" y="200"/>
                </a:lnTo>
                <a:lnTo>
                  <a:pt x="60" y="190"/>
                </a:lnTo>
                <a:lnTo>
                  <a:pt x="56" y="181"/>
                </a:lnTo>
                <a:lnTo>
                  <a:pt x="52" y="173"/>
                </a:lnTo>
                <a:lnTo>
                  <a:pt x="48" y="165"/>
                </a:lnTo>
                <a:lnTo>
                  <a:pt x="44" y="158"/>
                </a:lnTo>
                <a:lnTo>
                  <a:pt x="39" y="1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68"/>
          <p:cNvSpPr/>
          <p:nvPr/>
        </p:nvSpPr>
        <p:spPr>
          <a:xfrm>
            <a:off x="6877080" y="2703600"/>
            <a:ext cx="293760" cy="1438200"/>
          </a:xfrm>
          <a:custGeom>
            <a:avLst/>
            <a:gdLst/>
            <a:ahLst/>
            <a:rect l="l" t="t" r="r" b="b"/>
            <a:pathLst>
              <a:path w="371" h="1812">
                <a:moveTo>
                  <a:pt x="235" y="922"/>
                </a:moveTo>
                <a:lnTo>
                  <a:pt x="229" y="979"/>
                </a:lnTo>
                <a:lnTo>
                  <a:pt x="221" y="1039"/>
                </a:lnTo>
                <a:lnTo>
                  <a:pt x="215" y="1096"/>
                </a:lnTo>
                <a:lnTo>
                  <a:pt x="210" y="1152"/>
                </a:lnTo>
                <a:lnTo>
                  <a:pt x="204" y="1210"/>
                </a:lnTo>
                <a:lnTo>
                  <a:pt x="198" y="1265"/>
                </a:lnTo>
                <a:lnTo>
                  <a:pt x="190" y="1319"/>
                </a:lnTo>
                <a:lnTo>
                  <a:pt x="185" y="1375"/>
                </a:lnTo>
                <a:lnTo>
                  <a:pt x="173" y="1482"/>
                </a:lnTo>
                <a:lnTo>
                  <a:pt x="162" y="1590"/>
                </a:lnTo>
                <a:lnTo>
                  <a:pt x="148" y="1693"/>
                </a:lnTo>
                <a:lnTo>
                  <a:pt x="137" y="1797"/>
                </a:lnTo>
                <a:lnTo>
                  <a:pt x="68" y="1805"/>
                </a:lnTo>
                <a:lnTo>
                  <a:pt x="0" y="1812"/>
                </a:lnTo>
                <a:lnTo>
                  <a:pt x="18" y="1605"/>
                </a:lnTo>
                <a:lnTo>
                  <a:pt x="27" y="1503"/>
                </a:lnTo>
                <a:lnTo>
                  <a:pt x="37" y="1400"/>
                </a:lnTo>
                <a:lnTo>
                  <a:pt x="46" y="1294"/>
                </a:lnTo>
                <a:lnTo>
                  <a:pt x="56" y="1188"/>
                </a:lnTo>
                <a:lnTo>
                  <a:pt x="66" y="1083"/>
                </a:lnTo>
                <a:lnTo>
                  <a:pt x="73" y="975"/>
                </a:lnTo>
                <a:lnTo>
                  <a:pt x="75" y="925"/>
                </a:lnTo>
                <a:lnTo>
                  <a:pt x="79" y="876"/>
                </a:lnTo>
                <a:lnTo>
                  <a:pt x="81" y="829"/>
                </a:lnTo>
                <a:lnTo>
                  <a:pt x="83" y="783"/>
                </a:lnTo>
                <a:lnTo>
                  <a:pt x="85" y="739"/>
                </a:lnTo>
                <a:lnTo>
                  <a:pt x="89" y="697"/>
                </a:lnTo>
                <a:lnTo>
                  <a:pt x="91" y="657"/>
                </a:lnTo>
                <a:lnTo>
                  <a:pt x="93" y="618"/>
                </a:lnTo>
                <a:lnTo>
                  <a:pt x="94" y="582"/>
                </a:lnTo>
                <a:lnTo>
                  <a:pt x="98" y="545"/>
                </a:lnTo>
                <a:lnTo>
                  <a:pt x="100" y="513"/>
                </a:lnTo>
                <a:lnTo>
                  <a:pt x="102" y="480"/>
                </a:lnTo>
                <a:lnTo>
                  <a:pt x="104" y="451"/>
                </a:lnTo>
                <a:lnTo>
                  <a:pt x="106" y="423"/>
                </a:lnTo>
                <a:lnTo>
                  <a:pt x="110" y="398"/>
                </a:lnTo>
                <a:lnTo>
                  <a:pt x="110" y="384"/>
                </a:lnTo>
                <a:lnTo>
                  <a:pt x="112" y="373"/>
                </a:lnTo>
                <a:lnTo>
                  <a:pt x="112" y="352"/>
                </a:lnTo>
                <a:lnTo>
                  <a:pt x="110" y="329"/>
                </a:lnTo>
                <a:lnTo>
                  <a:pt x="110" y="307"/>
                </a:lnTo>
                <a:lnTo>
                  <a:pt x="110" y="288"/>
                </a:lnTo>
                <a:lnTo>
                  <a:pt x="108" y="269"/>
                </a:lnTo>
                <a:lnTo>
                  <a:pt x="106" y="250"/>
                </a:lnTo>
                <a:lnTo>
                  <a:pt x="104" y="233"/>
                </a:lnTo>
                <a:lnTo>
                  <a:pt x="102" y="215"/>
                </a:lnTo>
                <a:lnTo>
                  <a:pt x="98" y="200"/>
                </a:lnTo>
                <a:lnTo>
                  <a:pt x="96" y="185"/>
                </a:lnTo>
                <a:lnTo>
                  <a:pt x="93" y="169"/>
                </a:lnTo>
                <a:lnTo>
                  <a:pt x="91" y="154"/>
                </a:lnTo>
                <a:lnTo>
                  <a:pt x="83" y="127"/>
                </a:lnTo>
                <a:lnTo>
                  <a:pt x="73" y="100"/>
                </a:lnTo>
                <a:lnTo>
                  <a:pt x="68" y="90"/>
                </a:lnTo>
                <a:lnTo>
                  <a:pt x="62" y="81"/>
                </a:lnTo>
                <a:lnTo>
                  <a:pt x="58" y="71"/>
                </a:lnTo>
                <a:lnTo>
                  <a:pt x="54" y="64"/>
                </a:lnTo>
                <a:lnTo>
                  <a:pt x="50" y="56"/>
                </a:lnTo>
                <a:lnTo>
                  <a:pt x="48" y="48"/>
                </a:lnTo>
                <a:lnTo>
                  <a:pt x="46" y="43"/>
                </a:lnTo>
                <a:lnTo>
                  <a:pt x="46" y="37"/>
                </a:lnTo>
                <a:lnTo>
                  <a:pt x="46" y="31"/>
                </a:lnTo>
                <a:lnTo>
                  <a:pt x="48" y="25"/>
                </a:lnTo>
                <a:lnTo>
                  <a:pt x="50" y="21"/>
                </a:lnTo>
                <a:lnTo>
                  <a:pt x="52" y="18"/>
                </a:lnTo>
                <a:lnTo>
                  <a:pt x="56" y="14"/>
                </a:lnTo>
                <a:lnTo>
                  <a:pt x="62" y="10"/>
                </a:lnTo>
                <a:lnTo>
                  <a:pt x="68" y="6"/>
                </a:lnTo>
                <a:lnTo>
                  <a:pt x="73" y="4"/>
                </a:lnTo>
                <a:lnTo>
                  <a:pt x="81" y="2"/>
                </a:lnTo>
                <a:lnTo>
                  <a:pt x="89" y="0"/>
                </a:lnTo>
                <a:lnTo>
                  <a:pt x="96" y="0"/>
                </a:lnTo>
                <a:lnTo>
                  <a:pt x="104" y="0"/>
                </a:lnTo>
                <a:lnTo>
                  <a:pt x="114" y="2"/>
                </a:lnTo>
                <a:lnTo>
                  <a:pt x="123" y="4"/>
                </a:lnTo>
                <a:lnTo>
                  <a:pt x="133" y="8"/>
                </a:lnTo>
                <a:lnTo>
                  <a:pt x="142" y="12"/>
                </a:lnTo>
                <a:lnTo>
                  <a:pt x="154" y="18"/>
                </a:lnTo>
                <a:lnTo>
                  <a:pt x="165" y="23"/>
                </a:lnTo>
                <a:lnTo>
                  <a:pt x="177" y="29"/>
                </a:lnTo>
                <a:lnTo>
                  <a:pt x="188" y="37"/>
                </a:lnTo>
                <a:lnTo>
                  <a:pt x="202" y="44"/>
                </a:lnTo>
                <a:lnTo>
                  <a:pt x="217" y="52"/>
                </a:lnTo>
                <a:lnTo>
                  <a:pt x="233" y="62"/>
                </a:lnTo>
                <a:lnTo>
                  <a:pt x="248" y="73"/>
                </a:lnTo>
                <a:lnTo>
                  <a:pt x="261" y="83"/>
                </a:lnTo>
                <a:lnTo>
                  <a:pt x="273" y="92"/>
                </a:lnTo>
                <a:lnTo>
                  <a:pt x="284" y="102"/>
                </a:lnTo>
                <a:lnTo>
                  <a:pt x="296" y="112"/>
                </a:lnTo>
                <a:lnTo>
                  <a:pt x="308" y="119"/>
                </a:lnTo>
                <a:lnTo>
                  <a:pt x="315" y="129"/>
                </a:lnTo>
                <a:lnTo>
                  <a:pt x="325" y="137"/>
                </a:lnTo>
                <a:lnTo>
                  <a:pt x="332" y="146"/>
                </a:lnTo>
                <a:lnTo>
                  <a:pt x="340" y="154"/>
                </a:lnTo>
                <a:lnTo>
                  <a:pt x="346" y="162"/>
                </a:lnTo>
                <a:lnTo>
                  <a:pt x="352" y="171"/>
                </a:lnTo>
                <a:lnTo>
                  <a:pt x="357" y="179"/>
                </a:lnTo>
                <a:lnTo>
                  <a:pt x="361" y="186"/>
                </a:lnTo>
                <a:lnTo>
                  <a:pt x="365" y="194"/>
                </a:lnTo>
                <a:lnTo>
                  <a:pt x="369" y="202"/>
                </a:lnTo>
                <a:lnTo>
                  <a:pt x="371" y="209"/>
                </a:lnTo>
                <a:lnTo>
                  <a:pt x="371" y="225"/>
                </a:lnTo>
                <a:lnTo>
                  <a:pt x="369" y="240"/>
                </a:lnTo>
                <a:lnTo>
                  <a:pt x="367" y="257"/>
                </a:lnTo>
                <a:lnTo>
                  <a:pt x="361" y="275"/>
                </a:lnTo>
                <a:lnTo>
                  <a:pt x="357" y="292"/>
                </a:lnTo>
                <a:lnTo>
                  <a:pt x="354" y="304"/>
                </a:lnTo>
                <a:lnTo>
                  <a:pt x="350" y="313"/>
                </a:lnTo>
                <a:lnTo>
                  <a:pt x="348" y="325"/>
                </a:lnTo>
                <a:lnTo>
                  <a:pt x="344" y="336"/>
                </a:lnTo>
                <a:lnTo>
                  <a:pt x="338" y="348"/>
                </a:lnTo>
                <a:lnTo>
                  <a:pt x="334" y="359"/>
                </a:lnTo>
                <a:lnTo>
                  <a:pt x="332" y="367"/>
                </a:lnTo>
                <a:lnTo>
                  <a:pt x="331" y="375"/>
                </a:lnTo>
                <a:lnTo>
                  <a:pt x="327" y="382"/>
                </a:lnTo>
                <a:lnTo>
                  <a:pt x="325" y="390"/>
                </a:lnTo>
                <a:lnTo>
                  <a:pt x="323" y="400"/>
                </a:lnTo>
                <a:lnTo>
                  <a:pt x="319" y="409"/>
                </a:lnTo>
                <a:lnTo>
                  <a:pt x="317" y="421"/>
                </a:lnTo>
                <a:lnTo>
                  <a:pt x="313" y="432"/>
                </a:lnTo>
                <a:lnTo>
                  <a:pt x="311" y="444"/>
                </a:lnTo>
                <a:lnTo>
                  <a:pt x="308" y="457"/>
                </a:lnTo>
                <a:lnTo>
                  <a:pt x="306" y="471"/>
                </a:lnTo>
                <a:lnTo>
                  <a:pt x="302" y="484"/>
                </a:lnTo>
                <a:lnTo>
                  <a:pt x="298" y="499"/>
                </a:lnTo>
                <a:lnTo>
                  <a:pt x="296" y="515"/>
                </a:lnTo>
                <a:lnTo>
                  <a:pt x="292" y="530"/>
                </a:lnTo>
                <a:lnTo>
                  <a:pt x="288" y="547"/>
                </a:lnTo>
                <a:lnTo>
                  <a:pt x="286" y="567"/>
                </a:lnTo>
                <a:lnTo>
                  <a:pt x="283" y="584"/>
                </a:lnTo>
                <a:lnTo>
                  <a:pt x="279" y="603"/>
                </a:lnTo>
                <a:lnTo>
                  <a:pt x="277" y="622"/>
                </a:lnTo>
                <a:lnTo>
                  <a:pt x="273" y="643"/>
                </a:lnTo>
                <a:lnTo>
                  <a:pt x="269" y="664"/>
                </a:lnTo>
                <a:lnTo>
                  <a:pt x="265" y="687"/>
                </a:lnTo>
                <a:lnTo>
                  <a:pt x="263" y="710"/>
                </a:lnTo>
                <a:lnTo>
                  <a:pt x="260" y="734"/>
                </a:lnTo>
                <a:lnTo>
                  <a:pt x="256" y="758"/>
                </a:lnTo>
                <a:lnTo>
                  <a:pt x="252" y="783"/>
                </a:lnTo>
                <a:lnTo>
                  <a:pt x="248" y="810"/>
                </a:lnTo>
                <a:lnTo>
                  <a:pt x="246" y="835"/>
                </a:lnTo>
                <a:lnTo>
                  <a:pt x="242" y="864"/>
                </a:lnTo>
                <a:lnTo>
                  <a:pt x="238" y="893"/>
                </a:lnTo>
                <a:lnTo>
                  <a:pt x="235" y="9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69"/>
          <p:cNvSpPr/>
          <p:nvPr/>
        </p:nvSpPr>
        <p:spPr>
          <a:xfrm>
            <a:off x="6302520" y="3348000"/>
            <a:ext cx="1488960" cy="345960"/>
          </a:xfrm>
          <a:custGeom>
            <a:avLst/>
            <a:gdLst/>
            <a:ahLst/>
            <a:rect l="l" t="t" r="r" b="b"/>
            <a:pathLst>
              <a:path w="1875" h="438">
                <a:moveTo>
                  <a:pt x="860" y="163"/>
                </a:moveTo>
                <a:lnTo>
                  <a:pt x="894" y="156"/>
                </a:lnTo>
                <a:lnTo>
                  <a:pt x="927" y="148"/>
                </a:lnTo>
                <a:lnTo>
                  <a:pt x="961" y="142"/>
                </a:lnTo>
                <a:lnTo>
                  <a:pt x="994" y="135"/>
                </a:lnTo>
                <a:lnTo>
                  <a:pt x="1027" y="129"/>
                </a:lnTo>
                <a:lnTo>
                  <a:pt x="1057" y="121"/>
                </a:lnTo>
                <a:lnTo>
                  <a:pt x="1088" y="115"/>
                </a:lnTo>
                <a:lnTo>
                  <a:pt x="1119" y="110"/>
                </a:lnTo>
                <a:lnTo>
                  <a:pt x="1148" y="102"/>
                </a:lnTo>
                <a:lnTo>
                  <a:pt x="1176" y="96"/>
                </a:lnTo>
                <a:lnTo>
                  <a:pt x="1203" y="90"/>
                </a:lnTo>
                <a:lnTo>
                  <a:pt x="1230" y="83"/>
                </a:lnTo>
                <a:lnTo>
                  <a:pt x="1257" y="77"/>
                </a:lnTo>
                <a:lnTo>
                  <a:pt x="1282" y="69"/>
                </a:lnTo>
                <a:lnTo>
                  <a:pt x="1307" y="62"/>
                </a:lnTo>
                <a:lnTo>
                  <a:pt x="1330" y="54"/>
                </a:lnTo>
                <a:lnTo>
                  <a:pt x="1353" y="46"/>
                </a:lnTo>
                <a:lnTo>
                  <a:pt x="1374" y="41"/>
                </a:lnTo>
                <a:lnTo>
                  <a:pt x="1395" y="33"/>
                </a:lnTo>
                <a:lnTo>
                  <a:pt x="1416" y="27"/>
                </a:lnTo>
                <a:lnTo>
                  <a:pt x="1436" y="23"/>
                </a:lnTo>
                <a:lnTo>
                  <a:pt x="1455" y="19"/>
                </a:lnTo>
                <a:lnTo>
                  <a:pt x="1472" y="14"/>
                </a:lnTo>
                <a:lnTo>
                  <a:pt x="1489" y="12"/>
                </a:lnTo>
                <a:lnTo>
                  <a:pt x="1507" y="8"/>
                </a:lnTo>
                <a:lnTo>
                  <a:pt x="1522" y="6"/>
                </a:lnTo>
                <a:lnTo>
                  <a:pt x="1537" y="4"/>
                </a:lnTo>
                <a:lnTo>
                  <a:pt x="1553" y="2"/>
                </a:lnTo>
                <a:lnTo>
                  <a:pt x="1566" y="0"/>
                </a:lnTo>
                <a:lnTo>
                  <a:pt x="1579" y="0"/>
                </a:lnTo>
                <a:lnTo>
                  <a:pt x="1591" y="0"/>
                </a:lnTo>
                <a:lnTo>
                  <a:pt x="1602" y="0"/>
                </a:lnTo>
                <a:lnTo>
                  <a:pt x="1622" y="0"/>
                </a:lnTo>
                <a:lnTo>
                  <a:pt x="1643" y="2"/>
                </a:lnTo>
                <a:lnTo>
                  <a:pt x="1664" y="6"/>
                </a:lnTo>
                <a:lnTo>
                  <a:pt x="1674" y="8"/>
                </a:lnTo>
                <a:lnTo>
                  <a:pt x="1685" y="12"/>
                </a:lnTo>
                <a:lnTo>
                  <a:pt x="1697" y="16"/>
                </a:lnTo>
                <a:lnTo>
                  <a:pt x="1708" y="19"/>
                </a:lnTo>
                <a:lnTo>
                  <a:pt x="1720" y="23"/>
                </a:lnTo>
                <a:lnTo>
                  <a:pt x="1731" y="29"/>
                </a:lnTo>
                <a:lnTo>
                  <a:pt x="1743" y="35"/>
                </a:lnTo>
                <a:lnTo>
                  <a:pt x="1754" y="41"/>
                </a:lnTo>
                <a:lnTo>
                  <a:pt x="1766" y="46"/>
                </a:lnTo>
                <a:lnTo>
                  <a:pt x="1777" y="54"/>
                </a:lnTo>
                <a:lnTo>
                  <a:pt x="1789" y="62"/>
                </a:lnTo>
                <a:lnTo>
                  <a:pt x="1798" y="69"/>
                </a:lnTo>
                <a:lnTo>
                  <a:pt x="1808" y="77"/>
                </a:lnTo>
                <a:lnTo>
                  <a:pt x="1817" y="83"/>
                </a:lnTo>
                <a:lnTo>
                  <a:pt x="1827" y="89"/>
                </a:lnTo>
                <a:lnTo>
                  <a:pt x="1835" y="94"/>
                </a:lnTo>
                <a:lnTo>
                  <a:pt x="1842" y="100"/>
                </a:lnTo>
                <a:lnTo>
                  <a:pt x="1850" y="106"/>
                </a:lnTo>
                <a:lnTo>
                  <a:pt x="1856" y="112"/>
                </a:lnTo>
                <a:lnTo>
                  <a:pt x="1860" y="115"/>
                </a:lnTo>
                <a:lnTo>
                  <a:pt x="1865" y="119"/>
                </a:lnTo>
                <a:lnTo>
                  <a:pt x="1869" y="123"/>
                </a:lnTo>
                <a:lnTo>
                  <a:pt x="1871" y="127"/>
                </a:lnTo>
                <a:lnTo>
                  <a:pt x="1873" y="131"/>
                </a:lnTo>
                <a:lnTo>
                  <a:pt x="1875" y="135"/>
                </a:lnTo>
                <a:lnTo>
                  <a:pt x="1875" y="136"/>
                </a:lnTo>
                <a:lnTo>
                  <a:pt x="1875" y="146"/>
                </a:lnTo>
                <a:lnTo>
                  <a:pt x="1873" y="154"/>
                </a:lnTo>
                <a:lnTo>
                  <a:pt x="1869" y="161"/>
                </a:lnTo>
                <a:lnTo>
                  <a:pt x="1865" y="169"/>
                </a:lnTo>
                <a:lnTo>
                  <a:pt x="1858" y="175"/>
                </a:lnTo>
                <a:lnTo>
                  <a:pt x="1854" y="179"/>
                </a:lnTo>
                <a:lnTo>
                  <a:pt x="1850" y="181"/>
                </a:lnTo>
                <a:lnTo>
                  <a:pt x="1844" y="183"/>
                </a:lnTo>
                <a:lnTo>
                  <a:pt x="1839" y="186"/>
                </a:lnTo>
                <a:lnTo>
                  <a:pt x="1833" y="188"/>
                </a:lnTo>
                <a:lnTo>
                  <a:pt x="1827" y="192"/>
                </a:lnTo>
                <a:lnTo>
                  <a:pt x="1814" y="196"/>
                </a:lnTo>
                <a:lnTo>
                  <a:pt x="1800" y="202"/>
                </a:lnTo>
                <a:lnTo>
                  <a:pt x="1789" y="206"/>
                </a:lnTo>
                <a:lnTo>
                  <a:pt x="1777" y="209"/>
                </a:lnTo>
                <a:lnTo>
                  <a:pt x="1766" y="213"/>
                </a:lnTo>
                <a:lnTo>
                  <a:pt x="1752" y="217"/>
                </a:lnTo>
                <a:lnTo>
                  <a:pt x="1741" y="217"/>
                </a:lnTo>
                <a:lnTo>
                  <a:pt x="1727" y="219"/>
                </a:lnTo>
                <a:lnTo>
                  <a:pt x="1720" y="219"/>
                </a:lnTo>
                <a:lnTo>
                  <a:pt x="1710" y="219"/>
                </a:lnTo>
                <a:lnTo>
                  <a:pt x="1700" y="219"/>
                </a:lnTo>
                <a:lnTo>
                  <a:pt x="1689" y="219"/>
                </a:lnTo>
                <a:lnTo>
                  <a:pt x="1677" y="219"/>
                </a:lnTo>
                <a:lnTo>
                  <a:pt x="1664" y="219"/>
                </a:lnTo>
                <a:lnTo>
                  <a:pt x="1650" y="219"/>
                </a:lnTo>
                <a:lnTo>
                  <a:pt x="1633" y="221"/>
                </a:lnTo>
                <a:lnTo>
                  <a:pt x="1618" y="221"/>
                </a:lnTo>
                <a:lnTo>
                  <a:pt x="1599" y="223"/>
                </a:lnTo>
                <a:lnTo>
                  <a:pt x="1579" y="223"/>
                </a:lnTo>
                <a:lnTo>
                  <a:pt x="1560" y="225"/>
                </a:lnTo>
                <a:lnTo>
                  <a:pt x="1537" y="227"/>
                </a:lnTo>
                <a:lnTo>
                  <a:pt x="1516" y="229"/>
                </a:lnTo>
                <a:lnTo>
                  <a:pt x="1491" y="231"/>
                </a:lnTo>
                <a:lnTo>
                  <a:pt x="1466" y="232"/>
                </a:lnTo>
                <a:lnTo>
                  <a:pt x="1411" y="238"/>
                </a:lnTo>
                <a:lnTo>
                  <a:pt x="1353" y="246"/>
                </a:lnTo>
                <a:lnTo>
                  <a:pt x="1293" y="252"/>
                </a:lnTo>
                <a:lnTo>
                  <a:pt x="1234" y="259"/>
                </a:lnTo>
                <a:lnTo>
                  <a:pt x="1173" y="267"/>
                </a:lnTo>
                <a:lnTo>
                  <a:pt x="1111" y="275"/>
                </a:lnTo>
                <a:lnTo>
                  <a:pt x="1048" y="282"/>
                </a:lnTo>
                <a:lnTo>
                  <a:pt x="983" y="288"/>
                </a:lnTo>
                <a:lnTo>
                  <a:pt x="852" y="307"/>
                </a:lnTo>
                <a:lnTo>
                  <a:pt x="789" y="319"/>
                </a:lnTo>
                <a:lnTo>
                  <a:pt x="723" y="330"/>
                </a:lnTo>
                <a:lnTo>
                  <a:pt x="660" y="342"/>
                </a:lnTo>
                <a:lnTo>
                  <a:pt x="597" y="353"/>
                </a:lnTo>
                <a:lnTo>
                  <a:pt x="535" y="367"/>
                </a:lnTo>
                <a:lnTo>
                  <a:pt x="474" y="382"/>
                </a:lnTo>
                <a:lnTo>
                  <a:pt x="445" y="390"/>
                </a:lnTo>
                <a:lnTo>
                  <a:pt x="416" y="398"/>
                </a:lnTo>
                <a:lnTo>
                  <a:pt x="391" y="403"/>
                </a:lnTo>
                <a:lnTo>
                  <a:pt x="364" y="409"/>
                </a:lnTo>
                <a:lnTo>
                  <a:pt x="341" y="415"/>
                </a:lnTo>
                <a:lnTo>
                  <a:pt x="320" y="419"/>
                </a:lnTo>
                <a:lnTo>
                  <a:pt x="299" y="422"/>
                </a:lnTo>
                <a:lnTo>
                  <a:pt x="280" y="426"/>
                </a:lnTo>
                <a:lnTo>
                  <a:pt x="261" y="428"/>
                </a:lnTo>
                <a:lnTo>
                  <a:pt x="245" y="432"/>
                </a:lnTo>
                <a:lnTo>
                  <a:pt x="230" y="434"/>
                </a:lnTo>
                <a:lnTo>
                  <a:pt x="217" y="436"/>
                </a:lnTo>
                <a:lnTo>
                  <a:pt x="205" y="436"/>
                </a:lnTo>
                <a:lnTo>
                  <a:pt x="194" y="438"/>
                </a:lnTo>
                <a:lnTo>
                  <a:pt x="184" y="438"/>
                </a:lnTo>
                <a:lnTo>
                  <a:pt x="176" y="438"/>
                </a:lnTo>
                <a:lnTo>
                  <a:pt x="163" y="438"/>
                </a:lnTo>
                <a:lnTo>
                  <a:pt x="149" y="436"/>
                </a:lnTo>
                <a:lnTo>
                  <a:pt x="136" y="432"/>
                </a:lnTo>
                <a:lnTo>
                  <a:pt x="121" y="428"/>
                </a:lnTo>
                <a:lnTo>
                  <a:pt x="107" y="422"/>
                </a:lnTo>
                <a:lnTo>
                  <a:pt x="94" y="415"/>
                </a:lnTo>
                <a:lnTo>
                  <a:pt x="80" y="407"/>
                </a:lnTo>
                <a:lnTo>
                  <a:pt x="65" y="398"/>
                </a:lnTo>
                <a:lnTo>
                  <a:pt x="52" y="392"/>
                </a:lnTo>
                <a:lnTo>
                  <a:pt x="40" y="384"/>
                </a:lnTo>
                <a:lnTo>
                  <a:pt x="29" y="376"/>
                </a:lnTo>
                <a:lnTo>
                  <a:pt x="21" y="369"/>
                </a:lnTo>
                <a:lnTo>
                  <a:pt x="13" y="361"/>
                </a:lnTo>
                <a:lnTo>
                  <a:pt x="9" y="357"/>
                </a:lnTo>
                <a:lnTo>
                  <a:pt x="7" y="353"/>
                </a:lnTo>
                <a:lnTo>
                  <a:pt x="6" y="351"/>
                </a:lnTo>
                <a:lnTo>
                  <a:pt x="4" y="348"/>
                </a:lnTo>
                <a:lnTo>
                  <a:pt x="4" y="344"/>
                </a:lnTo>
                <a:lnTo>
                  <a:pt x="4" y="342"/>
                </a:lnTo>
                <a:lnTo>
                  <a:pt x="2" y="340"/>
                </a:lnTo>
                <a:lnTo>
                  <a:pt x="0" y="336"/>
                </a:lnTo>
                <a:lnTo>
                  <a:pt x="0" y="334"/>
                </a:lnTo>
                <a:lnTo>
                  <a:pt x="2" y="332"/>
                </a:lnTo>
                <a:lnTo>
                  <a:pt x="2" y="328"/>
                </a:lnTo>
                <a:lnTo>
                  <a:pt x="4" y="327"/>
                </a:lnTo>
                <a:lnTo>
                  <a:pt x="7" y="325"/>
                </a:lnTo>
                <a:lnTo>
                  <a:pt x="11" y="321"/>
                </a:lnTo>
                <a:lnTo>
                  <a:pt x="15" y="319"/>
                </a:lnTo>
                <a:lnTo>
                  <a:pt x="21" y="317"/>
                </a:lnTo>
                <a:lnTo>
                  <a:pt x="27" y="313"/>
                </a:lnTo>
                <a:lnTo>
                  <a:pt x="32" y="311"/>
                </a:lnTo>
                <a:lnTo>
                  <a:pt x="40" y="309"/>
                </a:lnTo>
                <a:lnTo>
                  <a:pt x="48" y="305"/>
                </a:lnTo>
                <a:lnTo>
                  <a:pt x="57" y="303"/>
                </a:lnTo>
                <a:lnTo>
                  <a:pt x="65" y="302"/>
                </a:lnTo>
                <a:lnTo>
                  <a:pt x="75" y="298"/>
                </a:lnTo>
                <a:lnTo>
                  <a:pt x="86" y="296"/>
                </a:lnTo>
                <a:lnTo>
                  <a:pt x="98" y="292"/>
                </a:lnTo>
                <a:lnTo>
                  <a:pt x="111" y="290"/>
                </a:lnTo>
                <a:lnTo>
                  <a:pt x="126" y="288"/>
                </a:lnTo>
                <a:lnTo>
                  <a:pt x="142" y="284"/>
                </a:lnTo>
                <a:lnTo>
                  <a:pt x="159" y="282"/>
                </a:lnTo>
                <a:lnTo>
                  <a:pt x="176" y="279"/>
                </a:lnTo>
                <a:lnTo>
                  <a:pt x="196" y="275"/>
                </a:lnTo>
                <a:lnTo>
                  <a:pt x="217" y="271"/>
                </a:lnTo>
                <a:lnTo>
                  <a:pt x="238" y="269"/>
                </a:lnTo>
                <a:lnTo>
                  <a:pt x="261" y="265"/>
                </a:lnTo>
                <a:lnTo>
                  <a:pt x="284" y="259"/>
                </a:lnTo>
                <a:lnTo>
                  <a:pt x="309" y="256"/>
                </a:lnTo>
                <a:lnTo>
                  <a:pt x="336" y="252"/>
                </a:lnTo>
                <a:lnTo>
                  <a:pt x="363" y="246"/>
                </a:lnTo>
                <a:lnTo>
                  <a:pt x="389" y="240"/>
                </a:lnTo>
                <a:lnTo>
                  <a:pt x="416" y="236"/>
                </a:lnTo>
                <a:lnTo>
                  <a:pt x="443" y="231"/>
                </a:lnTo>
                <a:lnTo>
                  <a:pt x="472" y="225"/>
                </a:lnTo>
                <a:lnTo>
                  <a:pt x="501" y="221"/>
                </a:lnTo>
                <a:lnTo>
                  <a:pt x="531" y="215"/>
                </a:lnTo>
                <a:lnTo>
                  <a:pt x="562" y="209"/>
                </a:lnTo>
                <a:lnTo>
                  <a:pt x="593" y="206"/>
                </a:lnTo>
                <a:lnTo>
                  <a:pt x="624" y="200"/>
                </a:lnTo>
                <a:lnTo>
                  <a:pt x="656" y="194"/>
                </a:lnTo>
                <a:lnTo>
                  <a:pt x="689" y="190"/>
                </a:lnTo>
                <a:lnTo>
                  <a:pt x="721" y="184"/>
                </a:lnTo>
                <a:lnTo>
                  <a:pt x="791" y="175"/>
                </a:lnTo>
                <a:lnTo>
                  <a:pt x="860" y="1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70"/>
          <p:cNvSpPr/>
          <p:nvPr/>
        </p:nvSpPr>
        <p:spPr>
          <a:xfrm>
            <a:off x="6000840" y="3500280"/>
            <a:ext cx="166680" cy="1478160"/>
          </a:xfrm>
          <a:custGeom>
            <a:avLst/>
            <a:gdLst/>
            <a:ahLst/>
            <a:rect l="l" t="t" r="r" b="b"/>
            <a:pathLst>
              <a:path w="211" h="1862">
                <a:moveTo>
                  <a:pt x="61" y="849"/>
                </a:moveTo>
                <a:lnTo>
                  <a:pt x="63" y="829"/>
                </a:lnTo>
                <a:lnTo>
                  <a:pt x="63" y="808"/>
                </a:lnTo>
                <a:lnTo>
                  <a:pt x="65" y="768"/>
                </a:lnTo>
                <a:lnTo>
                  <a:pt x="65" y="724"/>
                </a:lnTo>
                <a:lnTo>
                  <a:pt x="65" y="680"/>
                </a:lnTo>
                <a:lnTo>
                  <a:pt x="65" y="632"/>
                </a:lnTo>
                <a:lnTo>
                  <a:pt x="63" y="584"/>
                </a:lnTo>
                <a:lnTo>
                  <a:pt x="61" y="532"/>
                </a:lnTo>
                <a:lnTo>
                  <a:pt x="59" y="480"/>
                </a:lnTo>
                <a:lnTo>
                  <a:pt x="55" y="426"/>
                </a:lnTo>
                <a:lnTo>
                  <a:pt x="52" y="371"/>
                </a:lnTo>
                <a:lnTo>
                  <a:pt x="48" y="313"/>
                </a:lnTo>
                <a:lnTo>
                  <a:pt x="42" y="254"/>
                </a:lnTo>
                <a:lnTo>
                  <a:pt x="34" y="192"/>
                </a:lnTo>
                <a:lnTo>
                  <a:pt x="29" y="129"/>
                </a:lnTo>
                <a:lnTo>
                  <a:pt x="21" y="65"/>
                </a:lnTo>
                <a:lnTo>
                  <a:pt x="11" y="0"/>
                </a:lnTo>
                <a:lnTo>
                  <a:pt x="29" y="10"/>
                </a:lnTo>
                <a:lnTo>
                  <a:pt x="46" y="19"/>
                </a:lnTo>
                <a:lnTo>
                  <a:pt x="63" y="31"/>
                </a:lnTo>
                <a:lnTo>
                  <a:pt x="78" y="40"/>
                </a:lnTo>
                <a:lnTo>
                  <a:pt x="94" y="50"/>
                </a:lnTo>
                <a:lnTo>
                  <a:pt x="107" y="62"/>
                </a:lnTo>
                <a:lnTo>
                  <a:pt x="119" y="71"/>
                </a:lnTo>
                <a:lnTo>
                  <a:pt x="130" y="81"/>
                </a:lnTo>
                <a:lnTo>
                  <a:pt x="142" y="92"/>
                </a:lnTo>
                <a:lnTo>
                  <a:pt x="151" y="102"/>
                </a:lnTo>
                <a:lnTo>
                  <a:pt x="159" y="111"/>
                </a:lnTo>
                <a:lnTo>
                  <a:pt x="167" y="123"/>
                </a:lnTo>
                <a:lnTo>
                  <a:pt x="172" y="133"/>
                </a:lnTo>
                <a:lnTo>
                  <a:pt x="178" y="142"/>
                </a:lnTo>
                <a:lnTo>
                  <a:pt x="182" y="154"/>
                </a:lnTo>
                <a:lnTo>
                  <a:pt x="186" y="163"/>
                </a:lnTo>
                <a:lnTo>
                  <a:pt x="186" y="169"/>
                </a:lnTo>
                <a:lnTo>
                  <a:pt x="188" y="175"/>
                </a:lnTo>
                <a:lnTo>
                  <a:pt x="188" y="183"/>
                </a:lnTo>
                <a:lnTo>
                  <a:pt x="190" y="190"/>
                </a:lnTo>
                <a:lnTo>
                  <a:pt x="190" y="198"/>
                </a:lnTo>
                <a:lnTo>
                  <a:pt x="192" y="207"/>
                </a:lnTo>
                <a:lnTo>
                  <a:pt x="194" y="217"/>
                </a:lnTo>
                <a:lnTo>
                  <a:pt x="194" y="227"/>
                </a:lnTo>
                <a:lnTo>
                  <a:pt x="196" y="238"/>
                </a:lnTo>
                <a:lnTo>
                  <a:pt x="196" y="252"/>
                </a:lnTo>
                <a:lnTo>
                  <a:pt x="197" y="263"/>
                </a:lnTo>
                <a:lnTo>
                  <a:pt x="197" y="277"/>
                </a:lnTo>
                <a:lnTo>
                  <a:pt x="199" y="290"/>
                </a:lnTo>
                <a:lnTo>
                  <a:pt x="199" y="305"/>
                </a:lnTo>
                <a:lnTo>
                  <a:pt x="201" y="321"/>
                </a:lnTo>
                <a:lnTo>
                  <a:pt x="201" y="336"/>
                </a:lnTo>
                <a:lnTo>
                  <a:pt x="203" y="353"/>
                </a:lnTo>
                <a:lnTo>
                  <a:pt x="203" y="371"/>
                </a:lnTo>
                <a:lnTo>
                  <a:pt x="205" y="388"/>
                </a:lnTo>
                <a:lnTo>
                  <a:pt x="205" y="407"/>
                </a:lnTo>
                <a:lnTo>
                  <a:pt x="205" y="426"/>
                </a:lnTo>
                <a:lnTo>
                  <a:pt x="207" y="447"/>
                </a:lnTo>
                <a:lnTo>
                  <a:pt x="207" y="469"/>
                </a:lnTo>
                <a:lnTo>
                  <a:pt x="207" y="490"/>
                </a:lnTo>
                <a:lnTo>
                  <a:pt x="209" y="511"/>
                </a:lnTo>
                <a:lnTo>
                  <a:pt x="209" y="534"/>
                </a:lnTo>
                <a:lnTo>
                  <a:pt x="209" y="557"/>
                </a:lnTo>
                <a:lnTo>
                  <a:pt x="209" y="582"/>
                </a:lnTo>
                <a:lnTo>
                  <a:pt x="209" y="607"/>
                </a:lnTo>
                <a:lnTo>
                  <a:pt x="209" y="632"/>
                </a:lnTo>
                <a:lnTo>
                  <a:pt x="211" y="657"/>
                </a:lnTo>
                <a:lnTo>
                  <a:pt x="211" y="683"/>
                </a:lnTo>
                <a:lnTo>
                  <a:pt x="207" y="739"/>
                </a:lnTo>
                <a:lnTo>
                  <a:pt x="205" y="793"/>
                </a:lnTo>
                <a:lnTo>
                  <a:pt x="203" y="847"/>
                </a:lnTo>
                <a:lnTo>
                  <a:pt x="203" y="897"/>
                </a:lnTo>
                <a:lnTo>
                  <a:pt x="201" y="946"/>
                </a:lnTo>
                <a:lnTo>
                  <a:pt x="199" y="994"/>
                </a:lnTo>
                <a:lnTo>
                  <a:pt x="199" y="1041"/>
                </a:lnTo>
                <a:lnTo>
                  <a:pt x="197" y="1085"/>
                </a:lnTo>
                <a:lnTo>
                  <a:pt x="196" y="1127"/>
                </a:lnTo>
                <a:lnTo>
                  <a:pt x="196" y="1169"/>
                </a:lnTo>
                <a:lnTo>
                  <a:pt x="194" y="1208"/>
                </a:lnTo>
                <a:lnTo>
                  <a:pt x="192" y="1246"/>
                </a:lnTo>
                <a:lnTo>
                  <a:pt x="190" y="1282"/>
                </a:lnTo>
                <a:lnTo>
                  <a:pt x="190" y="1317"/>
                </a:lnTo>
                <a:lnTo>
                  <a:pt x="188" y="1351"/>
                </a:lnTo>
                <a:lnTo>
                  <a:pt x="186" y="1382"/>
                </a:lnTo>
                <a:lnTo>
                  <a:pt x="182" y="1415"/>
                </a:lnTo>
                <a:lnTo>
                  <a:pt x="180" y="1446"/>
                </a:lnTo>
                <a:lnTo>
                  <a:pt x="180" y="1476"/>
                </a:lnTo>
                <a:lnTo>
                  <a:pt x="178" y="1505"/>
                </a:lnTo>
                <a:lnTo>
                  <a:pt x="176" y="1534"/>
                </a:lnTo>
                <a:lnTo>
                  <a:pt x="174" y="1559"/>
                </a:lnTo>
                <a:lnTo>
                  <a:pt x="174" y="1584"/>
                </a:lnTo>
                <a:lnTo>
                  <a:pt x="172" y="1609"/>
                </a:lnTo>
                <a:lnTo>
                  <a:pt x="171" y="1630"/>
                </a:lnTo>
                <a:lnTo>
                  <a:pt x="171" y="1651"/>
                </a:lnTo>
                <a:lnTo>
                  <a:pt x="169" y="1672"/>
                </a:lnTo>
                <a:lnTo>
                  <a:pt x="167" y="1691"/>
                </a:lnTo>
                <a:lnTo>
                  <a:pt x="167" y="1708"/>
                </a:lnTo>
                <a:lnTo>
                  <a:pt x="165" y="1724"/>
                </a:lnTo>
                <a:lnTo>
                  <a:pt x="163" y="1739"/>
                </a:lnTo>
                <a:lnTo>
                  <a:pt x="161" y="1753"/>
                </a:lnTo>
                <a:lnTo>
                  <a:pt x="157" y="1764"/>
                </a:lnTo>
                <a:lnTo>
                  <a:pt x="155" y="1776"/>
                </a:lnTo>
                <a:lnTo>
                  <a:pt x="151" y="1787"/>
                </a:lnTo>
                <a:lnTo>
                  <a:pt x="149" y="1799"/>
                </a:lnTo>
                <a:lnTo>
                  <a:pt x="146" y="1808"/>
                </a:lnTo>
                <a:lnTo>
                  <a:pt x="142" y="1816"/>
                </a:lnTo>
                <a:lnTo>
                  <a:pt x="140" y="1826"/>
                </a:lnTo>
                <a:lnTo>
                  <a:pt x="136" y="1833"/>
                </a:lnTo>
                <a:lnTo>
                  <a:pt x="132" y="1839"/>
                </a:lnTo>
                <a:lnTo>
                  <a:pt x="128" y="1845"/>
                </a:lnTo>
                <a:lnTo>
                  <a:pt x="124" y="1851"/>
                </a:lnTo>
                <a:lnTo>
                  <a:pt x="123" y="1854"/>
                </a:lnTo>
                <a:lnTo>
                  <a:pt x="119" y="1858"/>
                </a:lnTo>
                <a:lnTo>
                  <a:pt x="115" y="1860"/>
                </a:lnTo>
                <a:lnTo>
                  <a:pt x="113" y="1862"/>
                </a:lnTo>
                <a:lnTo>
                  <a:pt x="111" y="1862"/>
                </a:lnTo>
                <a:lnTo>
                  <a:pt x="105" y="1860"/>
                </a:lnTo>
                <a:lnTo>
                  <a:pt x="101" y="1858"/>
                </a:lnTo>
                <a:lnTo>
                  <a:pt x="96" y="1856"/>
                </a:lnTo>
                <a:lnTo>
                  <a:pt x="92" y="1852"/>
                </a:lnTo>
                <a:lnTo>
                  <a:pt x="88" y="1847"/>
                </a:lnTo>
                <a:lnTo>
                  <a:pt x="82" y="1839"/>
                </a:lnTo>
                <a:lnTo>
                  <a:pt x="78" y="1831"/>
                </a:lnTo>
                <a:lnTo>
                  <a:pt x="73" y="1822"/>
                </a:lnTo>
                <a:lnTo>
                  <a:pt x="69" y="1812"/>
                </a:lnTo>
                <a:lnTo>
                  <a:pt x="63" y="1801"/>
                </a:lnTo>
                <a:lnTo>
                  <a:pt x="59" y="1789"/>
                </a:lnTo>
                <a:lnTo>
                  <a:pt x="55" y="1776"/>
                </a:lnTo>
                <a:lnTo>
                  <a:pt x="50" y="1760"/>
                </a:lnTo>
                <a:lnTo>
                  <a:pt x="46" y="1745"/>
                </a:lnTo>
                <a:lnTo>
                  <a:pt x="40" y="1728"/>
                </a:lnTo>
                <a:lnTo>
                  <a:pt x="36" y="1710"/>
                </a:lnTo>
                <a:lnTo>
                  <a:pt x="32" y="1691"/>
                </a:lnTo>
                <a:lnTo>
                  <a:pt x="29" y="1672"/>
                </a:lnTo>
                <a:lnTo>
                  <a:pt x="23" y="1653"/>
                </a:lnTo>
                <a:lnTo>
                  <a:pt x="21" y="1637"/>
                </a:lnTo>
                <a:lnTo>
                  <a:pt x="17" y="1620"/>
                </a:lnTo>
                <a:lnTo>
                  <a:pt x="13" y="1605"/>
                </a:lnTo>
                <a:lnTo>
                  <a:pt x="11" y="1591"/>
                </a:lnTo>
                <a:lnTo>
                  <a:pt x="7" y="1580"/>
                </a:lnTo>
                <a:lnTo>
                  <a:pt x="5" y="1566"/>
                </a:lnTo>
                <a:lnTo>
                  <a:pt x="4" y="1557"/>
                </a:lnTo>
                <a:lnTo>
                  <a:pt x="2" y="1547"/>
                </a:lnTo>
                <a:lnTo>
                  <a:pt x="2" y="1540"/>
                </a:lnTo>
                <a:lnTo>
                  <a:pt x="0" y="1532"/>
                </a:lnTo>
                <a:lnTo>
                  <a:pt x="0" y="1526"/>
                </a:lnTo>
                <a:lnTo>
                  <a:pt x="0" y="1522"/>
                </a:lnTo>
                <a:lnTo>
                  <a:pt x="0" y="1518"/>
                </a:lnTo>
                <a:lnTo>
                  <a:pt x="0" y="1517"/>
                </a:lnTo>
                <a:lnTo>
                  <a:pt x="0" y="1511"/>
                </a:lnTo>
                <a:lnTo>
                  <a:pt x="0" y="1505"/>
                </a:lnTo>
                <a:lnTo>
                  <a:pt x="2" y="1499"/>
                </a:lnTo>
                <a:lnTo>
                  <a:pt x="2" y="1492"/>
                </a:lnTo>
                <a:lnTo>
                  <a:pt x="4" y="1482"/>
                </a:lnTo>
                <a:lnTo>
                  <a:pt x="5" y="1470"/>
                </a:lnTo>
                <a:lnTo>
                  <a:pt x="7" y="1459"/>
                </a:lnTo>
                <a:lnTo>
                  <a:pt x="9" y="1447"/>
                </a:lnTo>
                <a:lnTo>
                  <a:pt x="11" y="1432"/>
                </a:lnTo>
                <a:lnTo>
                  <a:pt x="13" y="1419"/>
                </a:lnTo>
                <a:lnTo>
                  <a:pt x="15" y="1401"/>
                </a:lnTo>
                <a:lnTo>
                  <a:pt x="17" y="1384"/>
                </a:lnTo>
                <a:lnTo>
                  <a:pt x="19" y="1367"/>
                </a:lnTo>
                <a:lnTo>
                  <a:pt x="21" y="1348"/>
                </a:lnTo>
                <a:lnTo>
                  <a:pt x="25" y="1328"/>
                </a:lnTo>
                <a:lnTo>
                  <a:pt x="27" y="1305"/>
                </a:lnTo>
                <a:lnTo>
                  <a:pt x="29" y="1284"/>
                </a:lnTo>
                <a:lnTo>
                  <a:pt x="30" y="1259"/>
                </a:lnTo>
                <a:lnTo>
                  <a:pt x="32" y="1234"/>
                </a:lnTo>
                <a:lnTo>
                  <a:pt x="36" y="1209"/>
                </a:lnTo>
                <a:lnTo>
                  <a:pt x="38" y="1183"/>
                </a:lnTo>
                <a:lnTo>
                  <a:pt x="40" y="1154"/>
                </a:lnTo>
                <a:lnTo>
                  <a:pt x="42" y="1123"/>
                </a:lnTo>
                <a:lnTo>
                  <a:pt x="44" y="1092"/>
                </a:lnTo>
                <a:lnTo>
                  <a:pt x="48" y="1062"/>
                </a:lnTo>
                <a:lnTo>
                  <a:pt x="50" y="1029"/>
                </a:lnTo>
                <a:lnTo>
                  <a:pt x="52" y="994"/>
                </a:lnTo>
                <a:lnTo>
                  <a:pt x="53" y="960"/>
                </a:lnTo>
                <a:lnTo>
                  <a:pt x="57" y="923"/>
                </a:lnTo>
                <a:lnTo>
                  <a:pt x="59" y="887"/>
                </a:lnTo>
                <a:lnTo>
                  <a:pt x="61" y="8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71"/>
          <p:cNvSpPr/>
          <p:nvPr/>
        </p:nvSpPr>
        <p:spPr>
          <a:xfrm>
            <a:off x="5514840" y="2716200"/>
            <a:ext cx="858960" cy="1405080"/>
          </a:xfrm>
          <a:custGeom>
            <a:avLst/>
            <a:gdLst/>
            <a:ahLst/>
            <a:rect l="l" t="t" r="r" b="b"/>
            <a:pathLst>
              <a:path w="1083" h="1769">
                <a:moveTo>
                  <a:pt x="847" y="712"/>
                </a:moveTo>
                <a:lnTo>
                  <a:pt x="833" y="740"/>
                </a:lnTo>
                <a:lnTo>
                  <a:pt x="818" y="769"/>
                </a:lnTo>
                <a:lnTo>
                  <a:pt x="803" y="798"/>
                </a:lnTo>
                <a:lnTo>
                  <a:pt x="785" y="827"/>
                </a:lnTo>
                <a:lnTo>
                  <a:pt x="768" y="858"/>
                </a:lnTo>
                <a:lnTo>
                  <a:pt x="749" y="888"/>
                </a:lnTo>
                <a:lnTo>
                  <a:pt x="730" y="919"/>
                </a:lnTo>
                <a:lnTo>
                  <a:pt x="709" y="952"/>
                </a:lnTo>
                <a:lnTo>
                  <a:pt x="690" y="982"/>
                </a:lnTo>
                <a:lnTo>
                  <a:pt x="666" y="1017"/>
                </a:lnTo>
                <a:lnTo>
                  <a:pt x="645" y="1050"/>
                </a:lnTo>
                <a:lnTo>
                  <a:pt x="622" y="1084"/>
                </a:lnTo>
                <a:lnTo>
                  <a:pt x="599" y="1121"/>
                </a:lnTo>
                <a:lnTo>
                  <a:pt x="574" y="1157"/>
                </a:lnTo>
                <a:lnTo>
                  <a:pt x="551" y="1193"/>
                </a:lnTo>
                <a:lnTo>
                  <a:pt x="526" y="1232"/>
                </a:lnTo>
                <a:lnTo>
                  <a:pt x="499" y="1270"/>
                </a:lnTo>
                <a:lnTo>
                  <a:pt x="475" y="1307"/>
                </a:lnTo>
                <a:lnTo>
                  <a:pt x="451" y="1341"/>
                </a:lnTo>
                <a:lnTo>
                  <a:pt x="427" y="1374"/>
                </a:lnTo>
                <a:lnTo>
                  <a:pt x="402" y="1405"/>
                </a:lnTo>
                <a:lnTo>
                  <a:pt x="379" y="1435"/>
                </a:lnTo>
                <a:lnTo>
                  <a:pt x="356" y="1464"/>
                </a:lnTo>
                <a:lnTo>
                  <a:pt x="332" y="1491"/>
                </a:lnTo>
                <a:lnTo>
                  <a:pt x="309" y="1516"/>
                </a:lnTo>
                <a:lnTo>
                  <a:pt x="286" y="1539"/>
                </a:lnTo>
                <a:lnTo>
                  <a:pt x="265" y="1562"/>
                </a:lnTo>
                <a:lnTo>
                  <a:pt x="244" y="1583"/>
                </a:lnTo>
                <a:lnTo>
                  <a:pt x="223" y="1604"/>
                </a:lnTo>
                <a:lnTo>
                  <a:pt x="204" y="1623"/>
                </a:lnTo>
                <a:lnTo>
                  <a:pt x="185" y="1641"/>
                </a:lnTo>
                <a:lnTo>
                  <a:pt x="166" y="1656"/>
                </a:lnTo>
                <a:lnTo>
                  <a:pt x="148" y="1673"/>
                </a:lnTo>
                <a:lnTo>
                  <a:pt x="131" y="1689"/>
                </a:lnTo>
                <a:lnTo>
                  <a:pt x="116" y="1704"/>
                </a:lnTo>
                <a:lnTo>
                  <a:pt x="100" y="1716"/>
                </a:lnTo>
                <a:lnTo>
                  <a:pt x="87" y="1727"/>
                </a:lnTo>
                <a:lnTo>
                  <a:pt x="75" y="1737"/>
                </a:lnTo>
                <a:lnTo>
                  <a:pt x="64" y="1746"/>
                </a:lnTo>
                <a:lnTo>
                  <a:pt x="52" y="1752"/>
                </a:lnTo>
                <a:lnTo>
                  <a:pt x="43" y="1758"/>
                </a:lnTo>
                <a:lnTo>
                  <a:pt x="35" y="1764"/>
                </a:lnTo>
                <a:lnTo>
                  <a:pt x="27" y="1765"/>
                </a:lnTo>
                <a:lnTo>
                  <a:pt x="22" y="1767"/>
                </a:lnTo>
                <a:lnTo>
                  <a:pt x="16" y="1769"/>
                </a:lnTo>
                <a:lnTo>
                  <a:pt x="10" y="1769"/>
                </a:lnTo>
                <a:lnTo>
                  <a:pt x="6" y="1767"/>
                </a:lnTo>
                <a:lnTo>
                  <a:pt x="4" y="1765"/>
                </a:lnTo>
                <a:lnTo>
                  <a:pt x="2" y="1764"/>
                </a:lnTo>
                <a:lnTo>
                  <a:pt x="2" y="1760"/>
                </a:lnTo>
                <a:lnTo>
                  <a:pt x="0" y="1756"/>
                </a:lnTo>
                <a:lnTo>
                  <a:pt x="2" y="1752"/>
                </a:lnTo>
                <a:lnTo>
                  <a:pt x="2" y="1748"/>
                </a:lnTo>
                <a:lnTo>
                  <a:pt x="4" y="1744"/>
                </a:lnTo>
                <a:lnTo>
                  <a:pt x="8" y="1739"/>
                </a:lnTo>
                <a:lnTo>
                  <a:pt x="10" y="1733"/>
                </a:lnTo>
                <a:lnTo>
                  <a:pt x="14" y="1727"/>
                </a:lnTo>
                <a:lnTo>
                  <a:pt x="20" y="1721"/>
                </a:lnTo>
                <a:lnTo>
                  <a:pt x="23" y="1714"/>
                </a:lnTo>
                <a:lnTo>
                  <a:pt x="29" y="1706"/>
                </a:lnTo>
                <a:lnTo>
                  <a:pt x="35" y="1698"/>
                </a:lnTo>
                <a:lnTo>
                  <a:pt x="41" y="1689"/>
                </a:lnTo>
                <a:lnTo>
                  <a:pt x="47" y="1679"/>
                </a:lnTo>
                <a:lnTo>
                  <a:pt x="54" y="1669"/>
                </a:lnTo>
                <a:lnTo>
                  <a:pt x="62" y="1662"/>
                </a:lnTo>
                <a:lnTo>
                  <a:pt x="70" y="1650"/>
                </a:lnTo>
                <a:lnTo>
                  <a:pt x="79" y="1639"/>
                </a:lnTo>
                <a:lnTo>
                  <a:pt x="91" y="1625"/>
                </a:lnTo>
                <a:lnTo>
                  <a:pt x="102" y="1612"/>
                </a:lnTo>
                <a:lnTo>
                  <a:pt x="116" y="1595"/>
                </a:lnTo>
                <a:lnTo>
                  <a:pt x="129" y="1577"/>
                </a:lnTo>
                <a:lnTo>
                  <a:pt x="144" y="1556"/>
                </a:lnTo>
                <a:lnTo>
                  <a:pt x="160" y="1535"/>
                </a:lnTo>
                <a:lnTo>
                  <a:pt x="177" y="1512"/>
                </a:lnTo>
                <a:lnTo>
                  <a:pt x="194" y="1489"/>
                </a:lnTo>
                <a:lnTo>
                  <a:pt x="212" y="1462"/>
                </a:lnTo>
                <a:lnTo>
                  <a:pt x="231" y="1435"/>
                </a:lnTo>
                <a:lnTo>
                  <a:pt x="250" y="1405"/>
                </a:lnTo>
                <a:lnTo>
                  <a:pt x="269" y="1374"/>
                </a:lnTo>
                <a:lnTo>
                  <a:pt x="290" y="1341"/>
                </a:lnTo>
                <a:lnTo>
                  <a:pt x="331" y="1278"/>
                </a:lnTo>
                <a:lnTo>
                  <a:pt x="371" y="1215"/>
                </a:lnTo>
                <a:lnTo>
                  <a:pt x="411" y="1151"/>
                </a:lnTo>
                <a:lnTo>
                  <a:pt x="450" y="1084"/>
                </a:lnTo>
                <a:lnTo>
                  <a:pt x="488" y="1017"/>
                </a:lnTo>
                <a:lnTo>
                  <a:pt x="526" y="948"/>
                </a:lnTo>
                <a:lnTo>
                  <a:pt x="563" y="879"/>
                </a:lnTo>
                <a:lnTo>
                  <a:pt x="599" y="808"/>
                </a:lnTo>
                <a:lnTo>
                  <a:pt x="617" y="771"/>
                </a:lnTo>
                <a:lnTo>
                  <a:pt x="632" y="737"/>
                </a:lnTo>
                <a:lnTo>
                  <a:pt x="647" y="702"/>
                </a:lnTo>
                <a:lnTo>
                  <a:pt x="661" y="669"/>
                </a:lnTo>
                <a:lnTo>
                  <a:pt x="676" y="635"/>
                </a:lnTo>
                <a:lnTo>
                  <a:pt x="690" y="604"/>
                </a:lnTo>
                <a:lnTo>
                  <a:pt x="705" y="572"/>
                </a:lnTo>
                <a:lnTo>
                  <a:pt x="716" y="541"/>
                </a:lnTo>
                <a:lnTo>
                  <a:pt x="730" y="512"/>
                </a:lnTo>
                <a:lnTo>
                  <a:pt x="741" y="483"/>
                </a:lnTo>
                <a:lnTo>
                  <a:pt x="753" y="454"/>
                </a:lnTo>
                <a:lnTo>
                  <a:pt x="764" y="428"/>
                </a:lnTo>
                <a:lnTo>
                  <a:pt x="774" y="401"/>
                </a:lnTo>
                <a:lnTo>
                  <a:pt x="782" y="376"/>
                </a:lnTo>
                <a:lnTo>
                  <a:pt x="791" y="351"/>
                </a:lnTo>
                <a:lnTo>
                  <a:pt x="799" y="328"/>
                </a:lnTo>
                <a:lnTo>
                  <a:pt x="805" y="305"/>
                </a:lnTo>
                <a:lnTo>
                  <a:pt x="810" y="284"/>
                </a:lnTo>
                <a:lnTo>
                  <a:pt x="814" y="263"/>
                </a:lnTo>
                <a:lnTo>
                  <a:pt x="818" y="243"/>
                </a:lnTo>
                <a:lnTo>
                  <a:pt x="822" y="224"/>
                </a:lnTo>
                <a:lnTo>
                  <a:pt x="826" y="207"/>
                </a:lnTo>
                <a:lnTo>
                  <a:pt x="828" y="190"/>
                </a:lnTo>
                <a:lnTo>
                  <a:pt x="828" y="174"/>
                </a:lnTo>
                <a:lnTo>
                  <a:pt x="830" y="159"/>
                </a:lnTo>
                <a:lnTo>
                  <a:pt x="830" y="145"/>
                </a:lnTo>
                <a:lnTo>
                  <a:pt x="830" y="132"/>
                </a:lnTo>
                <a:lnTo>
                  <a:pt x="830" y="120"/>
                </a:lnTo>
                <a:lnTo>
                  <a:pt x="828" y="109"/>
                </a:lnTo>
                <a:lnTo>
                  <a:pt x="828" y="99"/>
                </a:lnTo>
                <a:lnTo>
                  <a:pt x="826" y="90"/>
                </a:lnTo>
                <a:lnTo>
                  <a:pt x="824" y="82"/>
                </a:lnTo>
                <a:lnTo>
                  <a:pt x="818" y="67"/>
                </a:lnTo>
                <a:lnTo>
                  <a:pt x="816" y="53"/>
                </a:lnTo>
                <a:lnTo>
                  <a:pt x="816" y="48"/>
                </a:lnTo>
                <a:lnTo>
                  <a:pt x="816" y="42"/>
                </a:lnTo>
                <a:lnTo>
                  <a:pt x="816" y="36"/>
                </a:lnTo>
                <a:lnTo>
                  <a:pt x="816" y="30"/>
                </a:lnTo>
                <a:lnTo>
                  <a:pt x="818" y="25"/>
                </a:lnTo>
                <a:lnTo>
                  <a:pt x="820" y="21"/>
                </a:lnTo>
                <a:lnTo>
                  <a:pt x="822" y="17"/>
                </a:lnTo>
                <a:lnTo>
                  <a:pt x="826" y="13"/>
                </a:lnTo>
                <a:lnTo>
                  <a:pt x="830" y="9"/>
                </a:lnTo>
                <a:lnTo>
                  <a:pt x="835" y="5"/>
                </a:lnTo>
                <a:lnTo>
                  <a:pt x="841" y="1"/>
                </a:lnTo>
                <a:lnTo>
                  <a:pt x="847" y="0"/>
                </a:lnTo>
                <a:lnTo>
                  <a:pt x="856" y="0"/>
                </a:lnTo>
                <a:lnTo>
                  <a:pt x="868" y="1"/>
                </a:lnTo>
                <a:lnTo>
                  <a:pt x="881" y="5"/>
                </a:lnTo>
                <a:lnTo>
                  <a:pt x="887" y="9"/>
                </a:lnTo>
                <a:lnTo>
                  <a:pt x="895" y="11"/>
                </a:lnTo>
                <a:lnTo>
                  <a:pt x="901" y="15"/>
                </a:lnTo>
                <a:lnTo>
                  <a:pt x="908" y="19"/>
                </a:lnTo>
                <a:lnTo>
                  <a:pt x="916" y="23"/>
                </a:lnTo>
                <a:lnTo>
                  <a:pt x="924" y="28"/>
                </a:lnTo>
                <a:lnTo>
                  <a:pt x="933" y="34"/>
                </a:lnTo>
                <a:lnTo>
                  <a:pt x="941" y="40"/>
                </a:lnTo>
                <a:lnTo>
                  <a:pt x="951" y="48"/>
                </a:lnTo>
                <a:lnTo>
                  <a:pt x="960" y="55"/>
                </a:lnTo>
                <a:lnTo>
                  <a:pt x="974" y="69"/>
                </a:lnTo>
                <a:lnTo>
                  <a:pt x="987" y="82"/>
                </a:lnTo>
                <a:lnTo>
                  <a:pt x="1000" y="96"/>
                </a:lnTo>
                <a:lnTo>
                  <a:pt x="1014" y="109"/>
                </a:lnTo>
                <a:lnTo>
                  <a:pt x="1025" y="122"/>
                </a:lnTo>
                <a:lnTo>
                  <a:pt x="1039" y="136"/>
                </a:lnTo>
                <a:lnTo>
                  <a:pt x="1048" y="149"/>
                </a:lnTo>
                <a:lnTo>
                  <a:pt x="1058" y="165"/>
                </a:lnTo>
                <a:lnTo>
                  <a:pt x="1064" y="178"/>
                </a:lnTo>
                <a:lnTo>
                  <a:pt x="1068" y="191"/>
                </a:lnTo>
                <a:lnTo>
                  <a:pt x="1071" y="205"/>
                </a:lnTo>
                <a:lnTo>
                  <a:pt x="1075" y="215"/>
                </a:lnTo>
                <a:lnTo>
                  <a:pt x="1079" y="224"/>
                </a:lnTo>
                <a:lnTo>
                  <a:pt x="1081" y="234"/>
                </a:lnTo>
                <a:lnTo>
                  <a:pt x="1083" y="239"/>
                </a:lnTo>
                <a:lnTo>
                  <a:pt x="1083" y="245"/>
                </a:lnTo>
                <a:lnTo>
                  <a:pt x="1083" y="257"/>
                </a:lnTo>
                <a:lnTo>
                  <a:pt x="1081" y="268"/>
                </a:lnTo>
                <a:lnTo>
                  <a:pt x="1077" y="284"/>
                </a:lnTo>
                <a:lnTo>
                  <a:pt x="1075" y="291"/>
                </a:lnTo>
                <a:lnTo>
                  <a:pt x="1071" y="299"/>
                </a:lnTo>
                <a:lnTo>
                  <a:pt x="1070" y="307"/>
                </a:lnTo>
                <a:lnTo>
                  <a:pt x="1066" y="316"/>
                </a:lnTo>
                <a:lnTo>
                  <a:pt x="1062" y="326"/>
                </a:lnTo>
                <a:lnTo>
                  <a:pt x="1056" y="335"/>
                </a:lnTo>
                <a:lnTo>
                  <a:pt x="1052" y="347"/>
                </a:lnTo>
                <a:lnTo>
                  <a:pt x="1047" y="358"/>
                </a:lnTo>
                <a:lnTo>
                  <a:pt x="1041" y="370"/>
                </a:lnTo>
                <a:lnTo>
                  <a:pt x="1033" y="383"/>
                </a:lnTo>
                <a:lnTo>
                  <a:pt x="1027" y="397"/>
                </a:lnTo>
                <a:lnTo>
                  <a:pt x="1018" y="410"/>
                </a:lnTo>
                <a:lnTo>
                  <a:pt x="1010" y="426"/>
                </a:lnTo>
                <a:lnTo>
                  <a:pt x="1000" y="441"/>
                </a:lnTo>
                <a:lnTo>
                  <a:pt x="991" y="458"/>
                </a:lnTo>
                <a:lnTo>
                  <a:pt x="981" y="477"/>
                </a:lnTo>
                <a:lnTo>
                  <a:pt x="970" y="497"/>
                </a:lnTo>
                <a:lnTo>
                  <a:pt x="958" y="516"/>
                </a:lnTo>
                <a:lnTo>
                  <a:pt x="947" y="537"/>
                </a:lnTo>
                <a:lnTo>
                  <a:pt x="935" y="558"/>
                </a:lnTo>
                <a:lnTo>
                  <a:pt x="922" y="581"/>
                </a:lnTo>
                <a:lnTo>
                  <a:pt x="908" y="606"/>
                </a:lnTo>
                <a:lnTo>
                  <a:pt x="893" y="631"/>
                </a:lnTo>
                <a:lnTo>
                  <a:pt x="880" y="656"/>
                </a:lnTo>
                <a:lnTo>
                  <a:pt x="864" y="683"/>
                </a:lnTo>
                <a:lnTo>
                  <a:pt x="847" y="7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2:07:01Z</dcterms:modified>
  <cp:revision>4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